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61760"/>
            <a:ext cx="830592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213192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6176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436176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26744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2131920"/>
            <a:ext cx="26744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2131920"/>
            <a:ext cx="26744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61760"/>
            <a:ext cx="26744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4361760"/>
            <a:ext cx="26744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4361760"/>
            <a:ext cx="26744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405324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2131920"/>
            <a:ext cx="405324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44080"/>
            <a:ext cx="85359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2131920"/>
            <a:ext cx="405324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6176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405324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213192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436176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2131920"/>
            <a:ext cx="405324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61760"/>
            <a:ext cx="8305920" cy="203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2"/>
          <a:stretch/>
        </p:blipFill>
        <p:spPr>
          <a:xfrm>
            <a:off x="7691400" y="295200"/>
            <a:ext cx="1171440" cy="824040"/>
          </a:xfrm>
          <a:prstGeom prst="rect">
            <a:avLst/>
          </a:prstGeom>
          <a:ln w="0">
            <a:noFill/>
          </a:ln>
        </p:spPr>
      </p:pic>
      <p:pic>
        <p:nvPicPr>
          <p:cNvPr id="1" name="format-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02240" y="6553080"/>
            <a:ext cx="26845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PTS Keynote, October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520" y="2254320"/>
            <a:ext cx="7772400" cy="4146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e103"/>
                </a:solidFill>
                <a:latin typeface="Arial"/>
              </a:rPr>
              <a:t>Invariant Boundaries</a:t>
            </a:r>
            <a:br>
              <a:rPr sz="4200"/>
            </a:br>
            <a:br>
              <a:rPr sz="4200"/>
            </a:br>
            <a:br>
              <a:rPr sz="4200"/>
            </a:br>
            <a:br>
              <a:rPr sz="4200"/>
            </a:b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Dr. Eric A. Brewer</a:t>
            </a:r>
            <a:br>
              <a:rPr sz="38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fessor, UC Berkeley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-Founder &amp; Chief Scientist, Inktomi</a:t>
            </a:r>
            <a:br>
              <a:rPr sz="2600"/>
            </a:br>
            <a:endParaRPr b="1" lang="en-US" sz="2600" spc="-1" strike="noStrike">
              <a:solidFill>
                <a:srgbClr val="ffe10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3962520" y="4267080"/>
            <a:ext cx="3733560" cy="2380680"/>
            <a:chOff x="3962520" y="4267080"/>
            <a:chExt cx="3733560" cy="2380680"/>
          </a:xfrm>
        </p:grpSpPr>
        <p:sp>
          <p:nvSpPr>
            <p:cNvPr id="151" name=""/>
            <p:cNvSpPr/>
            <p:nvPr/>
          </p:nvSpPr>
          <p:spPr>
            <a:xfrm flipV="1">
              <a:off x="6248520" y="4876920"/>
              <a:ext cx="1447560" cy="457200"/>
            </a:xfrm>
            <a:prstGeom prst="line">
              <a:avLst/>
            </a:prstGeom>
            <a:ln w="1260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05520" y="4267080"/>
              <a:ext cx="761760" cy="99072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4952880"/>
              <a:ext cx="762120" cy="66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2520" y="5334120"/>
              <a:ext cx="28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tive Proxy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ootstraps thin devices into infrastructure, runs mobile 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066320" y="3581280"/>
            <a:ext cx="3429360" cy="1447920"/>
            <a:chOff x="1066320" y="3581280"/>
            <a:chExt cx="3429360" cy="1447920"/>
          </a:xfrm>
        </p:grpSpPr>
        <p:sp>
          <p:nvSpPr>
            <p:cNvPr id="156" name=""/>
            <p:cNvSpPr/>
            <p:nvPr/>
          </p:nvSpPr>
          <p:spPr>
            <a:xfrm flipH="1">
              <a:off x="1981080" y="4114800"/>
              <a:ext cx="533520" cy="914400"/>
            </a:xfrm>
            <a:prstGeom prst="line">
              <a:avLst/>
            </a:prstGeom>
            <a:ln cap="rnd" w="38160">
              <a:solidFill>
                <a:srgbClr val="a277e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066320" y="3962520"/>
              <a:ext cx="1295640" cy="990360"/>
            </a:xfrm>
            <a:prstGeom prst="line">
              <a:avLst/>
            </a:prstGeom>
            <a:ln cap="rnd" w="38160">
              <a:solidFill>
                <a:srgbClr val="a277e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3962520"/>
              <a:ext cx="1676160" cy="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0" y="3581280"/>
              <a:ext cx="762120" cy="66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952880" y="1219320"/>
            <a:ext cx="4118760" cy="2514240"/>
            <a:chOff x="4952880" y="1219320"/>
            <a:chExt cx="4118760" cy="2514240"/>
          </a:xfrm>
        </p:grpSpPr>
        <p:sp>
          <p:nvSpPr>
            <p:cNvPr id="161" name=""/>
            <p:cNvSpPr/>
            <p:nvPr/>
          </p:nvSpPr>
          <p:spPr>
            <a:xfrm flipV="1">
              <a:off x="4952880" y="2286000"/>
              <a:ext cx="1676520" cy="137160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5105520" y="2133360"/>
              <a:ext cx="3047760" cy="160020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12589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7467480" y="1219320"/>
              <a:ext cx="139536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638400" y="28796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orkstations &amp; PC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Berkeley Ninja Architectur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pic>
        <p:nvPicPr>
          <p:cNvPr id="167" name="pilot" descr=""/>
          <p:cNvPicPr/>
          <p:nvPr/>
        </p:nvPicPr>
        <p:blipFill>
          <a:blip r:embed="rId3"/>
          <a:stretch/>
        </p:blipFill>
        <p:spPr>
          <a:xfrm>
            <a:off x="7319880" y="4419720"/>
            <a:ext cx="9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ageWriter_2000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777960" cy="1085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905120" y="2362320"/>
            <a:ext cx="2057400" cy="1371600"/>
          </a:xfrm>
          <a:prstGeom prst="line">
            <a:avLst/>
          </a:prstGeom>
          <a:ln w="76320">
            <a:solidFill>
              <a:srgbClr val="a27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800" y="1219320"/>
            <a:ext cx="1257480" cy="1266840"/>
            <a:chOff x="685800" y="1219320"/>
            <a:chExt cx="1257480" cy="1266840"/>
          </a:xfrm>
        </p:grpSpPr>
        <p:grpSp>
          <p:nvGrpSpPr>
            <p:cNvPr id="171" name=""/>
            <p:cNvGrpSpPr/>
            <p:nvPr/>
          </p:nvGrpSpPr>
          <p:grpSpPr>
            <a:xfrm>
              <a:off x="800280" y="1219320"/>
              <a:ext cx="1143000" cy="1143000"/>
              <a:chOff x="800280" y="1219320"/>
              <a:chExt cx="1143000" cy="1143000"/>
            </a:xfrm>
          </p:grpSpPr>
          <p:sp>
            <p:nvSpPr>
              <p:cNvPr id="172" name=""/>
              <p:cNvSpPr/>
              <p:nvPr/>
            </p:nvSpPr>
            <p:spPr>
              <a:xfrm>
                <a:off x="183204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2748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22256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2736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09800" y="13334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09800" y="163836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09800" y="1943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09800" y="22384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028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0520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0976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468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028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0520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0976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1468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028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0520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0976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1468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0028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0520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976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1468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85800" y="1343160"/>
              <a:ext cx="1143000" cy="1143000"/>
              <a:chOff x="685800" y="1343160"/>
              <a:chExt cx="1143000" cy="1143000"/>
            </a:xfrm>
          </p:grpSpPr>
          <p:sp>
            <p:nvSpPr>
              <p:cNvPr id="197" name=""/>
              <p:cNvSpPr/>
              <p:nvPr/>
            </p:nvSpPr>
            <p:spPr>
              <a:xfrm>
                <a:off x="171756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1300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0808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1288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5320" y="1457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95320" y="176220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5320" y="20671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5320" y="23623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580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9072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528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60020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580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9072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528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0020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8580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528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0020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80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99072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528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60020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/>
          <p:cNvSpPr/>
          <p:nvPr/>
        </p:nvSpPr>
        <p:spPr>
          <a:xfrm>
            <a:off x="2286000" y="13557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calable, highly-available platform for persistent-stat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S8121Atrans" descr=""/>
          <p:cNvPicPr/>
          <p:nvPr/>
        </p:nvPicPr>
        <p:blipFill>
          <a:blip r:embed="rId5"/>
          <a:stretch/>
        </p:blipFill>
        <p:spPr>
          <a:xfrm>
            <a:off x="1076400" y="4686480"/>
            <a:ext cx="1666800" cy="163800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3767040" y="3352680"/>
            <a:ext cx="1719360" cy="1241640"/>
            <a:chOff x="3767040" y="3352680"/>
            <a:chExt cx="1719360" cy="1241640"/>
          </a:xfrm>
        </p:grpSpPr>
        <p:sp>
          <p:nvSpPr>
            <p:cNvPr id="224" name=""/>
            <p:cNvSpPr/>
            <p:nvPr/>
          </p:nvSpPr>
          <p:spPr>
            <a:xfrm>
              <a:off x="3957840" y="3352680"/>
              <a:ext cx="1050840" cy="90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67040" y="340020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14560" y="368676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35560" y="3352680"/>
              <a:ext cx="859680" cy="76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26720" y="368676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01120" y="383004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26720" y="344808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10320" y="3495960"/>
              <a:ext cx="1194120" cy="85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2280" y="3495960"/>
              <a:ext cx="955080" cy="71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44400" y="3448080"/>
              <a:ext cx="1194120" cy="85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047840" y="37339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40920" y="5943600"/>
            <a:ext cx="22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IBM Workp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9040" y="6232680"/>
            <a:ext cx="27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llphones, Pager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914400"/>
            <a:ext cx="2133720" cy="198108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882880"/>
            <a:ext cx="5460840" cy="3149640"/>
          </a:xfrm>
          <a:custGeom>
            <a:avLst/>
            <a:gdLst/>
            <a:ahLst/>
            <a:rect l="l" t="t" r="r" b="b"/>
            <a:pathLst>
              <a:path w="3440" h="1984">
                <a:moveTo>
                  <a:pt x="96" y="440"/>
                </a:moveTo>
                <a:cubicBezTo>
                  <a:pt x="120" y="368"/>
                  <a:pt x="0" y="248"/>
                  <a:pt x="336" y="200"/>
                </a:cubicBezTo>
                <a:cubicBezTo>
                  <a:pt x="672" y="152"/>
                  <a:pt x="1656" y="0"/>
                  <a:pt x="2112" y="152"/>
                </a:cubicBezTo>
                <a:cubicBezTo>
                  <a:pt x="2568" y="304"/>
                  <a:pt x="2920" y="808"/>
                  <a:pt x="3072" y="1112"/>
                </a:cubicBezTo>
                <a:cubicBezTo>
                  <a:pt x="3224" y="1416"/>
                  <a:pt x="3440" y="1968"/>
                  <a:pt x="3024" y="1976"/>
                </a:cubicBezTo>
                <a:cubicBezTo>
                  <a:pt x="2608" y="1984"/>
                  <a:pt x="1048" y="1384"/>
                  <a:pt x="576" y="1160"/>
                </a:cubicBezTo>
                <a:cubicBezTo>
                  <a:pt x="104" y="936"/>
                  <a:pt x="272" y="752"/>
                  <a:pt x="192" y="632"/>
                </a:cubicBezTo>
                <a:cubicBezTo>
                  <a:pt x="112" y="512"/>
                  <a:pt x="72" y="512"/>
                  <a:pt x="96" y="440"/>
                </a:cubicBezTo>
                <a:close/>
              </a:path>
            </a:pathLst>
          </a:custGeom>
          <a:noFill/>
          <a:ln w="57240">
            <a:solidFill>
              <a:srgbClr val="ffe10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1560" y="2830680"/>
            <a:ext cx="221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nsistent Sh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0120" y="4495680"/>
            <a:ext cx="348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03"/>
                </a:solidFill>
                <a:latin typeface="Times New Roman"/>
              </a:rPr>
              <a:t>Soft-state, immutable st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4267080"/>
            <a:ext cx="2362320" cy="2210040"/>
          </a:xfrm>
          <a:prstGeom prst="ellipse">
            <a:avLst/>
          </a:prstGeom>
          <a:noFill/>
          <a:ln w="57240">
            <a:solidFill>
              <a:srgbClr val="6f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762120"/>
            <a:ext cx="3200400" cy="2209680"/>
          </a:xfrm>
          <a:prstGeom prst="ellipse">
            <a:avLst/>
          </a:prstGeom>
          <a:noFill/>
          <a:ln w="57240">
            <a:solidFill>
              <a:srgbClr val="6f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3962520"/>
            <a:ext cx="1600200" cy="2666880"/>
          </a:xfrm>
          <a:prstGeom prst="ellipse">
            <a:avLst/>
          </a:prstGeom>
          <a:noFill/>
          <a:ln w="57240">
            <a:solidFill>
              <a:srgbClr val="6f9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7440" y="3581280"/>
            <a:ext cx="143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9fff"/>
                </a:solidFill>
                <a:latin typeface="Times New Roman"/>
              </a:rPr>
              <a:t>Single 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hree Basic Issu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is the state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e103"/>
                </a:solidFill>
                <a:latin typeface="Times New Roman"/>
              </a:rPr>
              <a:t>Consistency vs. Availabilit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cation Boundari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Data is only consistent *inside*</a:t>
            </a: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286000"/>
            <a:ext cx="7315200" cy="358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895480"/>
            <a:ext cx="4038480" cy="2438640"/>
          </a:xfrm>
          <a:custGeom>
            <a:avLst/>
            <a:gdLst/>
            <a:ahLst/>
            <a:rect l="l" t="t" r="r" b="b"/>
            <a:pathLst>
              <a:path w="2096" h="1392">
                <a:moveTo>
                  <a:pt x="648" y="272"/>
                </a:moveTo>
                <a:cubicBezTo>
                  <a:pt x="544" y="288"/>
                  <a:pt x="272" y="240"/>
                  <a:pt x="168" y="272"/>
                </a:cubicBezTo>
                <a:cubicBezTo>
                  <a:pt x="64" y="304"/>
                  <a:pt x="16" y="368"/>
                  <a:pt x="24" y="464"/>
                </a:cubicBezTo>
                <a:cubicBezTo>
                  <a:pt x="32" y="560"/>
                  <a:pt x="216" y="728"/>
                  <a:pt x="216" y="848"/>
                </a:cubicBezTo>
                <a:cubicBezTo>
                  <a:pt x="216" y="968"/>
                  <a:pt x="0" y="1096"/>
                  <a:pt x="24" y="1184"/>
                </a:cubicBezTo>
                <a:cubicBezTo>
                  <a:pt x="48" y="1272"/>
                  <a:pt x="216" y="1360"/>
                  <a:pt x="360" y="1376"/>
                </a:cubicBezTo>
                <a:cubicBezTo>
                  <a:pt x="504" y="1392"/>
                  <a:pt x="744" y="1312"/>
                  <a:pt x="888" y="1280"/>
                </a:cubicBezTo>
                <a:cubicBezTo>
                  <a:pt x="1032" y="1248"/>
                  <a:pt x="1136" y="1184"/>
                  <a:pt x="1224" y="1184"/>
                </a:cubicBezTo>
                <a:cubicBezTo>
                  <a:pt x="1312" y="1184"/>
                  <a:pt x="1288" y="1280"/>
                  <a:pt x="1416" y="1280"/>
                </a:cubicBezTo>
                <a:cubicBezTo>
                  <a:pt x="1544" y="1280"/>
                  <a:pt x="1888" y="1256"/>
                  <a:pt x="1992" y="1184"/>
                </a:cubicBezTo>
                <a:cubicBezTo>
                  <a:pt x="2096" y="1112"/>
                  <a:pt x="2064" y="952"/>
                  <a:pt x="2040" y="848"/>
                </a:cubicBezTo>
                <a:cubicBezTo>
                  <a:pt x="2016" y="744"/>
                  <a:pt x="1936" y="576"/>
                  <a:pt x="1848" y="560"/>
                </a:cubicBezTo>
                <a:cubicBezTo>
                  <a:pt x="1760" y="544"/>
                  <a:pt x="1600" y="744"/>
                  <a:pt x="1512" y="752"/>
                </a:cubicBezTo>
                <a:cubicBezTo>
                  <a:pt x="1424" y="760"/>
                  <a:pt x="1320" y="672"/>
                  <a:pt x="1320" y="608"/>
                </a:cubicBezTo>
                <a:cubicBezTo>
                  <a:pt x="1320" y="544"/>
                  <a:pt x="1536" y="464"/>
                  <a:pt x="1512" y="368"/>
                </a:cubicBezTo>
                <a:cubicBezTo>
                  <a:pt x="1488" y="272"/>
                  <a:pt x="1296" y="64"/>
                  <a:pt x="1176" y="32"/>
                </a:cubicBezTo>
                <a:cubicBezTo>
                  <a:pt x="1056" y="0"/>
                  <a:pt x="880" y="136"/>
                  <a:pt x="792" y="176"/>
                </a:cubicBezTo>
                <a:cubicBezTo>
                  <a:pt x="704" y="216"/>
                  <a:pt x="752" y="256"/>
                  <a:pt x="648" y="272"/>
                </a:cubicBezTo>
                <a:close/>
              </a:path>
            </a:pathLst>
          </a:custGeom>
          <a:solidFill>
            <a:srgbClr val="a277e7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69560" y="2438280"/>
            <a:ext cx="3051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not consist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reference”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4191120"/>
            <a:ext cx="237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</a:t>
            </a:r>
            <a:r>
              <a:rPr b="0" lang="en-US" sz="3600" spc="-1" strike="noStrike">
                <a:solidFill>
                  <a:srgbClr val="a277e7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Data is only consistent *inside*</a:t>
            </a: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2286000"/>
            <a:ext cx="7315200" cy="35812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2895480"/>
            <a:ext cx="4038480" cy="2438640"/>
          </a:xfrm>
          <a:custGeom>
            <a:avLst/>
            <a:gdLst/>
            <a:ahLst/>
            <a:rect l="l" t="t" r="r" b="b"/>
            <a:pathLst>
              <a:path w="2096" h="1392">
                <a:moveTo>
                  <a:pt x="648" y="272"/>
                </a:moveTo>
                <a:cubicBezTo>
                  <a:pt x="544" y="288"/>
                  <a:pt x="272" y="240"/>
                  <a:pt x="168" y="272"/>
                </a:cubicBezTo>
                <a:cubicBezTo>
                  <a:pt x="64" y="304"/>
                  <a:pt x="16" y="368"/>
                  <a:pt x="24" y="464"/>
                </a:cubicBezTo>
                <a:cubicBezTo>
                  <a:pt x="32" y="560"/>
                  <a:pt x="216" y="728"/>
                  <a:pt x="216" y="848"/>
                </a:cubicBezTo>
                <a:cubicBezTo>
                  <a:pt x="216" y="968"/>
                  <a:pt x="0" y="1096"/>
                  <a:pt x="24" y="1184"/>
                </a:cubicBezTo>
                <a:cubicBezTo>
                  <a:pt x="48" y="1272"/>
                  <a:pt x="216" y="1360"/>
                  <a:pt x="360" y="1376"/>
                </a:cubicBezTo>
                <a:cubicBezTo>
                  <a:pt x="504" y="1392"/>
                  <a:pt x="744" y="1312"/>
                  <a:pt x="888" y="1280"/>
                </a:cubicBezTo>
                <a:cubicBezTo>
                  <a:pt x="1032" y="1248"/>
                  <a:pt x="1136" y="1184"/>
                  <a:pt x="1224" y="1184"/>
                </a:cubicBezTo>
                <a:cubicBezTo>
                  <a:pt x="1312" y="1184"/>
                  <a:pt x="1288" y="1280"/>
                  <a:pt x="1416" y="1280"/>
                </a:cubicBezTo>
                <a:cubicBezTo>
                  <a:pt x="1544" y="1280"/>
                  <a:pt x="1888" y="1256"/>
                  <a:pt x="1992" y="1184"/>
                </a:cubicBezTo>
                <a:cubicBezTo>
                  <a:pt x="2096" y="1112"/>
                  <a:pt x="2064" y="952"/>
                  <a:pt x="2040" y="848"/>
                </a:cubicBezTo>
                <a:cubicBezTo>
                  <a:pt x="2016" y="744"/>
                  <a:pt x="1936" y="576"/>
                  <a:pt x="1848" y="560"/>
                </a:cubicBezTo>
                <a:cubicBezTo>
                  <a:pt x="1760" y="544"/>
                  <a:pt x="1600" y="744"/>
                  <a:pt x="1512" y="752"/>
                </a:cubicBezTo>
                <a:cubicBezTo>
                  <a:pt x="1424" y="760"/>
                  <a:pt x="1320" y="672"/>
                  <a:pt x="1320" y="608"/>
                </a:cubicBezTo>
                <a:cubicBezTo>
                  <a:pt x="1320" y="544"/>
                  <a:pt x="1536" y="464"/>
                  <a:pt x="1512" y="368"/>
                </a:cubicBezTo>
                <a:cubicBezTo>
                  <a:pt x="1488" y="272"/>
                  <a:pt x="1296" y="64"/>
                  <a:pt x="1176" y="32"/>
                </a:cubicBezTo>
                <a:cubicBezTo>
                  <a:pt x="1056" y="0"/>
                  <a:pt x="880" y="136"/>
                  <a:pt x="792" y="176"/>
                </a:cubicBezTo>
                <a:cubicBezTo>
                  <a:pt x="704" y="216"/>
                  <a:pt x="752" y="256"/>
                  <a:pt x="648" y="272"/>
                </a:cubicBezTo>
                <a:close/>
              </a:path>
            </a:pathLst>
          </a:custGeom>
          <a:solidFill>
            <a:srgbClr val="a277e7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191120"/>
            <a:ext cx="237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t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69560" y="2438280"/>
            <a:ext cx="30517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not consist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“reference”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62720" y="3962520"/>
            <a:ext cx="2133360" cy="1752480"/>
          </a:xfrm>
          <a:prstGeom prst="ellipse">
            <a:avLst/>
          </a:prstGeom>
          <a:solidFill>
            <a:srgbClr val="a277e7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ent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he CAP Theorem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28600" y="1828440"/>
            <a:ext cx="4571640" cy="4572000"/>
            <a:chOff x="228600" y="1828440"/>
            <a:chExt cx="4571640" cy="457200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1828440"/>
              <a:ext cx="4571640" cy="4572000"/>
              <a:chOff x="228600" y="1828440"/>
              <a:chExt cx="4571640" cy="4572000"/>
            </a:xfrm>
          </p:grpSpPr>
          <p:sp>
            <p:nvSpPr>
              <p:cNvPr id="261" name=""/>
              <p:cNvSpPr/>
              <p:nvPr/>
            </p:nvSpPr>
            <p:spPr>
              <a:xfrm>
                <a:off x="228600" y="1828800"/>
                <a:ext cx="4571640" cy="4571640"/>
              </a:xfrm>
              <a:prstGeom prst="ellipse">
                <a:avLst/>
              </a:prstGeom>
              <a:solidFill>
                <a:srgbClr val="1137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55120" y="1828440"/>
                <a:ext cx="3918240" cy="3451680"/>
                <a:chOff x="555120" y="1828440"/>
                <a:chExt cx="3918240" cy="3451680"/>
              </a:xfrm>
            </p:grpSpPr>
            <p:sp>
              <p:nvSpPr>
                <p:cNvPr id="263" name=""/>
                <p:cNvSpPr/>
                <p:nvPr/>
              </p:nvSpPr>
              <p:spPr>
                <a:xfrm flipV="1">
                  <a:off x="2514240" y="1828440"/>
                  <a:ext cx="0" cy="2332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555120" y="4161240"/>
                  <a:ext cx="3918240" cy="1118880"/>
                  <a:chOff x="555120" y="4161240"/>
                  <a:chExt cx="3918240" cy="1118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251424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>
                    <a:off x="55512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7" name=""/>
            <p:cNvSpPr/>
            <p:nvPr/>
          </p:nvSpPr>
          <p:spPr>
            <a:xfrm>
              <a:off x="609840" y="3276720"/>
              <a:ext cx="17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nsistenc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0680" y="3276720"/>
              <a:ext cx="17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ailabi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41200" y="5029200"/>
              <a:ext cx="279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lerance to network</a:t>
              </a:r>
              <a:br>
                <a:rPr sz="2400"/>
              </a:b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t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648320" y="1828800"/>
            <a:ext cx="4327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orem: You can have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st tw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of these in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any shared-data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he CAP Theorem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28600" y="1828440"/>
            <a:ext cx="4571640" cy="4572000"/>
            <a:chOff x="228600" y="1828440"/>
            <a:chExt cx="4571640" cy="4572000"/>
          </a:xfrm>
        </p:grpSpPr>
        <p:grpSp>
          <p:nvGrpSpPr>
            <p:cNvPr id="273" name=""/>
            <p:cNvGrpSpPr/>
            <p:nvPr/>
          </p:nvGrpSpPr>
          <p:grpSpPr>
            <a:xfrm>
              <a:off x="228600" y="1828440"/>
              <a:ext cx="4571640" cy="4572000"/>
              <a:chOff x="228600" y="1828440"/>
              <a:chExt cx="4571640" cy="4572000"/>
            </a:xfrm>
          </p:grpSpPr>
          <p:sp>
            <p:nvSpPr>
              <p:cNvPr id="274" name=""/>
              <p:cNvSpPr/>
              <p:nvPr/>
            </p:nvSpPr>
            <p:spPr>
              <a:xfrm>
                <a:off x="228600" y="1828800"/>
                <a:ext cx="4571640" cy="4571640"/>
              </a:xfrm>
              <a:prstGeom prst="ellipse">
                <a:avLst/>
              </a:prstGeom>
              <a:solidFill>
                <a:srgbClr val="1137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555120" y="1828440"/>
                <a:ext cx="3918240" cy="3451680"/>
                <a:chOff x="555120" y="1828440"/>
                <a:chExt cx="3918240" cy="3451680"/>
              </a:xfrm>
            </p:grpSpPr>
            <p:sp>
              <p:nvSpPr>
                <p:cNvPr id="276" name=""/>
                <p:cNvSpPr/>
                <p:nvPr/>
              </p:nvSpPr>
              <p:spPr>
                <a:xfrm flipV="1">
                  <a:off x="2514240" y="1828440"/>
                  <a:ext cx="0" cy="2332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555120" y="4161240"/>
                  <a:ext cx="3918240" cy="1118880"/>
                  <a:chOff x="555120" y="4161240"/>
                  <a:chExt cx="3918240" cy="11188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251424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 flipH="1">
                    <a:off x="55512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80" name=""/>
            <p:cNvSpPr/>
            <p:nvPr/>
          </p:nvSpPr>
          <p:spPr>
            <a:xfrm>
              <a:off x="609840" y="3276720"/>
              <a:ext cx="17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nsistenc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40680" y="3276720"/>
              <a:ext cx="17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ailabi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41200" y="5029200"/>
              <a:ext cx="279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lerance to network</a:t>
              </a:r>
              <a:br>
                <a:rPr sz="2400"/>
              </a:b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t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648320" y="1828800"/>
            <a:ext cx="4495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orem: You can have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st two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of these in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for any shared-data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rollary: consistency boundary must choose A or 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401760" y="2057400"/>
            <a:ext cx="4246560" cy="4114800"/>
          </a:xfrm>
          <a:prstGeom prst="blockArc">
            <a:avLst>
              <a:gd name="adj1" fmla="val 9071180"/>
              <a:gd name="adj2" fmla="val 1728820"/>
              <a:gd name="adj3" fmla="val 45940"/>
            </a:avLst>
          </a:prstGeom>
          <a:solidFill>
            <a:srgbClr val="a277e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Forfeit Partition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" y="1828440"/>
            <a:ext cx="4571640" cy="4572000"/>
            <a:chOff x="228600" y="1828440"/>
            <a:chExt cx="4571640" cy="4572000"/>
          </a:xfrm>
        </p:grpSpPr>
        <p:grpSp>
          <p:nvGrpSpPr>
            <p:cNvPr id="287" name=""/>
            <p:cNvGrpSpPr/>
            <p:nvPr/>
          </p:nvGrpSpPr>
          <p:grpSpPr>
            <a:xfrm>
              <a:off x="228600" y="1828440"/>
              <a:ext cx="4571640" cy="4572000"/>
              <a:chOff x="228600" y="1828440"/>
              <a:chExt cx="4571640" cy="4572000"/>
            </a:xfrm>
          </p:grpSpPr>
          <p:sp>
            <p:nvSpPr>
              <p:cNvPr id="288" name=""/>
              <p:cNvSpPr/>
              <p:nvPr/>
            </p:nvSpPr>
            <p:spPr>
              <a:xfrm>
                <a:off x="228600" y="1828800"/>
                <a:ext cx="4571640" cy="4571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555120" y="1828440"/>
                <a:ext cx="3918240" cy="3451680"/>
                <a:chOff x="555120" y="1828440"/>
                <a:chExt cx="3918240" cy="34516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2514240" y="1828440"/>
                  <a:ext cx="0" cy="2332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555120" y="4161240"/>
                  <a:ext cx="3918240" cy="1118880"/>
                  <a:chOff x="555120" y="4161240"/>
                  <a:chExt cx="3918240" cy="111888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251424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H="1">
                    <a:off x="55512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4" name=""/>
            <p:cNvSpPr/>
            <p:nvPr/>
          </p:nvSpPr>
          <p:spPr>
            <a:xfrm>
              <a:off x="609840" y="3276720"/>
              <a:ext cx="17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nsistenc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0680" y="3276720"/>
              <a:ext cx="17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ailabi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1200" y="5029200"/>
              <a:ext cx="279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lerance to network</a:t>
              </a:r>
              <a:br>
                <a:rPr sz="2400"/>
              </a:b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t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 txBox="1"/>
          <p:nvPr/>
        </p:nvSpPr>
        <p:spPr>
          <a:xfrm>
            <a:off x="5257800" y="2989440"/>
            <a:ext cx="3581280" cy="47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514440" indent="-39852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gle-site databas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uster databas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DAP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efdom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i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-phase commi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che validation protoco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“inside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rot="14346000">
            <a:off x="314640" y="2123280"/>
            <a:ext cx="4246560" cy="4114800"/>
          </a:xfrm>
          <a:prstGeom prst="blockArc">
            <a:avLst>
              <a:gd name="adj1" fmla="val 8902966"/>
              <a:gd name="adj2" fmla="val 1897034"/>
              <a:gd name="adj3" fmla="val 44644"/>
            </a:avLst>
          </a:prstGeom>
          <a:solidFill>
            <a:srgbClr val="a277e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Forfeit Availability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28600" y="1828440"/>
            <a:ext cx="4571640" cy="4572000"/>
            <a:chOff x="228600" y="1828440"/>
            <a:chExt cx="4571640" cy="4572000"/>
          </a:xfrm>
        </p:grpSpPr>
        <p:grpSp>
          <p:nvGrpSpPr>
            <p:cNvPr id="301" name=""/>
            <p:cNvGrpSpPr/>
            <p:nvPr/>
          </p:nvGrpSpPr>
          <p:grpSpPr>
            <a:xfrm>
              <a:off x="228600" y="1828440"/>
              <a:ext cx="4571640" cy="4572000"/>
              <a:chOff x="228600" y="1828440"/>
              <a:chExt cx="4571640" cy="4572000"/>
            </a:xfrm>
          </p:grpSpPr>
          <p:sp>
            <p:nvSpPr>
              <p:cNvPr id="302" name=""/>
              <p:cNvSpPr/>
              <p:nvPr/>
            </p:nvSpPr>
            <p:spPr>
              <a:xfrm>
                <a:off x="228600" y="1828800"/>
                <a:ext cx="4571640" cy="4571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555120" y="1828440"/>
                <a:ext cx="3918240" cy="3451680"/>
                <a:chOff x="555120" y="1828440"/>
                <a:chExt cx="3918240" cy="3451680"/>
              </a:xfrm>
            </p:grpSpPr>
            <p:sp>
              <p:nvSpPr>
                <p:cNvPr id="304" name=""/>
                <p:cNvSpPr/>
                <p:nvPr/>
              </p:nvSpPr>
              <p:spPr>
                <a:xfrm flipV="1">
                  <a:off x="2514240" y="1828440"/>
                  <a:ext cx="0" cy="2332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555120" y="4161240"/>
                  <a:ext cx="3918240" cy="1118880"/>
                  <a:chOff x="555120" y="4161240"/>
                  <a:chExt cx="3918240" cy="11188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251424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55512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08" name=""/>
            <p:cNvSpPr/>
            <p:nvPr/>
          </p:nvSpPr>
          <p:spPr>
            <a:xfrm>
              <a:off x="609840" y="3276720"/>
              <a:ext cx="17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nsistenc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0680" y="3276720"/>
              <a:ext cx="17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ailabi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200" y="5029200"/>
              <a:ext cx="279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lerance to network</a:t>
              </a:r>
              <a:br>
                <a:rPr sz="2400"/>
              </a:b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t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5181120" y="2971800"/>
            <a:ext cx="3581640" cy="478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514440" indent="-39852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tributed databas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tributed loc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jority protocol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i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ssimistic locking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ke minority partitions unavail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 flipH="1" rot="7254000">
            <a:off x="402120" y="2132640"/>
            <a:ext cx="4246560" cy="4114800"/>
          </a:xfrm>
          <a:prstGeom prst="blockArc">
            <a:avLst>
              <a:gd name="adj1" fmla="val 8902966"/>
              <a:gd name="adj2" fmla="val 1897034"/>
              <a:gd name="adj3" fmla="val 44644"/>
            </a:avLst>
          </a:prstGeom>
          <a:solidFill>
            <a:srgbClr val="a277e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Forfeit Consistency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28600" y="1828440"/>
            <a:ext cx="4571640" cy="4572000"/>
            <a:chOff x="228600" y="1828440"/>
            <a:chExt cx="4571640" cy="4572000"/>
          </a:xfrm>
        </p:grpSpPr>
        <p:grpSp>
          <p:nvGrpSpPr>
            <p:cNvPr id="315" name=""/>
            <p:cNvGrpSpPr/>
            <p:nvPr/>
          </p:nvGrpSpPr>
          <p:grpSpPr>
            <a:xfrm>
              <a:off x="228600" y="1828440"/>
              <a:ext cx="4571640" cy="4572000"/>
              <a:chOff x="228600" y="1828440"/>
              <a:chExt cx="4571640" cy="4572000"/>
            </a:xfrm>
          </p:grpSpPr>
          <p:sp>
            <p:nvSpPr>
              <p:cNvPr id="316" name=""/>
              <p:cNvSpPr/>
              <p:nvPr/>
            </p:nvSpPr>
            <p:spPr>
              <a:xfrm>
                <a:off x="228600" y="1828800"/>
                <a:ext cx="4571640" cy="45716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555120" y="1828440"/>
                <a:ext cx="3918240" cy="3451680"/>
                <a:chOff x="555120" y="1828440"/>
                <a:chExt cx="3918240" cy="3451680"/>
              </a:xfrm>
            </p:grpSpPr>
            <p:sp>
              <p:nvSpPr>
                <p:cNvPr id="318" name=""/>
                <p:cNvSpPr/>
                <p:nvPr/>
              </p:nvSpPr>
              <p:spPr>
                <a:xfrm flipV="1">
                  <a:off x="2514240" y="1828440"/>
                  <a:ext cx="0" cy="23324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"/>
                <p:cNvGrpSpPr/>
                <p:nvPr/>
              </p:nvGrpSpPr>
              <p:grpSpPr>
                <a:xfrm>
                  <a:off x="555120" y="4161240"/>
                  <a:ext cx="3918240" cy="1118880"/>
                  <a:chOff x="555120" y="4161240"/>
                  <a:chExt cx="3918240" cy="111888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51424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555120" y="4161240"/>
                    <a:ext cx="1959120" cy="111888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2" name=""/>
            <p:cNvSpPr/>
            <p:nvPr/>
          </p:nvSpPr>
          <p:spPr>
            <a:xfrm>
              <a:off x="609840" y="3276720"/>
              <a:ext cx="176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nsistenc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0680" y="3276720"/>
              <a:ext cx="17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vailabi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41200" y="5029200"/>
              <a:ext cx="279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lerance to network</a:t>
              </a:r>
              <a:br>
                <a:rPr sz="2400"/>
              </a:b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rti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 txBox="1"/>
          <p:nvPr/>
        </p:nvSpPr>
        <p:spPr>
          <a:xfrm>
            <a:off x="5334120" y="2836440"/>
            <a:ext cx="3581280" cy="478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514440" indent="-39852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da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b caching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missari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it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irations/leas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lict resolu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timisti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“outside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53820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ACID vs. BAS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8960" y="1676160"/>
            <a:ext cx="3989160" cy="45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514440"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CI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ong consistenc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sola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cus on “commit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sted transaction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vailability?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ervative (pessimistic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fficult evoluti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e.g. schema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mall” Invariant Bounda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“inside”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4720" y="1371240"/>
            <a:ext cx="4498920" cy="48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51444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BA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ak consistenc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90000"/>
              </a:lnSpc>
              <a:spcAft>
                <a:spcPts val="45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le data O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vailability firs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st eff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pproximate answers OK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ggressive (optimistic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mpler” and faster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asier evolution (XML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ide” Invariant Bounda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utside consistency bounda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92000" y="6033960"/>
            <a:ext cx="31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t it’s a </a:t>
            </a: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066680" y="6324480"/>
            <a:ext cx="14479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476760" y="6324480"/>
            <a:ext cx="1447560" cy="0"/>
          </a:xfrm>
          <a:prstGeom prst="line">
            <a:avLst/>
          </a:prstGeom>
          <a:ln w="381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Our Perspectiv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906560"/>
            <a:ext cx="4267080" cy="502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ktomi builds two distributed system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9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obal Search Eng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9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ributed Web C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ed on scalable cluster &amp; parallel computing technolo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t very little use of classic DS research.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cluster" descr=""/>
          <p:cNvPicPr/>
          <p:nvPr/>
        </p:nvPicPr>
        <p:blipFill>
          <a:blip r:embed="rId1"/>
          <a:stretch/>
        </p:blipFill>
        <p:spPr>
          <a:xfrm>
            <a:off x="5029200" y="1878120"/>
            <a:ext cx="39625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Consistency Boundary Summary 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 have consistency &amp; availability within a cluster.  No partitions within boundary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S/Networking better at A than 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bases better at C than 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de-area databases can’t have bot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onnected clients can’t have bot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hree Basic Issu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is the state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istency vs. Availabilit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e103"/>
                </a:solidFill>
                <a:latin typeface="Times New Roman"/>
              </a:rPr>
              <a:t>Communication Boundari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he Boundary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9852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terface between two modu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ent/server, peers, libaries, etc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 boundary = the procedure ca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d traverses the bou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sides are in the same address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nvariants don’t hold acros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3962520"/>
            <a:ext cx="838080" cy="83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962520"/>
            <a:ext cx="838440" cy="83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95680" y="3657600"/>
            <a:ext cx="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Different Address Spac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f the two sides are NOT in the same address space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C or LR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’t do pass-by-reference (pointer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PC screws this up: pass by value-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TWO copies of args not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f they share some memory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pass pointers, bu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 synchronization between client/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all pointers can be pa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Partial Failur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 the two sides fail independently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PC, IPC, LR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’t be transparent (like RPC) !!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w exceptions (other side gon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mpotent call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Transaction Ids (to solve replay probl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laim local resour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 kernels leak sockets over time =&gt; reb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PC tries to hide these issues (but fail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Level 4/7 switches to hide failures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Resource Allocation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to reclaim resources allocated for clien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ually timeout exception cleans 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ease locks?  (must track them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avoid long delays while holding resourc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long to remember client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ayed responses (past timeout) must be igno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blem with leas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at for servers, but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ent’s lease may expire mid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d to make client updates atomic with multiple leases (2PC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ch things have leases?  (can be hidd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rust the other side?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if we don’t trust the other side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r partial trust (legal contract), or maliciou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ve to check args, no pointer pa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mited release of information (leak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rnels get this right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y/check ar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paque references (e.g. File Descripto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systems do no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CP, Napster, web brow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urity boundaries tend to be explic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les come from servic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Multiplexing clients?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es the server have to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l with high concurrenc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y “no” sometimes (graceful degrad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 clients equally (fairn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 for resources (and have audit trai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olate clients performance, data, 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se all affect the boundary defin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Boundary evolution?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 the two sides be updated independently? (N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DLL problem.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undaries need ver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gotiation protocol for upgrade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mises of backward compatibility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fects naming too (version numbe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Example: protocols vs. API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cols have been more successful than AP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reason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 are pass b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 designed for partial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rying to look like local procedure c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state machine, rather than call/retu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this exposes exceptions w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cols still not good at trust, billing, evolu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" y="84312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Distributed Systems” don’t work...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2055600"/>
            <a:ext cx="8305920" cy="42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exist working D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protocols: DNS, WW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ktomi search, Content Delivery Net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pster, Verisign, A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ut these are not classic DS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distributed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modu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700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 ones are single owner (except pho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Example: XML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XML doesn’t solve any of these issu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RPC with an extensible type syste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makes evolution better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sides need to agree on 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ignore stuff you don’t underst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agree on meaning, not just t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n mislead us to ignore/postpone the real issu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Example: servic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aim: you can’t magically convert a class to a servi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havior depends on the boundaries that callers cross…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sted? Multiplexed? Partial failure? Namespa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uldn’t TRY to be transpar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stead: make it easier to state boundary assumptions (and check them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Annotated Interfac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L can annotate interfaces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out” =&gt; client may not respo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sted” =&gt; no malicious cl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licious’ =&gt; client may be hos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xed” =&gt; many simultaneous cal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mpot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uld be checked at statically in some cases, dynamically in oth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notations + Boundaries =&gt; fewer bug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Lessons for Application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boundaries very explici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just client/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pend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-party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-party services (RPC to vendors/part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a few big modules…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wise too many boundaries, and no invari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 Apache, Oracle, Inktomi search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 Modules are well sup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 Modules justify their cost (Lamps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Partial checklist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hared? (namespace, schema?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kind of state in each boundary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would you evolve an API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time of references? Expiration impact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ceful degradation as modules go dow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ternal persistent name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stency semantics and boundary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Conclusion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systems are fragi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ot caus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e103"/>
                </a:solidFill>
                <a:latin typeface="Times New Roman"/>
              </a:rPr>
              <a:t>False transparenc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assuming locality, trust, privacy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e103"/>
                </a:solidFill>
                <a:latin typeface="Times New Roman"/>
              </a:rPr>
              <a:t>Implicitl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e103"/>
                </a:solidFill>
                <a:latin typeface="Times New Roman"/>
              </a:rPr>
              <a:t>chang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oundaries: consistency, partial failure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of the cause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cus on computation, no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gnoring location disti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estimating consistency bound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graded boundaries (RPC is not a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ariant Boundaries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lp understanding,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ify det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7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mpler and easier than full specifications (but weak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244080"/>
            <a:ext cx="8535960" cy="112716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ACID vs. BAS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2403360"/>
            <a:ext cx="8305920" cy="39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681120" indent="-39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BMS research is about ACID (mostl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1120" indent="-397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we forfeit “C” and “I” for availability, graceful degradation, and perform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1120" indent="0" algn="ctr">
              <a:lnSpc>
                <a:spcPct val="17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is tradeoff is fundamental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112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38280" indent="-28584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6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ically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538280" indent="-28584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6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ft-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538280" indent="-285840">
              <a:lnSpc>
                <a:spcPct val="80000"/>
              </a:lnSpc>
              <a:spcAft>
                <a:spcPts val="499"/>
              </a:spcAft>
              <a:buClr>
                <a:srgbClr val="ffe103"/>
              </a:buClr>
              <a:buFont typeface="Times New Roman"/>
              <a:buChar char="–"/>
              <a:tabLst>
                <a:tab algn="l" pos="6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ntual consis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Concept: Invariant Boundari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2000"/>
          </a:bodyPr>
          <a:p>
            <a:pPr marL="421560" indent="-326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im: we don’t understand boundar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1560" indent="-326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: make “Invariant Boundary” explicti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21560" indent="-326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al: simpler, easier, faster to correctnes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57600"/>
            <a:ext cx="73152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9880"/>
            <a:ext cx="5029200" cy="2438640"/>
          </a:xfrm>
          <a:custGeom>
            <a:avLst/>
            <a:gdLst/>
            <a:ahLst/>
            <a:rect l="l" t="t" r="r" b="b"/>
            <a:pathLst>
              <a:path w="2096" h="1392">
                <a:moveTo>
                  <a:pt x="648" y="272"/>
                </a:moveTo>
                <a:cubicBezTo>
                  <a:pt x="544" y="288"/>
                  <a:pt x="272" y="240"/>
                  <a:pt x="168" y="272"/>
                </a:cubicBezTo>
                <a:cubicBezTo>
                  <a:pt x="64" y="304"/>
                  <a:pt x="16" y="368"/>
                  <a:pt x="24" y="464"/>
                </a:cubicBezTo>
                <a:cubicBezTo>
                  <a:pt x="32" y="560"/>
                  <a:pt x="216" y="728"/>
                  <a:pt x="216" y="848"/>
                </a:cubicBezTo>
                <a:cubicBezTo>
                  <a:pt x="216" y="968"/>
                  <a:pt x="0" y="1096"/>
                  <a:pt x="24" y="1184"/>
                </a:cubicBezTo>
                <a:cubicBezTo>
                  <a:pt x="48" y="1272"/>
                  <a:pt x="216" y="1360"/>
                  <a:pt x="360" y="1376"/>
                </a:cubicBezTo>
                <a:cubicBezTo>
                  <a:pt x="504" y="1392"/>
                  <a:pt x="744" y="1312"/>
                  <a:pt x="888" y="1280"/>
                </a:cubicBezTo>
                <a:cubicBezTo>
                  <a:pt x="1032" y="1248"/>
                  <a:pt x="1136" y="1184"/>
                  <a:pt x="1224" y="1184"/>
                </a:cubicBezTo>
                <a:cubicBezTo>
                  <a:pt x="1312" y="1184"/>
                  <a:pt x="1288" y="1280"/>
                  <a:pt x="1416" y="1280"/>
                </a:cubicBezTo>
                <a:cubicBezTo>
                  <a:pt x="1544" y="1280"/>
                  <a:pt x="1888" y="1256"/>
                  <a:pt x="1992" y="1184"/>
                </a:cubicBezTo>
                <a:cubicBezTo>
                  <a:pt x="2096" y="1112"/>
                  <a:pt x="2064" y="952"/>
                  <a:pt x="2040" y="848"/>
                </a:cubicBezTo>
                <a:cubicBezTo>
                  <a:pt x="2016" y="744"/>
                  <a:pt x="1936" y="576"/>
                  <a:pt x="1848" y="560"/>
                </a:cubicBezTo>
                <a:cubicBezTo>
                  <a:pt x="1760" y="544"/>
                  <a:pt x="1600" y="744"/>
                  <a:pt x="1512" y="752"/>
                </a:cubicBezTo>
                <a:cubicBezTo>
                  <a:pt x="1424" y="760"/>
                  <a:pt x="1320" y="672"/>
                  <a:pt x="1320" y="608"/>
                </a:cubicBezTo>
                <a:cubicBezTo>
                  <a:pt x="1320" y="544"/>
                  <a:pt x="1536" y="464"/>
                  <a:pt x="1512" y="368"/>
                </a:cubicBezTo>
                <a:cubicBezTo>
                  <a:pt x="1488" y="272"/>
                  <a:pt x="1296" y="64"/>
                  <a:pt x="1176" y="32"/>
                </a:cubicBezTo>
                <a:cubicBezTo>
                  <a:pt x="1056" y="0"/>
                  <a:pt x="880" y="136"/>
                  <a:pt x="792" y="176"/>
                </a:cubicBezTo>
                <a:cubicBezTo>
                  <a:pt x="704" y="216"/>
                  <a:pt x="752" y="256"/>
                  <a:pt x="648" y="272"/>
                </a:cubicBezTo>
                <a:close/>
              </a:path>
            </a:pathLst>
          </a:custGeom>
          <a:solidFill>
            <a:srgbClr val="a277e7"/>
          </a:solidFill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7360" y="4540320"/>
            <a:ext cx="1649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l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08600" y="3911760"/>
            <a:ext cx="1878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ot h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Three Basic Issues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e103"/>
                </a:solidFill>
                <a:latin typeface="Times New Roman"/>
              </a:rPr>
              <a:t>Where is the state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sistency vs. Availability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munication Boundarie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Santa Clara Cluster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pic>
        <p:nvPicPr>
          <p:cNvPr id="57" name="cluster" descr=""/>
          <p:cNvPicPr/>
          <p:nvPr/>
        </p:nvPicPr>
        <p:blipFill>
          <a:blip r:embed="rId1"/>
          <a:stretch/>
        </p:blipFill>
        <p:spPr>
          <a:xfrm>
            <a:off x="2971800" y="1139760"/>
            <a:ext cx="5791320" cy="5718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3000" y="2438280"/>
            <a:ext cx="263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Very uni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No mon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No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No c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Working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Working A/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e1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e103"/>
                </a:solidFill>
                <a:latin typeface="Times New Roman"/>
              </a:rPr>
              <a:t>Working B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Boundaries for Kinds of Stat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l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nt 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mutable stat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 State (rebuild on restart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able Single-writer (e.g. user data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ssaries, horizontal partitio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rable M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efdoms,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7668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Persistent State is HARD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131920"/>
            <a:ext cx="8305920" cy="42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assic DS focus on the computation, not the dat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WRONG, computation is the easy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centers exist for a reas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’t have consistency or availability withou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locations are for caching only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xies, basestations, set-top boxes, deskt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8880" indent="-400320">
              <a:lnSpc>
                <a:spcPct val="80000"/>
              </a:lnSpc>
              <a:spcAft>
                <a:spcPts val="601"/>
              </a:spcAft>
              <a:buClr>
                <a:srgbClr val="ffe103"/>
              </a:buClr>
              <a:buFont typeface="Times New Roman"/>
              <a:buChar char="–"/>
              <a:tabLst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ones, PDAs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systems can’t ignore loc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398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e103"/>
              </a:buClr>
              <a:buSzPct val="84000"/>
              <a:buFont typeface="Monotype Sort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variant Boundary is </a:t>
            </a: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smal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137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3962520" y="4267080"/>
            <a:ext cx="3733560" cy="2380680"/>
            <a:chOff x="3962520" y="4267080"/>
            <a:chExt cx="3733560" cy="2380680"/>
          </a:xfrm>
        </p:grpSpPr>
        <p:sp>
          <p:nvSpPr>
            <p:cNvPr id="64" name=""/>
            <p:cNvSpPr/>
            <p:nvPr/>
          </p:nvSpPr>
          <p:spPr>
            <a:xfrm flipV="1">
              <a:off x="6248520" y="4876920"/>
              <a:ext cx="1447560" cy="457200"/>
            </a:xfrm>
            <a:prstGeom prst="line">
              <a:avLst/>
            </a:prstGeom>
            <a:ln w="1260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05520" y="4267080"/>
              <a:ext cx="761760" cy="99072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15000" y="4952880"/>
              <a:ext cx="762120" cy="66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5334120"/>
              <a:ext cx="28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ctive Proxy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ootstraps thin devices into infrastructure, runs mobile 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066320" y="3581280"/>
            <a:ext cx="3429360" cy="1447920"/>
            <a:chOff x="1066320" y="3581280"/>
            <a:chExt cx="3429360" cy="1447920"/>
          </a:xfrm>
        </p:grpSpPr>
        <p:sp>
          <p:nvSpPr>
            <p:cNvPr id="69" name=""/>
            <p:cNvSpPr/>
            <p:nvPr/>
          </p:nvSpPr>
          <p:spPr>
            <a:xfrm flipH="1">
              <a:off x="1981080" y="4114800"/>
              <a:ext cx="533520" cy="914400"/>
            </a:xfrm>
            <a:prstGeom prst="line">
              <a:avLst/>
            </a:prstGeom>
            <a:ln cap="rnd" w="38160">
              <a:solidFill>
                <a:srgbClr val="a277e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066320" y="3962520"/>
              <a:ext cx="1295640" cy="990360"/>
            </a:xfrm>
            <a:prstGeom prst="line">
              <a:avLst/>
            </a:prstGeom>
            <a:ln cap="rnd" w="38160">
              <a:solidFill>
                <a:srgbClr val="a277e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19520" y="3962520"/>
              <a:ext cx="1676160" cy="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0" y="3581280"/>
              <a:ext cx="762120" cy="66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52880" y="1219320"/>
            <a:ext cx="4118760" cy="2514240"/>
            <a:chOff x="4952880" y="1219320"/>
            <a:chExt cx="4118760" cy="2514240"/>
          </a:xfrm>
        </p:grpSpPr>
        <p:sp>
          <p:nvSpPr>
            <p:cNvPr id="74" name=""/>
            <p:cNvSpPr/>
            <p:nvPr/>
          </p:nvSpPr>
          <p:spPr>
            <a:xfrm flipV="1">
              <a:off x="4952880" y="2286000"/>
              <a:ext cx="1676520" cy="137160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5105520" y="2133360"/>
              <a:ext cx="3047760" cy="1600200"/>
            </a:xfrm>
            <a:prstGeom prst="line">
              <a:avLst/>
            </a:prstGeom>
            <a:ln w="76320">
              <a:solidFill>
                <a:srgbClr val="a277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12589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67480" y="1219320"/>
              <a:ext cx="139536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638400" y="2879640"/>
              <a:ext cx="243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Workstations &amp; PC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5960" cy="6048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e103"/>
                </a:solidFill>
                <a:latin typeface="Arial"/>
              </a:rPr>
              <a:t>Berkeley Ninja Architecture</a:t>
            </a:r>
            <a:endParaRPr b="1" lang="en-US" sz="3800" spc="-1" strike="noStrike">
              <a:solidFill>
                <a:srgbClr val="ffe103"/>
              </a:solidFill>
              <a:latin typeface="Arial"/>
            </a:endParaRPr>
          </a:p>
        </p:txBody>
      </p:sp>
      <p:pic>
        <p:nvPicPr>
          <p:cNvPr id="80" name="pilot" descr=""/>
          <p:cNvPicPr/>
          <p:nvPr/>
        </p:nvPicPr>
        <p:blipFill>
          <a:blip r:embed="rId3"/>
          <a:stretch/>
        </p:blipFill>
        <p:spPr>
          <a:xfrm>
            <a:off x="7319880" y="4419720"/>
            <a:ext cx="98604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ageWriter_2000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777960" cy="1085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05120" y="2362320"/>
            <a:ext cx="2057400" cy="1371600"/>
          </a:xfrm>
          <a:prstGeom prst="line">
            <a:avLst/>
          </a:prstGeom>
          <a:ln w="76320">
            <a:solidFill>
              <a:srgbClr val="a27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5800" y="1219320"/>
            <a:ext cx="1257480" cy="1266840"/>
            <a:chOff x="685800" y="1219320"/>
            <a:chExt cx="1257480" cy="1266840"/>
          </a:xfrm>
        </p:grpSpPr>
        <p:grpSp>
          <p:nvGrpSpPr>
            <p:cNvPr id="84" name=""/>
            <p:cNvGrpSpPr/>
            <p:nvPr/>
          </p:nvGrpSpPr>
          <p:grpSpPr>
            <a:xfrm>
              <a:off x="800280" y="1219320"/>
              <a:ext cx="1143000" cy="1143000"/>
              <a:chOff x="800280" y="1219320"/>
              <a:chExt cx="1143000" cy="1143000"/>
            </a:xfrm>
          </p:grpSpPr>
          <p:sp>
            <p:nvSpPr>
              <p:cNvPr id="85" name=""/>
              <p:cNvSpPr/>
              <p:nvPr/>
            </p:nvSpPr>
            <p:spPr>
              <a:xfrm>
                <a:off x="183204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2748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2256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27360" y="138420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09800" y="13334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09800" y="163836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09800" y="1943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09800" y="22384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028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0520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0976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14680" y="12193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028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0520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40976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14680" y="152388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0028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0520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0976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14680" y="182880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0028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10520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0976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714680" y="2133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85800" y="1343160"/>
              <a:ext cx="1143000" cy="1143000"/>
              <a:chOff x="685800" y="1343160"/>
              <a:chExt cx="1143000" cy="1143000"/>
            </a:xfrm>
          </p:grpSpPr>
          <p:sp>
            <p:nvSpPr>
              <p:cNvPr id="110" name=""/>
              <p:cNvSpPr/>
              <p:nvPr/>
            </p:nvSpPr>
            <p:spPr>
              <a:xfrm>
                <a:off x="171756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1300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0808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2880" y="150804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95320" y="1457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95320" y="176220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5320" y="20671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5320" y="23623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8580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072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9528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00200" y="13431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580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9072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9528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00200" y="164772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580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99072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9528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00200" y="195264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8580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99072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9528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00200" y="2257560"/>
                <a:ext cx="228600" cy="22860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>
            <a:off x="2286000" y="135576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calable, highly-available platform for persistent-state 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S8121Atrans" descr=""/>
          <p:cNvPicPr/>
          <p:nvPr/>
        </p:nvPicPr>
        <p:blipFill>
          <a:blip r:embed="rId5"/>
          <a:stretch/>
        </p:blipFill>
        <p:spPr>
          <a:xfrm>
            <a:off x="1076400" y="4686480"/>
            <a:ext cx="1666800" cy="163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767040" y="3352680"/>
            <a:ext cx="1719360" cy="1241640"/>
            <a:chOff x="3767040" y="3352680"/>
            <a:chExt cx="1719360" cy="1241640"/>
          </a:xfrm>
        </p:grpSpPr>
        <p:sp>
          <p:nvSpPr>
            <p:cNvPr id="137" name=""/>
            <p:cNvSpPr/>
            <p:nvPr/>
          </p:nvSpPr>
          <p:spPr>
            <a:xfrm>
              <a:off x="3957840" y="3352680"/>
              <a:ext cx="1050840" cy="90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67040" y="340020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4560" y="368676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35560" y="3352680"/>
              <a:ext cx="859680" cy="76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26720" y="368676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01120" y="383004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26720" y="3448080"/>
              <a:ext cx="859680" cy="76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10320" y="3495960"/>
              <a:ext cx="1194120" cy="85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92280" y="3495960"/>
              <a:ext cx="955080" cy="71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4400" y="3448080"/>
              <a:ext cx="1194120" cy="85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047840" y="373392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40920" y="5943600"/>
            <a:ext cx="22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IBM Workp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040" y="6232680"/>
            <a:ext cx="27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llphones, Pager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4:27:45Z</dcterms:created>
  <dc:creator>Eric Brewer</dc:creator>
  <dc:description/>
  <dc:language>en-US</dc:language>
  <cp:lastModifiedBy>Eric A. Brewer</cp:lastModifiedBy>
  <dcterms:modified xsi:type="dcterms:W3CDTF">2001-10-18T20:05:12Z</dcterms:modified>
  <cp:revision>40</cp:revision>
  <dc:subject/>
  <dc:title>Title</dc:title>
</cp:coreProperties>
</file>