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8491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076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3992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1240" y="11426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3992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1240" y="38491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304560"/>
            <a:ext cx="8610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0760" y="38491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11426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8491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Click to edit the title text format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45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7727400" y="6405480"/>
            <a:ext cx="132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Slide </a:t>
            </a:r>
            <a:fld id="{F8A7C93E-CDC9-4C84-9583-576E35971AB0}" type="slidenum">
              <a:rPr b="1" lang="en-US" sz="1200" spc="-1" strike="noStrike">
                <a:solidFill>
                  <a:srgbClr val="91919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roc-logo2-white" descr=""/>
          <p:cNvPicPr/>
          <p:nvPr/>
        </p:nvPicPr>
        <p:blipFill>
          <a:blip r:embed="rId1"/>
          <a:stretch/>
        </p:blipFill>
        <p:spPr>
          <a:xfrm>
            <a:off x="0" y="4621320"/>
            <a:ext cx="2666880" cy="22366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Breaking databases for fun and publications: availability benchmarks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Aaron Brown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UC Berkeley ROC Group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HPTS 2001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Type 1: normal behavior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4952520"/>
            <a:ext cx="86281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System tolerates fault</a:t>
            </a:r>
            <a:endParaRPr b="1" lang="en-US" sz="2400" spc="-1" strike="noStrike">
              <a:solidFill>
                <a:srgbClr val="0000b4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Demonstrated for all sector-level faults except:</a:t>
            </a:r>
            <a:endParaRPr b="1" lang="en-US" sz="24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8"/>
                </a:solidFill>
                <a:latin typeface="Comic Sans MS"/>
              </a:rPr>
              <a:t>sticky uncorrectable read, data partition</a:t>
            </a:r>
            <a:endParaRPr b="0" lang="en-US" sz="2200" spc="-1" strike="noStrike">
              <a:solidFill>
                <a:srgbClr val="000078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8"/>
                </a:solidFill>
                <a:latin typeface="Comic Sans MS"/>
              </a:rPr>
              <a:t>sticky uncorrectable write, log partition</a:t>
            </a:r>
            <a:endParaRPr b="0" lang="en-US" sz="2200" spc="-1" strike="noStrike">
              <a:solidFill>
                <a:srgbClr val="000078"/>
              </a:solidFill>
              <a:latin typeface="Comic Sans MS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905120" y="1066680"/>
          <a:ext cx="5332320" cy="38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66680"/>
                    <a:ext cx="5332320" cy="38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Type 2: transient glitch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4952880"/>
            <a:ext cx="8628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One transaction is affected, aborts with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Subsequent transactions using same data would 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Demonstrated for one fault on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-221400">
              <a:lnSpc>
                <a:spcPct val="90000"/>
              </a:lnSpc>
              <a:spcBef>
                <a:spcPts val="825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8"/>
                </a:solidFill>
                <a:latin typeface="Comic Sans MS"/>
              </a:rPr>
              <a:t>sticky uncorrectable read, data par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43040" y="1063800"/>
          <a:ext cx="5348160" cy="37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063800"/>
                    <a:ext cx="534816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2678040" y="1417680"/>
            <a:ext cx="6145200" cy="3213000"/>
            <a:chOff x="2678040" y="1417680"/>
            <a:chExt cx="6145200" cy="3213000"/>
          </a:xfrm>
        </p:grpSpPr>
        <p:graphicFrame>
          <p:nvGraphicFramePr>
            <p:cNvPr id="148" name=""/>
            <p:cNvGraphicFramePr/>
            <p:nvPr/>
          </p:nvGraphicFramePr>
          <p:xfrm>
            <a:off x="6254640" y="1631880"/>
            <a:ext cx="2540160" cy="217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54640" y="1631880"/>
                      <a:ext cx="2540160" cy="21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6262560" y="1417680"/>
              <a:ext cx="2560680" cy="2592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78040" y="3909960"/>
              <a:ext cx="720720" cy="72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" name=""/>
            <p:cNvCxnSpPr>
              <a:stCxn id="151" idx="0"/>
              <a:endCxn id="150" idx="1"/>
            </p:cNvCxnSpPr>
            <p:nvPr/>
          </p:nvCxnSpPr>
          <p:spPr>
            <a:xfrm flipV="1">
              <a:off x="3038040" y="1782000"/>
              <a:ext cx="3599640" cy="2127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51" idx="4"/>
              <a:endCxn id="150" idx="4"/>
            </p:cNvCxnSpPr>
            <p:nvPr/>
          </p:nvCxnSpPr>
          <p:spPr>
            <a:xfrm flipV="1">
              <a:off x="3038040" y="4024080"/>
              <a:ext cx="4506120" cy="606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Type 3: degraded behavior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4952880"/>
            <a:ext cx="8628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DBMS survives error after running log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Middleware partially fails, results in degraded per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Demonstrated for one fault on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-221400">
              <a:lnSpc>
                <a:spcPct val="90000"/>
              </a:lnSpc>
              <a:spcBef>
                <a:spcPts val="825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8"/>
                </a:solidFill>
                <a:latin typeface="Comic Sans MS"/>
              </a:rPr>
              <a:t>sticky uncorrectable write, log par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897200" y="1054080"/>
          <a:ext cx="5348160" cy="37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7200" y="1054080"/>
                    <a:ext cx="534816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Type 4: failure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952880"/>
            <a:ext cx="8628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DBMS hangs or aborts all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Middleware behaves erratically, sometimes cra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Demonstrated for all fatal disk-level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-221400">
              <a:lnSpc>
                <a:spcPct val="90000"/>
              </a:lnSpc>
              <a:spcBef>
                <a:spcPts val="825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78"/>
                </a:solidFill>
                <a:latin typeface="Comic Sans MS"/>
              </a:rPr>
              <a:t>SCSI hangs, disk power fail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2120" y="1041480"/>
            <a:ext cx="86281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4"/>
                </a:solidFill>
                <a:latin typeface="Comic Sans MS"/>
              </a:rPr>
              <a:t>Example behaviors (10 distinct variants observ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6040" y="1531800"/>
          <a:ext cx="430848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1531800"/>
                    <a:ext cx="430848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660920" y="1515960"/>
          <a:ext cx="4307040" cy="308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0920" y="1515960"/>
                    <a:ext cx="430704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835200" y="4587840"/>
            <a:ext cx="3400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Disk hang during write to data 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75160" y="4587840"/>
            <a:ext cx="3281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6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Simulated log disk power fail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Motivation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Drinking the availability Kool-Aid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availability is </a:t>
            </a:r>
            <a:r>
              <a:rPr b="0" i="1" lang="en-US" sz="2400" spc="-1" strike="noStrike">
                <a:solidFill>
                  <a:srgbClr val="000078"/>
                </a:solidFill>
                <a:latin typeface="Comic Sans MS"/>
              </a:rPr>
              <a:t>the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 key metric for modern apps.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b4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Database stack’s availability is especially important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guardians of the world’s hard state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almost any user’s request for electronic information hits a database stack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45"/>
              </a:buClr>
              <a:buFont typeface="Comic Sans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45"/>
                </a:solidFill>
                <a:latin typeface="Comic Sans MS"/>
              </a:rPr>
              <a:t>web services, directories, enterprise apps, ...</a:t>
            </a:r>
            <a:endParaRPr b="0" lang="en-US" sz="2200" spc="-1" strike="noStrike">
              <a:solidFill>
                <a:srgbClr val="000045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b4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Can we trust database software stacks in the face of failure?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710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Availability benchmarks quantify system behavior under failures, maintenance, recovery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541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541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541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541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541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They require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10200" indent="-2034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a realistic workload for the system: </a:t>
            </a:r>
            <a:r>
              <a:rPr b="0" lang="en-US" sz="2400" spc="-1" strike="noStrike">
                <a:solidFill>
                  <a:srgbClr val="00ae00"/>
                </a:solidFill>
                <a:latin typeface="Comic Sans MS"/>
              </a:rPr>
              <a:t>TPC-C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10200" indent="-2034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quality of service metrics: </a:t>
            </a:r>
            <a:r>
              <a:rPr b="0" lang="en-US" sz="2400" spc="-1" strike="noStrike">
                <a:solidFill>
                  <a:srgbClr val="00ae00"/>
                </a:solidFill>
                <a:latin typeface="Comic Sans MS"/>
              </a:rPr>
              <a:t>txn rates, OK and aborted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10200" indent="-2034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fault-injection to simulate failures: </a:t>
            </a:r>
            <a:r>
              <a:rPr b="0" lang="en-US" sz="2400" spc="-1" strike="noStrike">
                <a:solidFill>
                  <a:srgbClr val="00ae00"/>
                </a:solidFill>
                <a:latin typeface="Comic Sans MS"/>
              </a:rPr>
              <a:t>single-disk errors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14400" y="2128680"/>
          <a:ext cx="6934320" cy="22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28680"/>
                    <a:ext cx="693432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" name=""/>
          <p:cNvGrpSpPr/>
          <p:nvPr/>
        </p:nvGrpSpPr>
        <p:grpSpPr>
          <a:xfrm>
            <a:off x="3114360" y="3597120"/>
            <a:ext cx="1535040" cy="123840"/>
            <a:chOff x="3114360" y="3597120"/>
            <a:chExt cx="1535040" cy="123840"/>
          </a:xfrm>
        </p:grpSpPr>
        <p:sp>
          <p:nvSpPr>
            <p:cNvPr id="48" name=""/>
            <p:cNvSpPr/>
            <p:nvPr/>
          </p:nvSpPr>
          <p:spPr>
            <a:xfrm>
              <a:off x="3114720" y="3597120"/>
              <a:ext cx="0" cy="12384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49400" y="3597120"/>
              <a:ext cx="0" cy="12384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114360" y="3720960"/>
              <a:ext cx="1534680" cy="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259080" y="369108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Comic Sans MS"/>
              </a:rPr>
              <a:t>Repair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14920" y="2951280"/>
            <a:ext cx="160200" cy="726840"/>
          </a:xfrm>
          <a:custGeom>
            <a:avLst/>
            <a:gdLst>
              <a:gd name="textAreaLeft" fmla="*/ 0 w 160200"/>
              <a:gd name="textAreaRight" fmla="*/ 57960 w 160200"/>
              <a:gd name="textAreaTop" fmla="*/ 18720 h 726840"/>
              <a:gd name="textAreaBottom" fmla="*/ 708120 h 72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27600" y="316404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</a:rPr>
              <a:t>QoS degra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43880" y="3284640"/>
            <a:ext cx="8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mic Sans MS"/>
              </a:rPr>
              <a:t>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80240" y="2425680"/>
            <a:ext cx="186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normal behavior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(99% conf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38840" y="2400480"/>
            <a:ext cx="182520" cy="534960"/>
          </a:xfrm>
          <a:custGeom>
            <a:avLst/>
            <a:gdLst>
              <a:gd name="textAreaLeft" fmla="*/ 0 w 182520"/>
              <a:gd name="textAreaRight" fmla="*/ 65880 w 182520"/>
              <a:gd name="textAreaTop" fmla="*/ 13680 h 534960"/>
              <a:gd name="textAreaBottom" fmla="*/ 521280 h 53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Availability benchmarking 101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Well, what happens?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961560"/>
            <a:ext cx="8724960" cy="338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Setup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3-tier: Microsoft SQLServer/COM+/IIS &amp; bus. logic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TPC-C-like workload; faults injected into DB data &amp; log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82960" indent="-28296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Results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DBMS tolerates transient and recoverable failures, reflecting errors back via transaction aborts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middleware highly unstable: degrades or crashes when DBMS fails or undergoes lengthy recovery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2160" y="4386240"/>
            <a:ext cx="3589200" cy="2401920"/>
            <a:chOff x="4772160" y="4386240"/>
            <a:chExt cx="3589200" cy="2401920"/>
          </a:xfrm>
        </p:grpSpPr>
        <p:graphicFrame>
          <p:nvGraphicFramePr>
            <p:cNvPr id="61" name=""/>
            <p:cNvGraphicFramePr/>
            <p:nvPr/>
          </p:nvGraphicFramePr>
          <p:xfrm>
            <a:off x="4772160" y="4386240"/>
            <a:ext cx="3376440" cy="2401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72160" y="4386240"/>
                      <a:ext cx="3376440" cy="24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4960800" y="4427280"/>
              <a:ext cx="34005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 algn="ctr">
                <a:lnSpc>
                  <a:spcPct val="6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b4"/>
                  </a:solidFill>
                  <a:latin typeface="Comic Sans MS"/>
                </a:rPr>
                <a:t>Disk hang during write to data dis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72880" y="4368960"/>
            <a:ext cx="3348360" cy="2399760"/>
            <a:chOff x="272880" y="4368960"/>
            <a:chExt cx="3348360" cy="2399760"/>
          </a:xfrm>
        </p:grpSpPr>
        <p:graphicFrame>
          <p:nvGraphicFramePr>
            <p:cNvPr id="65" name=""/>
            <p:cNvGraphicFramePr/>
            <p:nvPr/>
          </p:nvGraphicFramePr>
          <p:xfrm>
            <a:off x="272880" y="4392360"/>
            <a:ext cx="3348360" cy="2376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2880" y="4392360"/>
                      <a:ext cx="3348360" cy="23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30360" y="4368960"/>
              <a:ext cx="2939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b4"/>
                  </a:solidFill>
                  <a:latin typeface="Comic Sans MS"/>
                </a:rPr>
                <a:t>sticky uncorrectable write error, log dis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944800" y="5353200"/>
            <a:ext cx="18478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middleware causes</a:t>
            </a:r>
            <a:br>
              <a:rPr sz="1200"/>
            </a:b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degraded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98640" y="4675320"/>
            <a:ext cx="1400040" cy="695160"/>
          </a:xfrm>
          <a:prstGeom prst="ellipse">
            <a:avLst/>
          </a:prstGeom>
          <a:noFill/>
          <a:ln w="19080">
            <a:solidFill>
              <a:srgbClr val="0000b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139560" y="5232240"/>
            <a:ext cx="196920" cy="214560"/>
          </a:xfrm>
          <a:prstGeom prst="line">
            <a:avLst/>
          </a:prstGeom>
          <a:ln w="19080">
            <a:solidFill>
              <a:srgbClr val="0000b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76840" y="5776920"/>
            <a:ext cx="8787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database </a:t>
            </a:r>
            <a:br>
              <a:rPr sz="1200"/>
            </a:b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reco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851120" y="5979960"/>
            <a:ext cx="318960" cy="430200"/>
          </a:xfrm>
          <a:prstGeom prst="line">
            <a:avLst/>
          </a:prstGeom>
          <a:ln w="19080">
            <a:solidFill>
              <a:srgbClr val="0000b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27280" y="5157720"/>
            <a:ext cx="17460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database fails, </a:t>
            </a:r>
            <a:br>
              <a:rPr sz="1200"/>
            </a:b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middleware degr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23040" y="5634000"/>
            <a:ext cx="10310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middleware</a:t>
            </a:r>
            <a:br>
              <a:rPr sz="1200"/>
            </a:b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crash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92720" y="5504040"/>
            <a:ext cx="162000" cy="915840"/>
          </a:xfrm>
          <a:prstGeom prst="line">
            <a:avLst/>
          </a:prstGeom>
          <a:ln w="12600">
            <a:solidFill>
              <a:srgbClr val="0000b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61320" y="5848200"/>
            <a:ext cx="374400" cy="568440"/>
          </a:xfrm>
          <a:prstGeom prst="line">
            <a:avLst/>
          </a:prstGeom>
          <a:ln w="12600">
            <a:solidFill>
              <a:srgbClr val="0000b4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Summary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Database is pretty resilient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78600" indent="-226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transaction abort == good error-reflection mechanism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82960" indent="-28296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Middleware/applications suck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590920"/>
            <a:ext cx="861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lvl="1" marL="67176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(well, at least this instance of th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Robustness is end-to-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user cannot distinguish DBMS and middleware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failure recovery must go beyond the 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Achievable Grand Challe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build and run availability benchmarks on you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tolerate and recover from non-failstop system-level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Comic Sans MS"/>
              </a:rPr>
              <a:t>Does performance ma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Backup slides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Experimental setup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Database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Microsoft SQL Server 2000, default configuration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Middleware/front-end software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Microsoft COM+ transaction monitor/coordinator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IIS 5.0 web server with Microsoft’s </a:t>
            </a:r>
            <a:r>
              <a:rPr b="1" lang="en-US" sz="2400" spc="-1" strike="noStrike">
                <a:solidFill>
                  <a:srgbClr val="000078"/>
                </a:solidFill>
                <a:latin typeface="Courier New"/>
              </a:rPr>
              <a:t>tpcc.dll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 HTML terminal interface and business logic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Microsoft BenchCraft remote terminal emulator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TPC-C-like OLTP order-entry workload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10 warehouses, 100 active users, ~860 MB database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71440" indent="-2714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Measured metrics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throughput of correct NewOrder transactions/min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51240" indent="-21708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rate of aborted NewOrder transactions (txn/min)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Experimental setup (2)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55576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4"/>
                </a:solidFill>
                <a:latin typeface="Comic Sans MS"/>
              </a:rPr>
              <a:t>Database installed in one of two configurations:</a:t>
            </a:r>
            <a:endParaRPr b="1" lang="en-US" sz="24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8"/>
                </a:solidFill>
                <a:latin typeface="Comic Sans MS"/>
              </a:rPr>
              <a:t>data on emulated disk, log on real (IBM) disk</a:t>
            </a:r>
            <a:endParaRPr b="0" lang="en-US" sz="2000" spc="-1" strike="noStrike">
              <a:solidFill>
                <a:srgbClr val="000078"/>
              </a:solidFill>
              <a:latin typeface="Comic Sans MS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8"/>
                </a:solidFill>
                <a:latin typeface="Comic Sans MS"/>
              </a:rPr>
              <a:t>data on real (IBM) disk, log on emulated disk</a:t>
            </a:r>
            <a:endParaRPr b="0" lang="en-US" sz="2000" spc="-1" strike="noStrike">
              <a:solidFill>
                <a:srgbClr val="000078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4754160" y="3857040"/>
            <a:ext cx="80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B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8 G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k R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698200" y="1212840"/>
            <a:ext cx="1842840" cy="3705120"/>
          </a:xfrm>
          <a:prstGeom prst="cube">
            <a:avLst>
              <a:gd name="adj" fmla="val 568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7840" y="129600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D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836520" y="1903320"/>
            <a:ext cx="688320" cy="745560"/>
            <a:chOff x="3836520" y="1903320"/>
            <a:chExt cx="688320" cy="745560"/>
          </a:xfrm>
        </p:grpSpPr>
        <p:sp>
          <p:nvSpPr>
            <p:cNvPr id="89" name=""/>
            <p:cNvSpPr/>
            <p:nvPr/>
          </p:nvSpPr>
          <p:spPr>
            <a:xfrm>
              <a:off x="3898800" y="1903320"/>
              <a:ext cx="546120" cy="73656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0000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36520" y="2062440"/>
              <a:ext cx="68832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b4"/>
                  </a:solidFill>
                  <a:latin typeface="Comic Sans MS"/>
                </a:rPr>
                <a:t>IDE</a:t>
              </a:r>
              <a:br>
                <a:rPr sz="1200"/>
              </a:br>
              <a:r>
                <a:rPr b="0" lang="en-US" sz="1200" spc="-1" strike="noStrike">
                  <a:solidFill>
                    <a:srgbClr val="0000b4"/>
                  </a:solidFill>
                  <a:latin typeface="Comic Sans MS"/>
                </a:rPr>
                <a:t>system</a:t>
              </a:r>
              <a:br>
                <a:rPr sz="1200"/>
              </a:br>
              <a:r>
                <a:rPr b="0" lang="en-US" sz="1200" spc="-1" strike="noStrike">
                  <a:solidFill>
                    <a:srgbClr val="0000b4"/>
                  </a:solidFill>
                  <a:latin typeface="Comic Sans MS"/>
                </a:rPr>
                <a:t>di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137040" y="5126400"/>
            <a:ext cx="3500280" cy="307080"/>
            <a:chOff x="3137040" y="5126400"/>
            <a:chExt cx="3500280" cy="307080"/>
          </a:xfrm>
        </p:grpSpPr>
        <p:sp>
          <p:nvSpPr>
            <p:cNvPr id="92" name=""/>
            <p:cNvSpPr/>
            <p:nvPr/>
          </p:nvSpPr>
          <p:spPr>
            <a:xfrm>
              <a:off x="3753000" y="5126400"/>
              <a:ext cx="288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8000"/>
                  </a:solidFill>
                  <a:latin typeface="Comic Sans MS"/>
                </a:rPr>
                <a:t>= Fast/Wide SCSI bus, 20 MB/s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37040" y="5189400"/>
              <a:ext cx="561960" cy="158760"/>
            </a:xfrm>
            <a:custGeom>
              <a:avLst/>
              <a:gdLst/>
              <a:ahLst/>
              <a:rect l="l" t="t" r="r" b="b"/>
              <a:pathLst>
                <a:path w="589" h="111">
                  <a:moveTo>
                    <a:pt x="0" y="86"/>
                  </a:moveTo>
                  <a:cubicBezTo>
                    <a:pt x="67" y="43"/>
                    <a:pt x="134" y="0"/>
                    <a:pt x="197" y="4"/>
                  </a:cubicBezTo>
                  <a:cubicBezTo>
                    <a:pt x="260" y="8"/>
                    <a:pt x="312" y="105"/>
                    <a:pt x="377" y="108"/>
                  </a:cubicBezTo>
                  <a:cubicBezTo>
                    <a:pt x="442" y="111"/>
                    <a:pt x="552" y="36"/>
                    <a:pt x="589" y="21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873600" y="3059280"/>
            <a:ext cx="72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b4"/>
                </a:solidFill>
                <a:latin typeface="Comic Sans MS"/>
              </a:rPr>
              <a:t>Adaptec</a:t>
            </a:r>
            <a:br>
              <a:rPr sz="1100"/>
            </a:br>
            <a:r>
              <a:rPr b="0" lang="en-US" sz="1100" spc="-1" strike="noStrike">
                <a:solidFill>
                  <a:srgbClr val="0000b4"/>
                </a:solidFill>
                <a:latin typeface="Comic Sans MS"/>
              </a:rPr>
              <a:t>39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6" idx="1"/>
          </p:cNvCxnSpPr>
          <p:nvPr/>
        </p:nvCxnSpPr>
        <p:spPr>
          <a:xfrm flipV="1" rot="16200000">
            <a:off x="4737240" y="3163680"/>
            <a:ext cx="242280" cy="602640"/>
          </a:xfrm>
          <a:prstGeom prst="curvedConnector2">
            <a:avLst/>
          </a:prstGeom>
          <a:ln w="38160">
            <a:solidFill>
              <a:srgbClr val="008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4807080" y="3600360"/>
            <a:ext cx="703080" cy="9525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41760" y="3273480"/>
            <a:ext cx="109404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99080" y="1838160"/>
            <a:ext cx="863640" cy="1422720"/>
            <a:chOff x="4699080" y="1838160"/>
            <a:chExt cx="863640" cy="1422720"/>
          </a:xfrm>
        </p:grpSpPr>
        <p:sp>
          <p:nvSpPr>
            <p:cNvPr id="99" name=""/>
            <p:cNvSpPr/>
            <p:nvPr/>
          </p:nvSpPr>
          <p:spPr>
            <a:xfrm>
              <a:off x="4749840" y="1838160"/>
              <a:ext cx="747720" cy="952560"/>
            </a:xfrm>
            <a:prstGeom prst="can">
              <a:avLst>
                <a:gd name="adj" fmla="val 25000"/>
              </a:avLst>
            </a:prstGeom>
            <a:noFill/>
            <a:ln w="28440">
              <a:solidFill>
                <a:srgbClr val="00007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99080" y="2169360"/>
              <a:ext cx="863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78"/>
                  </a:solidFill>
                  <a:latin typeface="Comic Sans MS"/>
                </a:rPr>
                <a:t>Emulated</a:t>
              </a:r>
              <a:br>
                <a:rPr sz="1200"/>
              </a:br>
              <a:r>
                <a:rPr b="0" lang="en-US" sz="1200" spc="-1" strike="noStrike">
                  <a:solidFill>
                    <a:srgbClr val="000078"/>
                  </a:solidFill>
                  <a:latin typeface="Comic Sans MS"/>
                </a:rPr>
                <a:t>Di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32520" y="2685960"/>
              <a:ext cx="0" cy="57492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 rot="16200000">
            <a:off x="5079960" y="4187880"/>
            <a:ext cx="138240" cy="874800"/>
          </a:xfrm>
          <a:custGeom>
            <a:avLst/>
            <a:gdLst>
              <a:gd name="textAreaLeft" fmla="*/ 88200 w 138240"/>
              <a:gd name="textAreaRight" fmla="*/ 138600 w 138240"/>
              <a:gd name="textAreaTop" fmla="*/ 22680 h 874800"/>
              <a:gd name="textAreaBottom" fmla="*/ 852120 h 87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54160" y="4717440"/>
            <a:ext cx="8085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DB data/</a:t>
            </a:r>
            <a:br>
              <a:rPr sz="1200"/>
            </a:br>
            <a:r>
              <a:rPr b="0" lang="en-US" sz="1200" spc="-1" strike="noStrike">
                <a:solidFill>
                  <a:srgbClr val="0000b4"/>
                </a:solidFill>
                <a:latin typeface="Comic Sans MS"/>
              </a:rPr>
              <a:t>log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9440" y="1214280"/>
            <a:ext cx="1842840" cy="3705480"/>
          </a:xfrm>
          <a:prstGeom prst="cube">
            <a:avLst>
              <a:gd name="adj" fmla="val 568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040" y="129600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Front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14000" y="1884240"/>
            <a:ext cx="688320" cy="763200"/>
            <a:chOff x="1314000" y="1884240"/>
            <a:chExt cx="688320" cy="763200"/>
          </a:xfrm>
        </p:grpSpPr>
        <p:sp>
          <p:nvSpPr>
            <p:cNvPr id="107" name=""/>
            <p:cNvSpPr/>
            <p:nvPr/>
          </p:nvSpPr>
          <p:spPr>
            <a:xfrm>
              <a:off x="1360080" y="1884240"/>
              <a:ext cx="567000" cy="763200"/>
            </a:xfrm>
            <a:prstGeom prst="can">
              <a:avLst>
                <a:gd name="adj" fmla="val 25000"/>
              </a:avLst>
            </a:prstGeom>
            <a:noFill/>
            <a:ln w="19080">
              <a:solidFill>
                <a:srgbClr val="0000b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14000" y="2057040"/>
              <a:ext cx="68832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b4"/>
                  </a:solidFill>
                  <a:latin typeface="Comic Sans MS"/>
                </a:rPr>
                <a:t>SCSI</a:t>
              </a:r>
              <a:br>
                <a:rPr sz="1200"/>
              </a:br>
              <a:r>
                <a:rPr b="0" lang="en-US" sz="1200" spc="-1" strike="noStrike">
                  <a:solidFill>
                    <a:srgbClr val="0000b4"/>
                  </a:solidFill>
                  <a:latin typeface="Comic Sans MS"/>
                </a:rPr>
                <a:t>system</a:t>
              </a:r>
              <a:br>
                <a:rPr sz="1200"/>
              </a:br>
              <a:r>
                <a:rPr b="0" lang="en-US" sz="1200" spc="-1" strike="noStrike">
                  <a:solidFill>
                    <a:srgbClr val="0000b4"/>
                  </a:solidFill>
                  <a:latin typeface="Comic Sans MS"/>
                </a:rPr>
                <a:t>di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031840" y="3094200"/>
            <a:ext cx="717840" cy="176040"/>
          </a:xfrm>
          <a:custGeom>
            <a:avLst/>
            <a:gdLst/>
            <a:ahLst/>
            <a:rect l="l" t="t" r="r" b="b"/>
            <a:pathLst>
              <a:path w="589" h="111">
                <a:moveTo>
                  <a:pt x="0" y="86"/>
                </a:moveTo>
                <a:cubicBezTo>
                  <a:pt x="67" y="43"/>
                  <a:pt x="134" y="0"/>
                  <a:pt x="197" y="4"/>
                </a:cubicBezTo>
                <a:cubicBezTo>
                  <a:pt x="260" y="8"/>
                  <a:pt x="312" y="105"/>
                  <a:pt x="377" y="108"/>
                </a:cubicBezTo>
                <a:cubicBezTo>
                  <a:pt x="442" y="111"/>
                  <a:pt x="552" y="36"/>
                  <a:pt x="589" y="21"/>
                </a:cubicBezTo>
              </a:path>
            </a:pathLst>
          </a:custGeom>
          <a:noFill/>
          <a:ln w="38160">
            <a:solidFill>
              <a:srgbClr val="dc2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08080" y="3268800"/>
            <a:ext cx="749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c2f00"/>
                </a:solidFill>
                <a:latin typeface="Comic Sans MS"/>
              </a:rPr>
              <a:t>100mb</a:t>
            </a:r>
            <a:br>
              <a:rPr sz="1200"/>
            </a:br>
            <a:r>
              <a:rPr b="0" lang="en-US" sz="1100" spc="-1" strike="noStrike">
                <a:solidFill>
                  <a:srgbClr val="dc2f00"/>
                </a:solidFill>
                <a:latin typeface="Comic Sans MS"/>
              </a:rPr>
              <a:t>Ether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571000" y="1209600"/>
            <a:ext cx="3583080" cy="3711600"/>
            <a:chOff x="5571000" y="1209600"/>
            <a:chExt cx="3583080" cy="3711600"/>
          </a:xfrm>
        </p:grpSpPr>
        <p:grpSp>
          <p:nvGrpSpPr>
            <p:cNvPr id="112" name=""/>
            <p:cNvGrpSpPr/>
            <p:nvPr/>
          </p:nvGrpSpPr>
          <p:grpSpPr>
            <a:xfrm>
              <a:off x="5571000" y="1209600"/>
              <a:ext cx="3583080" cy="3711600"/>
              <a:chOff x="5571000" y="1209600"/>
              <a:chExt cx="3583080" cy="371160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8232480" y="1687680"/>
                <a:ext cx="801000" cy="952200"/>
                <a:chOff x="8232480" y="1687680"/>
                <a:chExt cx="801000" cy="9522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8270640" y="1687680"/>
                  <a:ext cx="703080" cy="952200"/>
                </a:xfrm>
                <a:prstGeom prst="can">
                  <a:avLst>
                    <a:gd name="adj" fmla="val 25000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232480" y="1928160"/>
                  <a:ext cx="8010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IBM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18 GB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10k RP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5640480" y="1209600"/>
                <a:ext cx="1930320" cy="3705480"/>
              </a:xfrm>
              <a:prstGeom prst="cube">
                <a:avLst>
                  <a:gd name="adj" fmla="val 5685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6735240" y="1857240"/>
                <a:ext cx="688320" cy="745560"/>
                <a:chOff x="6735240" y="1857240"/>
                <a:chExt cx="688320" cy="7455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797520" y="1857240"/>
                  <a:ext cx="546120" cy="736560"/>
                </a:xfrm>
                <a:prstGeom prst="can">
                  <a:avLst>
                    <a:gd name="adj" fmla="val 25000"/>
                  </a:avLst>
                </a:prstGeom>
                <a:noFill/>
                <a:ln w="19080">
                  <a:solidFill>
                    <a:srgbClr val="0000b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735240" y="2016360"/>
                  <a:ext cx="68832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b4"/>
                      </a:solidFill>
                      <a:latin typeface="Comic Sans MS"/>
                    </a:rPr>
                    <a:t>SCSI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b4"/>
                      </a:solidFill>
                      <a:latin typeface="Comic Sans MS"/>
                    </a:rPr>
                    <a:t>system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b4"/>
                      </a:solidFill>
                      <a:latin typeface="Comic Sans MS"/>
                    </a:rPr>
                    <a:t>disk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5571000" y="1297800"/>
                <a:ext cx="197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ff"/>
                    </a:solidFill>
                    <a:latin typeface="Comic Sans MS"/>
                  </a:rPr>
                  <a:t>Disk Emula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96000" y="4187880"/>
                <a:ext cx="15235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b4"/>
                    </a:solidFill>
                    <a:latin typeface="Comic Sans MS"/>
                  </a:rPr>
                  <a:t>Intel P-II/300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b4"/>
                    </a:solidFill>
                    <a:latin typeface="Comic Sans MS"/>
                  </a:rPr>
                  <a:t>128 MB DRAM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b4"/>
                    </a:solidFill>
                    <a:latin typeface="Comic Sans MS"/>
                  </a:rPr>
                  <a:t>Windows NT 4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780240" y="3060720"/>
                <a:ext cx="7203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b4"/>
                    </a:solidFill>
                    <a:latin typeface="Comic Sans MS"/>
                  </a:rPr>
                  <a:t>Adaptec</a:t>
                </a:r>
                <a:br>
                  <a:rPr sz="1100"/>
                </a:br>
                <a:r>
                  <a:rPr b="0" lang="en-US" sz="1100" spc="-1" strike="noStrike">
                    <a:solidFill>
                      <a:srgbClr val="0000b4"/>
                    </a:solidFill>
                    <a:latin typeface="Comic Sans MS"/>
                  </a:rPr>
                  <a:t>294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3" name=""/>
              <p:cNvCxnSpPr>
                <a:stCxn id="122" idx="3"/>
                <a:endCxn id="119" idx="2"/>
              </p:cNvCxnSpPr>
              <p:nvPr/>
            </p:nvCxnSpPr>
            <p:spPr>
              <a:xfrm flipH="1" flipV="1">
                <a:off x="7079760" y="2602800"/>
                <a:ext cx="424800" cy="672120"/>
              </a:xfrm>
              <a:prstGeom prst="curvedConnector5">
                <a:avLst>
                  <a:gd name="adj1" fmla="val -53859"/>
                  <a:gd name="adj2" fmla="val 32958"/>
                  <a:gd name="adj3" fmla="val -53859"/>
                </a:avLst>
              </a:prstGeom>
              <a:ln w="38160">
                <a:solidFill>
                  <a:srgbClr val="008000"/>
                </a:solidFill>
                <a:miter/>
              </a:ln>
            </p:spPr>
          </p:cxnSp>
          <p:cxnSp>
            <p:nvCxnSpPr>
              <p:cNvPr id="124" name=""/>
              <p:cNvCxnSpPr>
                <a:stCxn id="119" idx="2"/>
                <a:endCxn id="114" idx="2"/>
              </p:cNvCxnSpPr>
              <p:nvPr/>
            </p:nvCxnSpPr>
            <p:spPr>
              <a:xfrm flipH="1" flipV="1" rot="5400000">
                <a:off x="7448040" y="1794960"/>
                <a:ext cx="440640" cy="1177200"/>
              </a:xfrm>
              <a:prstGeom prst="curvedConnector5">
                <a:avLst>
                  <a:gd name="adj1" fmla="val -12919"/>
                  <a:gd name="adj2" fmla="val 32578"/>
                  <a:gd name="adj3" fmla="val -12919"/>
                </a:avLst>
              </a:prstGeom>
              <a:ln w="38160">
                <a:solidFill>
                  <a:srgbClr val="008000"/>
                </a:solidFill>
                <a:miter/>
              </a:ln>
            </p:spPr>
          </p:cxnSp>
          <p:sp>
            <p:nvSpPr>
              <p:cNvPr id="125" name=""/>
              <p:cNvSpPr/>
              <p:nvPr/>
            </p:nvSpPr>
            <p:spPr>
              <a:xfrm rot="16200000">
                <a:off x="8535960" y="2270160"/>
                <a:ext cx="138240" cy="874800"/>
              </a:xfrm>
              <a:custGeom>
                <a:avLst/>
                <a:gdLst>
                  <a:gd name="textAreaLeft" fmla="*/ 88200 w 138240"/>
                  <a:gd name="textAreaRight" fmla="*/ 138600 w 138240"/>
                  <a:gd name="textAreaTop" fmla="*/ 22680 h 874800"/>
                  <a:gd name="textAreaBottom" fmla="*/ 852120 h 87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083440" y="2758680"/>
                <a:ext cx="10706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b4"/>
                    </a:solidFill>
                    <a:latin typeface="Comic Sans MS"/>
                  </a:rPr>
                  <a:t>emulator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b4"/>
                    </a:solidFill>
                    <a:latin typeface="Comic Sans MS"/>
                  </a:rPr>
                  <a:t>backing disk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b4"/>
                    </a:solidFill>
                    <a:latin typeface="Comic Sans MS"/>
                  </a:rPr>
                  <a:t>(NTF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65760" y="4200480"/>
                <a:ext cx="1585800" cy="0"/>
              </a:xfrm>
              <a:prstGeom prst="line">
                <a:avLst/>
              </a:prstGeom>
              <a:ln w="19080">
                <a:solidFill>
                  <a:srgbClr val="0000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35080" y="3062160"/>
                <a:ext cx="79632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b4"/>
                    </a:solidFill>
                    <a:latin typeface="Comic Sans MS"/>
                  </a:rPr>
                  <a:t>AdvStor</a:t>
                </a:r>
                <a:br>
                  <a:rPr sz="1100"/>
                </a:br>
                <a:r>
                  <a:rPr b="0" lang="en-US" sz="1100" spc="-1" strike="noStrike">
                    <a:solidFill>
                      <a:srgbClr val="0000b4"/>
                    </a:solidFill>
                    <a:latin typeface="Comic Sans MS"/>
                  </a:rPr>
                  <a:t>ASC-U2W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690800">
                <a:off x="7519320" y="2029680"/>
                <a:ext cx="7981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8000"/>
                    </a:solidFill>
                    <a:latin typeface="Comic Sans MS"/>
                  </a:rPr>
                  <a:t>UltraSCSI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5697000" y="389304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b4"/>
                  </a:solidFill>
                  <a:latin typeface="Comic Sans MS"/>
                </a:rPr>
                <a:t>ASC VirtualSCSI li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19680" y="4186440"/>
            <a:ext cx="165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Intel P-III/450</a:t>
            </a:r>
            <a:br>
              <a:rPr sz="1400"/>
            </a:b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256 MB DRAM</a:t>
            </a:r>
            <a:br>
              <a:rPr sz="1400"/>
            </a:b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Windows 2000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7120" y="4199040"/>
            <a:ext cx="1586160" cy="0"/>
          </a:xfrm>
          <a:prstGeom prst="line">
            <a:avLst/>
          </a:prstGeom>
          <a:ln w="19080">
            <a:solidFill>
              <a:srgbClr val="0000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960" y="3480120"/>
            <a:ext cx="177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MS BenchCraft RTE</a:t>
            </a:r>
            <a:br>
              <a:rPr sz="1400"/>
            </a:b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IIS + MS tpcc.dll</a:t>
            </a:r>
            <a:br>
              <a:rPr sz="1400"/>
            </a:b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MS COM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67760" y="4183200"/>
            <a:ext cx="165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AMD K6-2/333</a:t>
            </a:r>
            <a:br>
              <a:rPr sz="1400"/>
            </a:b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128 MB DRAM</a:t>
            </a:r>
            <a:br>
              <a:rPr sz="1400"/>
            </a:b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Windows 2000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00520" y="4195800"/>
            <a:ext cx="1585800" cy="0"/>
          </a:xfrm>
          <a:prstGeom prst="line">
            <a:avLst/>
          </a:prstGeom>
          <a:ln w="19080">
            <a:solidFill>
              <a:srgbClr val="0000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42280" y="3888360"/>
            <a:ext cx="154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4"/>
                </a:solidFill>
                <a:latin typeface="Comic Sans MS"/>
              </a:rPr>
              <a:t>SQL Serv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c2f00"/>
                </a:solidFill>
                <a:latin typeface="Comic Sans MS"/>
              </a:rPr>
              <a:t>Results</a:t>
            </a:r>
            <a:endParaRPr b="1" lang="en-US" sz="3800" spc="-1" strike="noStrike">
              <a:solidFill>
                <a:srgbClr val="dc2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All results are from single-fault micro-benchmarks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14 different fault types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7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injected once for each of data and log partitions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b4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4"/>
                </a:solidFill>
                <a:latin typeface="Comic Sans MS"/>
              </a:rPr>
              <a:t>4 categories of behavior detected</a:t>
            </a:r>
            <a:endParaRPr b="1" lang="en-US" sz="2800" spc="-1" strike="noStrike">
              <a:solidFill>
                <a:srgbClr val="0000b4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1) 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normal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2) 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transient glitch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3)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degraded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4)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78"/>
                </a:solidFill>
                <a:latin typeface="Comic Sans MS"/>
              </a:rPr>
              <a:t>failed</a:t>
            </a:r>
            <a:endParaRPr b="0" lang="en-US" sz="2400" spc="-1" strike="noStrike">
              <a:solidFill>
                <a:srgbClr val="000078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5T17:41:17Z</dcterms:created>
  <dc:creator>Aaron Brown</dc:creator>
  <dc:description/>
  <dc:language>en-US</dc:language>
  <cp:lastModifiedBy>Aaron Brown</cp:lastModifiedBy>
  <dcterms:modified xsi:type="dcterms:W3CDTF">2001-10-15T19:04:42Z</dcterms:modified>
  <cp:revision>5</cp:revision>
  <dc:subject/>
  <dc:title>Database Availability Benchmarking: an example</dc:title>
</cp:coreProperties>
</file>