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Click to edit the title text format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4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727400" y="640548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Slide </a:t>
            </a:r>
            <a:fld id="{89E5F61A-2081-40BE-8995-2DABFC10E858}" type="slidenum">
              <a:rPr b="1" lang="en-US" sz="12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roc-logo2-white" descr=""/>
          <p:cNvPicPr/>
          <p:nvPr/>
        </p:nvPicPr>
        <p:blipFill>
          <a:blip r:embed="rId1"/>
          <a:stretch/>
        </p:blipFill>
        <p:spPr>
          <a:xfrm>
            <a:off x="0" y="4621320"/>
            <a:ext cx="2666880" cy="2236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reaking databases for fun and publications: availability benchmark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aron Brown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UC Berkeley ROC Gro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HPTS 2001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1: normal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628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ystem tolerates fault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sector-level faults except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05120" y="1066680"/>
          <a:ext cx="53323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3323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2: transient glitch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One transaction is affected, aborts with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ubsequent transactions using same data would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43040" y="1063800"/>
          <a:ext cx="534816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063800"/>
                    <a:ext cx="53481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2678040" y="1417680"/>
            <a:ext cx="6145200" cy="3213000"/>
            <a:chOff x="2678040" y="1417680"/>
            <a:chExt cx="6145200" cy="3213000"/>
          </a:xfrm>
        </p:grpSpPr>
        <p:graphicFrame>
          <p:nvGraphicFramePr>
            <p:cNvPr id="148" name=""/>
            <p:cNvGraphicFramePr/>
            <p:nvPr/>
          </p:nvGraphicFramePr>
          <p:xfrm>
            <a:off x="6254640" y="1631880"/>
            <a:ext cx="254016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54640" y="1631880"/>
                      <a:ext cx="2540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262560" y="1417680"/>
              <a:ext cx="2560680" cy="2592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8040" y="3909960"/>
              <a:ext cx="720720" cy="72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0"/>
              <a:endCxn id="150" idx="1"/>
            </p:cNvCxnSpPr>
            <p:nvPr/>
          </p:nvCxnSpPr>
          <p:spPr>
            <a:xfrm flipV="1">
              <a:off x="3038040" y="1782000"/>
              <a:ext cx="3599640" cy="2127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1" idx="4"/>
              <a:endCxn id="150" idx="4"/>
            </p:cNvCxnSpPr>
            <p:nvPr/>
          </p:nvCxnSpPr>
          <p:spPr>
            <a:xfrm flipV="1">
              <a:off x="3038040" y="4024080"/>
              <a:ext cx="4506120" cy="606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3: degraded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survives error after running log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partially fails, results in degraded p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97200" y="1054080"/>
          <a:ext cx="53481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1054080"/>
                    <a:ext cx="53481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4: failure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hangs or aborts al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behaves erratically, sometimes cr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fatal disk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CSI hangs, disk power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1041480"/>
            <a:ext cx="8628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Example behaviors (10 distinct variants ob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6040" y="1531800"/>
          <a:ext cx="430848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531800"/>
                    <a:ext cx="430848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60920" y="1515960"/>
          <a:ext cx="430704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515960"/>
                    <a:ext cx="43070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5200" y="4587840"/>
            <a:ext cx="3400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Disk hang during write to data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75160" y="4587840"/>
            <a:ext cx="3281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imulated log disk power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Motivation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rinking the availability Kool-Ai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vailability is </a:t>
            </a:r>
            <a:r>
              <a:rPr b="0" i="1" lang="en-US" sz="2400" spc="-1" strike="noStrike">
                <a:solidFill>
                  <a:srgbClr val="000078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key metric for modern apps.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stack’s availability is especially importa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guardians of the world’s hard stat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lmost any user’s request for electronic information hits a database stack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45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5"/>
                </a:solidFill>
                <a:latin typeface="Comic Sans MS"/>
              </a:rPr>
              <a:t>web services, directories, enterprise apps, ...</a:t>
            </a:r>
            <a:endParaRPr b="0" lang="en-US" sz="2200" spc="-1" strike="noStrike">
              <a:solidFill>
                <a:srgbClr val="000045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an we trust database software stacks in the face of failure?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10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vailability benchmarks quantify system behavior under failures, maintenance, recovery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ey requi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 realistic workload for the system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PC-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quality of service metric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xn rates, OK and abort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ult-injection to simulate failure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single-disk error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2128680"/>
          <a:ext cx="69343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28680"/>
                    <a:ext cx="69343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3114360" y="3597120"/>
            <a:ext cx="1535040" cy="123840"/>
            <a:chOff x="3114360" y="3597120"/>
            <a:chExt cx="1535040" cy="123840"/>
          </a:xfrm>
        </p:grpSpPr>
        <p:sp>
          <p:nvSpPr>
            <p:cNvPr id="48" name=""/>
            <p:cNvSpPr/>
            <p:nvPr/>
          </p:nvSpPr>
          <p:spPr>
            <a:xfrm>
              <a:off x="311472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4940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114360" y="3720960"/>
              <a:ext cx="153468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59080" y="369108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Comic Sans MS"/>
              </a:rPr>
              <a:t>Repair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4920" y="2951280"/>
            <a:ext cx="160200" cy="726840"/>
          </a:xfrm>
          <a:custGeom>
            <a:avLst/>
            <a:gdLst>
              <a:gd name="textAreaLeft" fmla="*/ 0 w 160200"/>
              <a:gd name="textAreaRight" fmla="*/ 57960 w 160200"/>
              <a:gd name="textAreaTop" fmla="*/ 18720 h 726840"/>
              <a:gd name="textAreaBottom" fmla="*/ 708120 h 72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27600" y="316404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</a:rPr>
              <a:t>QoS degra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3880" y="328464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mic Sans MS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0240" y="2425680"/>
            <a:ext cx="186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normal behavior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(99% conf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2400480"/>
            <a:ext cx="182520" cy="534960"/>
          </a:xfrm>
          <a:custGeom>
            <a:avLst/>
            <a:gdLst>
              <a:gd name="textAreaLeft" fmla="*/ 0 w 182520"/>
              <a:gd name="textAreaRight" fmla="*/ 65880 w 182520"/>
              <a:gd name="textAreaTop" fmla="*/ 13680 h 534960"/>
              <a:gd name="textAreaBottom" fmla="*/ 52128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Availability benchmarking 101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Well, what happens?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61560"/>
            <a:ext cx="8724960" cy="33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t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-tier: Microsoft SQLServer/COM+/IIS &amp; bus.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PC-C-like workload; faults injected into DB data &amp; log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esult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BMS tolerates transient and recoverable failures, reflecting errors back via transaction abort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ddleware highly unstable: degrades or crashes when DBMS fails or undergoes lengthy recovery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2160" y="4386240"/>
            <a:ext cx="3589200" cy="2401920"/>
            <a:chOff x="4772160" y="4386240"/>
            <a:chExt cx="3589200" cy="2401920"/>
          </a:xfrm>
        </p:grpSpPr>
        <p:graphicFrame>
          <p:nvGraphicFramePr>
            <p:cNvPr id="61" name=""/>
            <p:cNvGraphicFramePr/>
            <p:nvPr/>
          </p:nvGraphicFramePr>
          <p:xfrm>
            <a:off x="4772160" y="4386240"/>
            <a:ext cx="3376440" cy="240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2160" y="4386240"/>
                      <a:ext cx="337644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4960800" y="4427280"/>
              <a:ext cx="3400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6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Disk hang during write to data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2880" y="4368960"/>
            <a:ext cx="3348360" cy="2399760"/>
            <a:chOff x="272880" y="4368960"/>
            <a:chExt cx="3348360" cy="2399760"/>
          </a:xfrm>
        </p:grpSpPr>
        <p:graphicFrame>
          <p:nvGraphicFramePr>
            <p:cNvPr id="65" name=""/>
            <p:cNvGraphicFramePr/>
            <p:nvPr/>
          </p:nvGraphicFramePr>
          <p:xfrm>
            <a:off x="272880" y="4392360"/>
            <a:ext cx="3348360" cy="23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2880" y="4392360"/>
                      <a:ext cx="334836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30360" y="4368960"/>
              <a:ext cx="29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sticky uncorrectable write error, log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44800" y="5353200"/>
            <a:ext cx="1847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causes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egraded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8640" y="4675320"/>
            <a:ext cx="1400040" cy="695160"/>
          </a:xfrm>
          <a:prstGeom prst="ellipse">
            <a:avLst/>
          </a:prstGeom>
          <a:noFill/>
          <a:ln w="19080">
            <a:solidFill>
              <a:srgbClr val="0000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139560" y="5232240"/>
            <a:ext cx="196920" cy="21456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776920"/>
            <a:ext cx="878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rec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851120" y="5979960"/>
            <a:ext cx="318960" cy="43020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7280" y="5157720"/>
            <a:ext cx="1746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fails,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de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23040" y="5634000"/>
            <a:ext cx="1031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cr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92720" y="5504040"/>
            <a:ext cx="162000" cy="9158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61320" y="5848200"/>
            <a:ext cx="374400" cy="5684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Summary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is pretty resilie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action abort == good error-reflection mechanism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applications suck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5909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(well, at least this instance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obustness is end-to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user cannot distinguish DBMS and middlewar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ure recovery must go beyond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chievable Grand Challe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build and run availability benchmarks on you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olerate and recover from non-failstop system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Comic Sans MS"/>
              </a:rPr>
              <a:t>Does performance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ackup slide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SQL Server 2000, default configuratio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front-end softwa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COM+ transaction monitor/coordin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IS 5.0 web server with Microsoft’s </a:t>
            </a:r>
            <a:r>
              <a:rPr b="1" lang="en-US" sz="2400" spc="-1" strike="noStrike">
                <a:solidFill>
                  <a:srgbClr val="000078"/>
                </a:solidFill>
                <a:latin typeface="Courier New"/>
              </a:rPr>
              <a:t>tpcc.dll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HTML terminal interface and business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BenchCraft remote terminal emul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PC-C-like OLTP order-entry workloa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0 warehouses, 100 active users, ~860 MB databas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easured metric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hroughput of correct NewOrder transactions/mi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rate of aborted NewOrder transactions (txn/min)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 (2)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55576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4"/>
                </a:solidFill>
                <a:latin typeface="Comic Sans MS"/>
              </a:rPr>
              <a:t>Database installed in one of two configurations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emulated disk, log on real (IBM)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real (IBM) disk, log on emulated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754160" y="3857040"/>
            <a:ext cx="8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B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 G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k R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98200" y="1212840"/>
            <a:ext cx="1842840" cy="370512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7840" y="129600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D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36520" y="1903320"/>
            <a:ext cx="688320" cy="745560"/>
            <a:chOff x="3836520" y="1903320"/>
            <a:chExt cx="688320" cy="745560"/>
          </a:xfrm>
        </p:grpSpPr>
        <p:sp>
          <p:nvSpPr>
            <p:cNvPr id="89" name=""/>
            <p:cNvSpPr/>
            <p:nvPr/>
          </p:nvSpPr>
          <p:spPr>
            <a:xfrm>
              <a:off x="3898800" y="1903320"/>
              <a:ext cx="546120" cy="736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6520" y="20624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37040" y="5126400"/>
            <a:ext cx="3500280" cy="307080"/>
            <a:chOff x="3137040" y="5126400"/>
            <a:chExt cx="3500280" cy="307080"/>
          </a:xfrm>
        </p:grpSpPr>
        <p:sp>
          <p:nvSpPr>
            <p:cNvPr id="92" name=""/>
            <p:cNvSpPr/>
            <p:nvPr/>
          </p:nvSpPr>
          <p:spPr>
            <a:xfrm>
              <a:off x="3753000" y="5126400"/>
              <a:ext cx="28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Comic Sans MS"/>
                </a:rPr>
                <a:t>= Fast/Wide SCSI bus, 20 MB/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37040" y="5189400"/>
              <a:ext cx="561960" cy="158760"/>
            </a:xfrm>
            <a:custGeom>
              <a:avLst/>
              <a:gdLst/>
              <a:ahLst/>
              <a:rect l="l" t="t" r="r" b="b"/>
              <a:pathLst>
                <a:path w="589" h="111">
                  <a:moveTo>
                    <a:pt x="0" y="86"/>
                  </a:moveTo>
                  <a:cubicBezTo>
                    <a:pt x="67" y="43"/>
                    <a:pt x="134" y="0"/>
                    <a:pt x="197" y="4"/>
                  </a:cubicBezTo>
                  <a:cubicBezTo>
                    <a:pt x="260" y="8"/>
                    <a:pt x="312" y="105"/>
                    <a:pt x="377" y="108"/>
                  </a:cubicBezTo>
                  <a:cubicBezTo>
                    <a:pt x="442" y="111"/>
                    <a:pt x="552" y="36"/>
                    <a:pt x="589" y="2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73600" y="3059280"/>
            <a:ext cx="72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Adaptec</a:t>
            </a:r>
            <a:br>
              <a:rPr sz="1100"/>
            </a:b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39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6" idx="1"/>
          </p:cNvCxnSpPr>
          <p:nvPr/>
        </p:nvCxnSpPr>
        <p:spPr>
          <a:xfrm flipV="1" rot="16200000">
            <a:off x="4737240" y="3163680"/>
            <a:ext cx="242280" cy="602640"/>
          </a:xfrm>
          <a:prstGeom prst="curvedConnector2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4807080" y="3600360"/>
            <a:ext cx="703080" cy="9525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1760" y="3273480"/>
            <a:ext cx="10940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99080" y="1838160"/>
            <a:ext cx="863640" cy="1422720"/>
            <a:chOff x="4699080" y="1838160"/>
            <a:chExt cx="863640" cy="1422720"/>
          </a:xfrm>
        </p:grpSpPr>
        <p:sp>
          <p:nvSpPr>
            <p:cNvPr id="99" name=""/>
            <p:cNvSpPr/>
            <p:nvPr/>
          </p:nvSpPr>
          <p:spPr>
            <a:xfrm>
              <a:off x="4749840" y="1838160"/>
              <a:ext cx="747720" cy="9525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7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9080" y="216936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Emula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32520" y="2685960"/>
              <a:ext cx="0" cy="5749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rot="16200000">
            <a:off x="5079960" y="4187880"/>
            <a:ext cx="138240" cy="874800"/>
          </a:xfrm>
          <a:custGeom>
            <a:avLst/>
            <a:gdLst>
              <a:gd name="textAreaLeft" fmla="*/ 88200 w 138240"/>
              <a:gd name="textAreaRight" fmla="*/ 138600 w 138240"/>
              <a:gd name="textAreaTop" fmla="*/ 22680 h 874800"/>
              <a:gd name="textAreaBottom" fmla="*/ 852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54160" y="4717440"/>
            <a:ext cx="808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B data/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log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9440" y="1214280"/>
            <a:ext cx="1842840" cy="370548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040" y="129600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14000" y="1884240"/>
            <a:ext cx="688320" cy="763200"/>
            <a:chOff x="1314000" y="1884240"/>
            <a:chExt cx="688320" cy="763200"/>
          </a:xfrm>
        </p:grpSpPr>
        <p:sp>
          <p:nvSpPr>
            <p:cNvPr id="107" name=""/>
            <p:cNvSpPr/>
            <p:nvPr/>
          </p:nvSpPr>
          <p:spPr>
            <a:xfrm>
              <a:off x="1360080" y="1884240"/>
              <a:ext cx="567000" cy="76320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14000" y="20570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CSI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031840" y="3094200"/>
            <a:ext cx="717840" cy="176040"/>
          </a:xfrm>
          <a:custGeom>
            <a:avLst/>
            <a:gdLst/>
            <a:ahLst/>
            <a:rect l="l" t="t" r="r" b="b"/>
            <a:pathLst>
              <a:path w="589" h="111">
                <a:moveTo>
                  <a:pt x="0" y="86"/>
                </a:moveTo>
                <a:cubicBezTo>
                  <a:pt x="67" y="43"/>
                  <a:pt x="134" y="0"/>
                  <a:pt x="197" y="4"/>
                </a:cubicBezTo>
                <a:cubicBezTo>
                  <a:pt x="260" y="8"/>
                  <a:pt x="312" y="105"/>
                  <a:pt x="377" y="108"/>
                </a:cubicBezTo>
                <a:cubicBezTo>
                  <a:pt x="442" y="111"/>
                  <a:pt x="552" y="36"/>
                  <a:pt x="589" y="21"/>
                </a:cubicBezTo>
              </a:path>
            </a:pathLst>
          </a:custGeom>
          <a:noFill/>
          <a:ln w="38160">
            <a:solidFill>
              <a:srgbClr val="dc2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8080" y="3268800"/>
            <a:ext cx="749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100mb</a:t>
            </a:r>
            <a:br>
              <a:rPr sz="1200"/>
            </a:b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Eth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71000" y="1209600"/>
            <a:ext cx="3583080" cy="3711600"/>
            <a:chOff x="5571000" y="1209600"/>
            <a:chExt cx="3583080" cy="3711600"/>
          </a:xfrm>
        </p:grpSpPr>
        <p:grpSp>
          <p:nvGrpSpPr>
            <p:cNvPr id="112" name=""/>
            <p:cNvGrpSpPr/>
            <p:nvPr/>
          </p:nvGrpSpPr>
          <p:grpSpPr>
            <a:xfrm>
              <a:off x="5571000" y="1209600"/>
              <a:ext cx="3583080" cy="3711600"/>
              <a:chOff x="5571000" y="1209600"/>
              <a:chExt cx="3583080" cy="37116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8232480" y="1687680"/>
                <a:ext cx="801000" cy="952200"/>
                <a:chOff x="8232480" y="1687680"/>
                <a:chExt cx="801000" cy="9522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8270640" y="1687680"/>
                  <a:ext cx="703080" cy="952200"/>
                </a:xfrm>
                <a:prstGeom prst="can">
                  <a:avLst>
                    <a:gd name="adj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232480" y="1928160"/>
                  <a:ext cx="801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B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8 GB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0k RP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5640480" y="1209600"/>
                <a:ext cx="1930320" cy="3705480"/>
              </a:xfrm>
              <a:prstGeom prst="cube">
                <a:avLst>
                  <a:gd name="adj" fmla="val 568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735240" y="1857240"/>
                <a:ext cx="688320" cy="745560"/>
                <a:chOff x="6735240" y="1857240"/>
                <a:chExt cx="688320" cy="745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797520" y="1857240"/>
                  <a:ext cx="546120" cy="73656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735240" y="2016360"/>
                  <a:ext cx="68832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CSI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yste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dis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571000" y="1297800"/>
                <a:ext cx="197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ff"/>
                    </a:solidFill>
                    <a:latin typeface="Comic Sans MS"/>
                  </a:rPr>
                  <a:t>Disk Emul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4187880"/>
                <a:ext cx="1523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Intel P-II/300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128 MB DRAM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Windows NT 4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80240" y="3060720"/>
                <a:ext cx="720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aptec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294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3"/>
                <a:endCxn id="119" idx="2"/>
              </p:cNvCxnSpPr>
              <p:nvPr/>
            </p:nvCxnSpPr>
            <p:spPr>
              <a:xfrm flipH="1" flipV="1">
                <a:off x="7079760" y="2602800"/>
                <a:ext cx="424800" cy="672120"/>
              </a:xfrm>
              <a:prstGeom prst="curvedConnector5">
                <a:avLst>
                  <a:gd name="adj1" fmla="val -53859"/>
                  <a:gd name="adj2" fmla="val 32958"/>
                  <a:gd name="adj3" fmla="val -5385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cxnSp>
            <p:nvCxnSpPr>
              <p:cNvPr id="124" name=""/>
              <p:cNvCxnSpPr>
                <a:stCxn id="119" idx="2"/>
                <a:endCxn id="114" idx="2"/>
              </p:cNvCxnSpPr>
              <p:nvPr/>
            </p:nvCxnSpPr>
            <p:spPr>
              <a:xfrm flipH="1" flipV="1" rot="5400000">
                <a:off x="7448040" y="1794960"/>
                <a:ext cx="440640" cy="1177200"/>
              </a:xfrm>
              <a:prstGeom prst="curvedConnector5">
                <a:avLst>
                  <a:gd name="adj1" fmla="val -12919"/>
                  <a:gd name="adj2" fmla="val 32578"/>
                  <a:gd name="adj3" fmla="val -1291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sp>
            <p:nvSpPr>
              <p:cNvPr id="125" name=""/>
              <p:cNvSpPr/>
              <p:nvPr/>
            </p:nvSpPr>
            <p:spPr>
              <a:xfrm rot="16200000">
                <a:off x="8535960" y="2270160"/>
                <a:ext cx="138240" cy="874800"/>
              </a:xfrm>
              <a:custGeom>
                <a:avLst/>
                <a:gdLst>
                  <a:gd name="textAreaLeft" fmla="*/ 88200 w 138240"/>
                  <a:gd name="textAreaRight" fmla="*/ 138600 w 138240"/>
                  <a:gd name="textAreaTop" fmla="*/ 22680 h 874800"/>
                  <a:gd name="textAreaBottom" fmla="*/ 852120 h 8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83440" y="2758680"/>
                <a:ext cx="10706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emulato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backing disk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(NTF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65760" y="4200480"/>
                <a:ext cx="1585800" cy="0"/>
              </a:xfrm>
              <a:prstGeom prst="line">
                <a:avLst/>
              </a:prstGeom>
              <a:ln w="1908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35080" y="3062160"/>
                <a:ext cx="796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vStor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SC-U2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690800">
                <a:off x="7519320" y="2029680"/>
                <a:ext cx="798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8000"/>
                    </a:solidFill>
                    <a:latin typeface="Comic Sans MS"/>
                  </a:rPr>
                  <a:t>UltraSCS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697000" y="389304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b4"/>
                  </a:solidFill>
                  <a:latin typeface="Comic Sans MS"/>
                </a:rPr>
                <a:t>ASC VirtualSCSI li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9680" y="418644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ntel P-III/450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256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120" y="4199040"/>
            <a:ext cx="158616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3480120"/>
            <a:ext cx="17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BenchCraft RTE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IS + MS tpcc.dll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7760" y="418320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AMD K6-2/333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128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0520" y="4195800"/>
            <a:ext cx="158580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2280" y="388836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QL Serv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Result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ll results are from single-fault micro-benchmark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14 different fault type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njected once for each of data and log partition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4 categories of behavior detecte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2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ient glitch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egrad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4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7:41:17Z</dcterms:created>
  <dc:creator>Aaron Brown</dc:creator>
  <dc:description/>
  <dc:language>en-US</dc:language>
  <cp:lastModifiedBy>Aaron Brown</cp:lastModifiedBy>
  <dcterms:modified xsi:type="dcterms:W3CDTF">2001-10-15T19:04:42Z</dcterms:modified>
  <cp:revision>5</cp:revision>
  <dc:subject/>
  <dc:title>Database Availability Benchmarking: an example</dc:title>
</cp:coreProperties>
</file>