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3160" y="684000"/>
            <a:ext cx="4667400" cy="35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882504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2160" y="882504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D8A1-8B37-4644-AD93-28A50EED0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607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072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144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352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90520" indent="-2905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1560" indent="-2797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D434-EEFA-4226-9910-013B7DD4ACB1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6040" y="6081840"/>
            <a:ext cx="103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.I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879480"/>
            <a:ext cx="4562640" cy="551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28760" y="828720"/>
            <a:ext cx="4714920" cy="566748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59CC-22CB-4DE0-AF7F-E407882FB5E8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338040"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744480" algn="ctr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 et. al  vs Tabl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04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ichael Stonebrak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djunct Professo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stonebraker@lcs.mit.edu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Can DBMS Do Better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come easier to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tter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y Main Fe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wo fiefdoms are incompat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hades of Corba and C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ross fiefdom joins may not work w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BMS will export X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guarantee that client won’t update it and hand it b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orrible view update problem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for structured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member Codd’s law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hema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think about your data up fro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 integrity ke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t loosey-goosey semant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for documen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d for data (Codd’s law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hema later 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osey-goosey 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plicability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981080"/>
            <a:ext cx="5257800" cy="3353040"/>
          </a:xfrm>
          <a:prstGeom prst="rect">
            <a:avLst/>
          </a:prstGeom>
          <a:solidFill>
            <a:srgbClr val="00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4280" y="5950080"/>
            <a:ext cx="98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080" y="549288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560" y="548640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3130560"/>
            <a:ext cx="801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7360" y="495936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320" y="21398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1981080"/>
            <a:ext cx="3124080" cy="3353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000" y="404496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240" y="2825640"/>
            <a:ext cx="72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w end content uses HTML -&gt; X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 end content uses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variably structu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 end business data processing uses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w end may well use XM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cause it is easi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ich is More Importan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ternet has generated lots of HTML content (on the lef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s well as lots of click stream data (on the righ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ich is more important depends on metr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257480" indent="-29232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ytes represent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257480" indent="-29232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ytes * monetary value of a byt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257480" indent="-29232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rket val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thing is Ne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523880"/>
            <a:ext cx="838188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ocument systems have never used data b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R community versus DBMS commun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will allow better 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uter fringes have never used data b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the 1970’s it was airline reservation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the 1990’s it was web crawl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ut DBMS is “Good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kes you think about you data up fro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discipline (used by business data processing folk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gisters meta data for downstream data shar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ransactions, recovery, etc. are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attleground Between The Two Approach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rporate media asset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ientific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8:35:09Z</dcterms:created>
  <dc:creator>Michael Laven</dc:creator>
  <dc:description/>
  <dc:language>en-US</dc:language>
  <cp:lastModifiedBy>James Hamilton</cp:lastModifiedBy>
  <cp:lastPrinted>1999-12-07T22:03:43Z</cp:lastPrinted>
  <dcterms:modified xsi:type="dcterms:W3CDTF">2001-10-18T14:02:32Z</dcterms:modified>
  <cp:revision>163</cp:revision>
  <dc:subject/>
  <dc:title>Cohera</dc:title>
</cp:coreProperties>
</file>