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3160" y="684000"/>
            <a:ext cx="4667400" cy="35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1680" y="4413240"/>
            <a:ext cx="51274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8825040"/>
            <a:ext cx="30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962160" y="8825040"/>
            <a:ext cx="30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19FB-7CE3-4CB5-A53E-2531ABC6D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607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072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144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63520" y="684360"/>
            <a:ext cx="4667400" cy="3500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3240"/>
            <a:ext cx="51274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40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400" y="88920"/>
            <a:ext cx="8304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2840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88920"/>
            <a:ext cx="8304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696000" y="6149880"/>
            <a:ext cx="2162160" cy="52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638760" y="6105600"/>
            <a:ext cx="2238480" cy="60012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90520" indent="-290520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1560" indent="-279720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618960"/>
            <a:ext cx="170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EC63-DB4C-470B-B1D8-A21C92A3E895}" type="slidenum">
              <a:rPr b="0" lang="en-US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6040" y="6081840"/>
            <a:ext cx="103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.I.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0" y="879480"/>
            <a:ext cx="4562640" cy="551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28760" y="828720"/>
            <a:ext cx="4714920" cy="566748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6618960"/>
            <a:ext cx="170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0D26-4753-42E0-B999-6DA1909231FB}" type="slidenum">
              <a:rPr b="0" lang="en-US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96000" y="6149880"/>
            <a:ext cx="216216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38760" y="6105600"/>
            <a:ext cx="2238480" cy="60012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338040" indent="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744480" algn="ctr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 et. al  vs Tabl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04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ichael Stonebrake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djunct Professo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assachusetts Institute of Technology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stonebraker@lcs.mit.edu)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ow Can DBMS Do Better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come easier to 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tter too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y Main Fe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wo fiefdoms are incompati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hades of Corba and C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ross fiefdom joins may not work we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BMS will export X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 guarantee that client won’t update it and hand it b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orrible view update problem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Tabl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for structured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member Codd’s law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hema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ve to think about your data up fro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ata integrity ke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t loosey-goosey semant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for document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ad for data (Codd’s law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hema later o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osey-goosey o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pplicability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981080"/>
            <a:ext cx="5257800" cy="3353040"/>
          </a:xfrm>
          <a:prstGeom prst="rect">
            <a:avLst/>
          </a:prstGeom>
          <a:solidFill>
            <a:srgbClr val="00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4280" y="5950080"/>
            <a:ext cx="98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080" y="5492880"/>
            <a:ext cx="4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itt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560" y="548640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o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560" y="3130560"/>
            <a:ext cx="801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7360" y="4959360"/>
            <a:ext cx="4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ittl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320" y="21398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ot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1981080"/>
            <a:ext cx="3124080" cy="3353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000" y="404496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240" y="2825640"/>
            <a:ext cx="72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w end content uses HTML -&gt; X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gh end content uses 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variably structu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gh end business data processing uses 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w end may well use XM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cause it is easi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ich is More Important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ternet has generated lots of HTML content (on the lef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s well as lots of click stream data (on the righ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ich is more important depends on metr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257480" indent="-29232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ytes represented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257480" indent="-29232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ytes * monetary value of a byt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257480" indent="-29232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rket val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othing is Ne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523880"/>
            <a:ext cx="8381880" cy="439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ocument systems have never used data b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R community versus DBMS commun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ML will allow better 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uter fringes have never used data b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the 1970’s it was airline reservation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the 1990’s it was web crawl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ut DBMS is “Good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kes you think about you data up fro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discipline (used by business data processing folk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gisters meta data for downstream data shar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ransactions, recovery, etc. are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attleground Between The Two Approach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rporate media asset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ientific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18:35:09Z</dcterms:created>
  <dc:creator>Michael Laven</dc:creator>
  <dc:description/>
  <dc:language>en-US</dc:language>
  <cp:lastModifiedBy>James Hamilton</cp:lastModifiedBy>
  <cp:lastPrinted>1999-12-07T22:03:43Z</cp:lastPrinted>
  <dcterms:modified xsi:type="dcterms:W3CDTF">2001-10-18T14:02:32Z</dcterms:modified>
  <cp:revision>163</cp:revision>
  <dc:subject/>
  <dc:title>Cohera</dc:title>
</cp:coreProperties>
</file>