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7108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702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7108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702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73152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7108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702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16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7108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702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73152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71600" y="137160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385920"/>
            <a:ext cx="1047600" cy="457200"/>
            <a:chOff x="0" y="385920"/>
            <a:chExt cx="1047600" cy="457200"/>
          </a:xfrm>
        </p:grpSpPr>
        <p:sp>
          <p:nvSpPr>
            <p:cNvPr id="4" name=""/>
            <p:cNvSpPr/>
            <p:nvPr/>
          </p:nvSpPr>
          <p:spPr>
            <a:xfrm>
              <a:off x="0" y="385920"/>
              <a:ext cx="347760" cy="457200"/>
            </a:xfrm>
            <a:custGeom>
              <a:avLst/>
              <a:gdLst/>
              <a:ahLst/>
              <a:rect l="l" t="t" r="r" b="b"/>
              <a:pathLst>
                <a:path w="219" h="288">
                  <a:moveTo>
                    <a:pt x="0" y="0"/>
                  </a:moveTo>
                  <a:lnTo>
                    <a:pt x="218" y="0"/>
                  </a:lnTo>
                  <a:lnTo>
                    <a:pt x="179" y="287"/>
                  </a:lnTo>
                  <a:lnTo>
                    <a:pt x="0" y="28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22200" y="385920"/>
              <a:ext cx="285840" cy="457200"/>
            </a:xfrm>
            <a:custGeom>
              <a:avLst/>
              <a:gdLst/>
              <a:ahLst/>
              <a:rect l="l" t="t" r="r" b="b"/>
              <a:pathLst>
                <a:path w="180" h="288">
                  <a:moveTo>
                    <a:pt x="37" y="0"/>
                  </a:moveTo>
                  <a:lnTo>
                    <a:pt x="0" y="287"/>
                  </a:lnTo>
                  <a:lnTo>
                    <a:pt x="142" y="287"/>
                  </a:lnTo>
                  <a:lnTo>
                    <a:pt x="179" y="0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79600" y="385920"/>
              <a:ext cx="239400" cy="4572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38" y="0"/>
                  </a:moveTo>
                  <a:lnTo>
                    <a:pt x="0" y="287"/>
                  </a:lnTo>
                  <a:lnTo>
                    <a:pt x="113" y="287"/>
                  </a:lnTo>
                  <a:lnTo>
                    <a:pt x="150" y="0"/>
                  </a:lnTo>
                  <a:lnTo>
                    <a:pt x="38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5880" y="385920"/>
              <a:ext cx="177840" cy="457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37" y="0"/>
                  </a:moveTo>
                  <a:lnTo>
                    <a:pt x="0" y="287"/>
                  </a:lnTo>
                  <a:lnTo>
                    <a:pt x="74" y="287"/>
                  </a:lnTo>
                  <a:lnTo>
                    <a:pt x="111" y="0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27000" y="385920"/>
              <a:ext cx="120600" cy="457200"/>
            </a:xfrm>
            <a:custGeom>
              <a:avLst/>
              <a:gdLst/>
              <a:ahLst/>
              <a:rect l="l" t="t" r="r" b="b"/>
              <a:pathLst>
                <a:path w="76" h="288">
                  <a:moveTo>
                    <a:pt x="35" y="0"/>
                  </a:moveTo>
                  <a:lnTo>
                    <a:pt x="0" y="287"/>
                  </a:lnTo>
                  <a:lnTo>
                    <a:pt x="38" y="287"/>
                  </a:lnTo>
                  <a:lnTo>
                    <a:pt x="75" y="0"/>
                  </a:lnTo>
                  <a:lnTo>
                    <a:pt x="35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219320" y="6248520"/>
            <a:ext cx="7924680" cy="325440"/>
          </a:xfrm>
          <a:custGeom>
            <a:avLst/>
            <a:gdLst/>
            <a:ahLst/>
            <a:rect l="l" t="t" r="r" b="b"/>
            <a:pathLst>
              <a:path w="5661" h="205">
                <a:moveTo>
                  <a:pt x="0" y="191"/>
                </a:moveTo>
                <a:lnTo>
                  <a:pt x="5660" y="204"/>
                </a:lnTo>
                <a:lnTo>
                  <a:pt x="5660" y="0"/>
                </a:lnTo>
                <a:lnTo>
                  <a:pt x="104" y="0"/>
                </a:lnTo>
                <a:lnTo>
                  <a:pt x="0" y="19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19680" y="6540480"/>
            <a:ext cx="295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© C3B Consulting Limited 1987-2001; </a:t>
            </a:r>
            <a:fld id="{56182E19-115E-4DF9-99D4-79B3C8503DF5}" type="datetime">
              <a:rPr b="1" lang="en-US" sz="10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543800" y="6218280"/>
            <a:ext cx="160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PTS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371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85920"/>
            <a:ext cx="1047600" cy="457200"/>
            <a:chOff x="0" y="385920"/>
            <a:chExt cx="1047600" cy="457200"/>
          </a:xfrm>
        </p:grpSpPr>
        <p:sp>
          <p:nvSpPr>
            <p:cNvPr id="50" name=""/>
            <p:cNvSpPr/>
            <p:nvPr/>
          </p:nvSpPr>
          <p:spPr>
            <a:xfrm>
              <a:off x="0" y="385920"/>
              <a:ext cx="347760" cy="457200"/>
            </a:xfrm>
            <a:custGeom>
              <a:avLst/>
              <a:gdLst/>
              <a:ahLst/>
              <a:rect l="l" t="t" r="r" b="b"/>
              <a:pathLst>
                <a:path w="219" h="288">
                  <a:moveTo>
                    <a:pt x="0" y="0"/>
                  </a:moveTo>
                  <a:lnTo>
                    <a:pt x="218" y="0"/>
                  </a:lnTo>
                  <a:lnTo>
                    <a:pt x="179" y="287"/>
                  </a:lnTo>
                  <a:lnTo>
                    <a:pt x="0" y="28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2200" y="385920"/>
              <a:ext cx="285840" cy="457200"/>
            </a:xfrm>
            <a:custGeom>
              <a:avLst/>
              <a:gdLst/>
              <a:ahLst/>
              <a:rect l="l" t="t" r="r" b="b"/>
              <a:pathLst>
                <a:path w="180" h="288">
                  <a:moveTo>
                    <a:pt x="37" y="0"/>
                  </a:moveTo>
                  <a:lnTo>
                    <a:pt x="0" y="287"/>
                  </a:lnTo>
                  <a:lnTo>
                    <a:pt x="142" y="287"/>
                  </a:lnTo>
                  <a:lnTo>
                    <a:pt x="179" y="0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9600" y="385920"/>
              <a:ext cx="239400" cy="4572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38" y="0"/>
                  </a:moveTo>
                  <a:lnTo>
                    <a:pt x="0" y="287"/>
                  </a:lnTo>
                  <a:lnTo>
                    <a:pt x="113" y="287"/>
                  </a:lnTo>
                  <a:lnTo>
                    <a:pt x="150" y="0"/>
                  </a:lnTo>
                  <a:lnTo>
                    <a:pt x="38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5880" y="385920"/>
              <a:ext cx="177840" cy="457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37" y="0"/>
                  </a:moveTo>
                  <a:lnTo>
                    <a:pt x="0" y="287"/>
                  </a:lnTo>
                  <a:lnTo>
                    <a:pt x="74" y="287"/>
                  </a:lnTo>
                  <a:lnTo>
                    <a:pt x="111" y="0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7000" y="385920"/>
              <a:ext cx="120600" cy="457200"/>
            </a:xfrm>
            <a:custGeom>
              <a:avLst/>
              <a:gdLst/>
              <a:ahLst/>
              <a:rect l="l" t="t" r="r" b="b"/>
              <a:pathLst>
                <a:path w="76" h="288">
                  <a:moveTo>
                    <a:pt x="35" y="0"/>
                  </a:moveTo>
                  <a:lnTo>
                    <a:pt x="0" y="287"/>
                  </a:lnTo>
                  <a:lnTo>
                    <a:pt x="38" y="287"/>
                  </a:lnTo>
                  <a:lnTo>
                    <a:pt x="75" y="0"/>
                  </a:lnTo>
                  <a:lnTo>
                    <a:pt x="35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219320" y="6248520"/>
            <a:ext cx="7924680" cy="325440"/>
          </a:xfrm>
          <a:custGeom>
            <a:avLst/>
            <a:gdLst/>
            <a:ahLst/>
            <a:rect l="l" t="t" r="r" b="b"/>
            <a:pathLst>
              <a:path w="5661" h="205">
                <a:moveTo>
                  <a:pt x="0" y="191"/>
                </a:moveTo>
                <a:lnTo>
                  <a:pt x="5660" y="204"/>
                </a:lnTo>
                <a:lnTo>
                  <a:pt x="5660" y="0"/>
                </a:lnTo>
                <a:lnTo>
                  <a:pt x="104" y="0"/>
                </a:lnTo>
                <a:lnTo>
                  <a:pt x="0" y="19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680" y="6553080"/>
            <a:ext cx="295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© C3B Consulting Limited 1987-2001; </a:t>
            </a:r>
            <a:fld id="{7E8F80A5-F16B-455E-815B-B94DE7AF8ED6}" type="datetime">
              <a:rPr b="1" lang="en-US" sz="10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6218280"/>
            <a:ext cx="167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PTS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371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Workflow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has moved on …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les Bret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r the real insights into the technologies have advnced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vin Hudson (Senior Product Manager, Orac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s in WF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le Skeen (CTO, Vitria plus a co-founder of TIBC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 flow and the B2B dimens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bjectiv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nd structur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background to work fl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 bro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 flow automation (PF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 flow automation (WF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resolved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thoughts/dimen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e Kevin Hudson and Dale Skeen – to explore work flow and B2B developments in more det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Messaging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 there was ‘internal messaging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xt TCAM and IMS (D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there was little (except S.W.I.F.T./EDIFact, etc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MQSeries, TIB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AQ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J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pplication brokers 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(aka message brokers, integration brokers, etc.)</a:t>
            </a:r>
            <a:endParaRPr b="0" lang="en-US" sz="2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king between existing (and new) applications (minimally invasiv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ily Intra-business (Intra-B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ually based on messag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ed ‘intelligence on top of messaging (primarily queuin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ed cottage industry: ‘transformation’, ‘routing’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ed ‘external engine’ as convergence mechanis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transaction and database awaren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Rise of …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the following arrived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ed for co-ordination above transformation/routing (process to proc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/RosettaNet (and PIPs), as agreed ‘media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-business opportunities (Inter-B or B2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-awakening of transaction interest, especially in context of long running activities within and between busines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-awakening of database involvemen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rocess flow automation (PFA) and work flow automation (WFA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means to manage/co-ordinate processe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opl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t as super-set on/over application brokers/messaging; implemented as external engi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s (and Event/Action/Condition processing) to the fore – allegedly business orien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F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ed people component, especially for actions/decisions/confir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reasingly implemented as external engine, co-ordinating across multiple existing app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ergent from traditional ‘workflow’ – which was an application; WFA is an engine working to manage other app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Unresolved issues (all variants on 2 Generals problem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dit/Audit trac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wnership/Responsi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running activ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activity analy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ther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oughts/dimensio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ues were flat files, not tables in datab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s carried data payload; now carry XML as w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action awareness forgotten/omit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/Operations awareness diver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mythical ‘Business Analyst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implacable growth of external - to application -  ‘ancillary’ systems (applications brokers, PFA, WFA and even applications server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event’ handling re-appears yet again (last time was OO-led (retarded)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t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osi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ditional work flow has moved on, and bifurc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ing and queuing taken as read (no longer interesting – although poor variety of choi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action and database importance is on the rise (yet again); but poorly understo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mediate ‘mechanism engines’ on the incre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A is where IT interest lies: ‘about systems not people’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FA not an application, more of a manager; but people dimension is a compl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flow still exists (primarily paper trail orient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al implications have had little thoug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4T09:27:28Z</dcterms:created>
  <dc:creator>Charles Brett</dc:creator>
  <dc:description/>
  <dc:language>en-US</dc:language>
  <cp:lastModifiedBy>Charles Brett &amp; Partner</cp:lastModifiedBy>
  <dcterms:modified xsi:type="dcterms:W3CDTF">2001-10-15T22:38:03Z</dcterms:modified>
  <cp:revision>29</cp:revision>
  <dc:subject/>
  <dc:title>No Slide Title</dc:title>
</cp:coreProperties>
</file>