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467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3" marL="1714680" indent="-17172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4" marL="2000160" indent="-17136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5" marL="2000160" indent="-17136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6" marL="2000160" indent="-171360">
              <a:lnSpc>
                <a:spcPct val="89000"/>
              </a:lnSpc>
              <a:spcBef>
                <a:spcPts val="1049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5560" y="6172200"/>
            <a:ext cx="919476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ache Fusion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Making Shared Storage Perfor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for Vanilla System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David.Brower@oracle.com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RAC Architectur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 rot="19230600">
            <a:off x="5028840" y="2133360"/>
            <a:ext cx="3809880" cy="2971800"/>
          </a:xfrm>
          <a:prstGeom prst="ellipse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9230600">
            <a:off x="761760" y="2209320"/>
            <a:ext cx="3809880" cy="2971800"/>
          </a:xfrm>
          <a:prstGeom prst="ellipse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20161800">
            <a:off x="2290320" y="2744280"/>
            <a:ext cx="847800" cy="533520"/>
          </a:xfrm>
          <a:prstGeom prst="rightArrow">
            <a:avLst>
              <a:gd name="adj1" fmla="val 50000"/>
              <a:gd name="adj2" fmla="val 39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3880" y="2971800"/>
            <a:ext cx="914400" cy="838080"/>
          </a:xfrm>
          <a:prstGeom prst="octagon">
            <a:avLst>
              <a:gd name="adj" fmla="val 29287"/>
            </a:avLst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Fusion on contended block – adoption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97" name=""/>
          <p:cNvSpPr/>
          <p:nvPr/>
        </p:nvSpPr>
        <p:spPr>
          <a:xfrm>
            <a:off x="1447920" y="3809880"/>
            <a:ext cx="1218960" cy="1067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15000" y="2971800"/>
            <a:ext cx="914400" cy="838080"/>
          </a:xfrm>
          <a:prstGeom prst="octagon">
            <a:avLst>
              <a:gd name="adj" fmla="val 29287"/>
            </a:avLst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62720" y="3809880"/>
            <a:ext cx="1218960" cy="106704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791320" y="411480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76520" y="3200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X-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2133720"/>
            <a:ext cx="961920" cy="914400"/>
          </a:xfrm>
          <a:prstGeom prst="pentagon">
            <a:avLst/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48120" y="2286000"/>
            <a:ext cx="990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nivers"/>
              </a:rPr>
              <a:t>2: pi-1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nivers"/>
              </a:rPr>
              <a:t>1: x-1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Univers"/>
              </a:rPr>
              <a:t>D: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91320" y="30481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pi-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038480" y="4648320"/>
            <a:ext cx="914400" cy="1371600"/>
            <a:chOff x="4038480" y="4648320"/>
            <a:chExt cx="914400" cy="1371600"/>
          </a:xfrm>
        </p:grpSpPr>
        <p:sp>
          <p:nvSpPr>
            <p:cNvPr id="506" name=""/>
            <p:cNvSpPr/>
            <p:nvPr/>
          </p:nvSpPr>
          <p:spPr>
            <a:xfrm>
              <a:off x="4038480" y="4648320"/>
              <a:ext cx="914400" cy="1371600"/>
            </a:xfrm>
            <a:prstGeom prst="flowChartMagneticDisk">
              <a:avLst/>
            </a:prstGeom>
            <a:solidFill>
              <a:srgbClr val="315fa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91120" y="5257800"/>
              <a:ext cx="60948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91120" y="5257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Univers"/>
                </a:rPr>
                <a:t>9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676520" y="403848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971800" y="3657600"/>
            <a:ext cx="914400" cy="947160"/>
            <a:chOff x="2971800" y="3657600"/>
            <a:chExt cx="914400" cy="947160"/>
          </a:xfrm>
        </p:grpSpPr>
        <p:sp>
          <p:nvSpPr>
            <p:cNvPr id="511" name=""/>
            <p:cNvSpPr/>
            <p:nvPr/>
          </p:nvSpPr>
          <p:spPr>
            <a:xfrm>
              <a:off x="2971800" y="3657600"/>
              <a:ext cx="914400" cy="609480"/>
            </a:xfrm>
            <a:prstGeom prst="flowChartDocumen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48120" y="365760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Univers"/>
                </a:rPr>
                <a:t>10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685800" y="12952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adopt” terminates request, sets master stat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1752480"/>
            <a:ext cx="914400" cy="129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548640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Modification to version 101 while adopt is in fligh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523880" y="4495680"/>
            <a:ext cx="45720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Conveniently, there is no time to discuss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How we write blocks and get rid of the PI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ll the failure scenario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389240" y="1838160"/>
            <a:ext cx="5759280" cy="3973680"/>
            <a:chOff x="1389240" y="1838160"/>
            <a:chExt cx="5759280" cy="3973680"/>
          </a:xfrm>
        </p:grpSpPr>
        <p:sp>
          <p:nvSpPr>
            <p:cNvPr id="520" name=""/>
            <p:cNvSpPr/>
            <p:nvPr/>
          </p:nvSpPr>
          <p:spPr>
            <a:xfrm>
              <a:off x="2733840" y="4181400"/>
              <a:ext cx="647640" cy="74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67160" y="3533760"/>
              <a:ext cx="646200" cy="13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00840" y="2241720"/>
              <a:ext cx="646200" cy="268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47840" y="1978200"/>
              <a:ext cx="1800" cy="2950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11480" y="4929120"/>
              <a:ext cx="77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11480" y="4559400"/>
              <a:ext cx="77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11480" y="4189320"/>
              <a:ext cx="77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11480" y="3821040"/>
              <a:ext cx="77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11480" y="3451320"/>
              <a:ext cx="77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11480" y="3081240"/>
              <a:ext cx="77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11480" y="2711520"/>
              <a:ext cx="77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11480" y="2343240"/>
              <a:ext cx="77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11480" y="1973160"/>
              <a:ext cx="77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52520" y="4929120"/>
              <a:ext cx="4896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2247840" y="488484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3881520" y="488484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5514840" y="488484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148520" y="4884840"/>
              <a:ext cx="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92440" y="373860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87960" y="310356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86440" y="1838160"/>
              <a:ext cx="677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64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135160" y="483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34000" y="44640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84320" y="40942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84320" y="37260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150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84320" y="33559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84320" y="29862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250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84320" y="26179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300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84320" y="22478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350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84320" y="1878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</a:rPr>
                <a:t>400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30240" y="5079960"/>
              <a:ext cx="8449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ing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07400" y="5079960"/>
              <a:ext cx="880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d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42520" y="5079960"/>
              <a:ext cx="880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ou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od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6200000">
              <a:off x="851760" y="3200400"/>
              <a:ext cx="144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# of us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Does it work?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Shared Nothing         Shared Storage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4840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Hard data partition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Reroute query fragm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2pc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ifferent QP than SMP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ove query to data</a:t>
            </a: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09800" y="1752120"/>
            <a:ext cx="3848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No required partition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Query processed one sit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LM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isk ‘ping’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ove data to quer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4" name=""/>
          <p:cNvSpPr/>
          <p:nvPr/>
        </p:nvSpPr>
        <p:spPr>
          <a:xfrm>
            <a:off x="1812960" y="4638600"/>
            <a:ext cx="550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97800" y="5029200"/>
            <a:ext cx="43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 marketing slide fol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927760" y="2514600"/>
            <a:ext cx="3216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7920" bIns="7920" anchor="ctr">
            <a:noAutofit/>
          </a:bodyPr>
          <a:p>
            <a:pPr marL="235080" indent="-235080">
              <a:lnSpc>
                <a:spcPct val="85000"/>
              </a:lnSpc>
              <a:buClr>
                <a:srgbClr val="fd0000"/>
              </a:buClr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Change nodes on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1880" y="3971880"/>
            <a:ext cx="0" cy="347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Oracle9</a:t>
            </a:r>
            <a:r>
              <a:rPr b="1" i="1" lang="en-US" sz="3600" spc="-1" strike="noStrike">
                <a:solidFill>
                  <a:srgbClr val="ffffff"/>
                </a:solidFill>
                <a:latin typeface="Univers"/>
              </a:rPr>
              <a:t>i</a:t>
            </a: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 Real Application Clusters -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Scalability and High Availability 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Shared Cache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 Architecture using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ache Fusio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0" name=""/>
          <p:cNvSpPr/>
          <p:nvPr/>
        </p:nvSpPr>
        <p:spPr>
          <a:xfrm>
            <a:off x="5927760" y="3809880"/>
            <a:ext cx="3216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7920" bIns="7920" anchor="ctr">
            <a:noAutofit/>
          </a:bodyPr>
          <a:p>
            <a:pPr marL="235080" indent="-235080">
              <a:lnSpc>
                <a:spcPct val="85000"/>
              </a:lnSpc>
              <a:buClr>
                <a:srgbClr val="fd0000"/>
              </a:buClr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Scales all applications</a:t>
            </a:r>
            <a:br>
              <a:rPr sz="2000"/>
            </a:b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  out of the 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505320" y="4843440"/>
            <a:ext cx="803160" cy="1012320"/>
            <a:chOff x="3505320" y="4843440"/>
            <a:chExt cx="803160" cy="1012320"/>
          </a:xfrm>
        </p:grpSpPr>
        <p:sp>
          <p:nvSpPr>
            <p:cNvPr id="52" name=""/>
            <p:cNvSpPr/>
            <p:nvPr/>
          </p:nvSpPr>
          <p:spPr>
            <a:xfrm>
              <a:off x="3505320" y="4966920"/>
              <a:ext cx="803160" cy="888840"/>
            </a:xfrm>
            <a:custGeom>
              <a:avLst/>
              <a:gdLst/>
              <a:ahLst/>
              <a:rect l="l" t="t" r="r" b="b"/>
              <a:pathLst>
                <a:path w="506" h="560">
                  <a:moveTo>
                    <a:pt x="0" y="0"/>
                  </a:moveTo>
                  <a:lnTo>
                    <a:pt x="0" y="444"/>
                  </a:lnTo>
                  <a:lnTo>
                    <a:pt x="1" y="458"/>
                  </a:lnTo>
                  <a:lnTo>
                    <a:pt x="10" y="474"/>
                  </a:lnTo>
                  <a:lnTo>
                    <a:pt x="25" y="491"/>
                  </a:lnTo>
                  <a:lnTo>
                    <a:pt x="40" y="505"/>
                  </a:lnTo>
                  <a:lnTo>
                    <a:pt x="50" y="512"/>
                  </a:lnTo>
                  <a:lnTo>
                    <a:pt x="71" y="524"/>
                  </a:lnTo>
                  <a:lnTo>
                    <a:pt x="91" y="533"/>
                  </a:lnTo>
                  <a:lnTo>
                    <a:pt x="120" y="544"/>
                  </a:lnTo>
                  <a:lnTo>
                    <a:pt x="148" y="550"/>
                  </a:lnTo>
                  <a:lnTo>
                    <a:pt x="175" y="553"/>
                  </a:lnTo>
                  <a:lnTo>
                    <a:pt x="200" y="557"/>
                  </a:lnTo>
                  <a:lnTo>
                    <a:pt x="223" y="559"/>
                  </a:lnTo>
                  <a:lnTo>
                    <a:pt x="281" y="559"/>
                  </a:lnTo>
                  <a:lnTo>
                    <a:pt x="318" y="555"/>
                  </a:lnTo>
                  <a:lnTo>
                    <a:pt x="351" y="550"/>
                  </a:lnTo>
                  <a:lnTo>
                    <a:pt x="377" y="544"/>
                  </a:lnTo>
                  <a:lnTo>
                    <a:pt x="400" y="536"/>
                  </a:lnTo>
                  <a:lnTo>
                    <a:pt x="424" y="527"/>
                  </a:lnTo>
                  <a:lnTo>
                    <a:pt x="451" y="514"/>
                  </a:lnTo>
                  <a:lnTo>
                    <a:pt x="469" y="501"/>
                  </a:lnTo>
                  <a:lnTo>
                    <a:pt x="484" y="490"/>
                  </a:lnTo>
                  <a:lnTo>
                    <a:pt x="492" y="476"/>
                  </a:lnTo>
                  <a:lnTo>
                    <a:pt x="500" y="463"/>
                  </a:lnTo>
                  <a:lnTo>
                    <a:pt x="504" y="453"/>
                  </a:lnTo>
                  <a:lnTo>
                    <a:pt x="505" y="446"/>
                  </a:lnTo>
                  <a:lnTo>
                    <a:pt x="505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05320" y="4843440"/>
              <a:ext cx="801360" cy="2408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619440" y="4970520"/>
            <a:ext cx="803160" cy="1012680"/>
            <a:chOff x="3619440" y="4970520"/>
            <a:chExt cx="803160" cy="1012680"/>
          </a:xfrm>
        </p:grpSpPr>
        <p:sp>
          <p:nvSpPr>
            <p:cNvPr id="55" name=""/>
            <p:cNvSpPr/>
            <p:nvPr/>
          </p:nvSpPr>
          <p:spPr>
            <a:xfrm>
              <a:off x="3619440" y="5094360"/>
              <a:ext cx="803160" cy="888840"/>
            </a:xfrm>
            <a:custGeom>
              <a:avLst/>
              <a:gdLst/>
              <a:ahLst/>
              <a:rect l="l" t="t" r="r" b="b"/>
              <a:pathLst>
                <a:path w="506" h="560">
                  <a:moveTo>
                    <a:pt x="0" y="0"/>
                  </a:moveTo>
                  <a:lnTo>
                    <a:pt x="0" y="444"/>
                  </a:lnTo>
                  <a:lnTo>
                    <a:pt x="1" y="458"/>
                  </a:lnTo>
                  <a:lnTo>
                    <a:pt x="10" y="474"/>
                  </a:lnTo>
                  <a:lnTo>
                    <a:pt x="25" y="491"/>
                  </a:lnTo>
                  <a:lnTo>
                    <a:pt x="40" y="505"/>
                  </a:lnTo>
                  <a:lnTo>
                    <a:pt x="50" y="512"/>
                  </a:lnTo>
                  <a:lnTo>
                    <a:pt x="71" y="524"/>
                  </a:lnTo>
                  <a:lnTo>
                    <a:pt x="91" y="533"/>
                  </a:lnTo>
                  <a:lnTo>
                    <a:pt x="120" y="544"/>
                  </a:lnTo>
                  <a:lnTo>
                    <a:pt x="148" y="550"/>
                  </a:lnTo>
                  <a:lnTo>
                    <a:pt x="175" y="553"/>
                  </a:lnTo>
                  <a:lnTo>
                    <a:pt x="200" y="557"/>
                  </a:lnTo>
                  <a:lnTo>
                    <a:pt x="223" y="559"/>
                  </a:lnTo>
                  <a:lnTo>
                    <a:pt x="281" y="559"/>
                  </a:lnTo>
                  <a:lnTo>
                    <a:pt x="318" y="555"/>
                  </a:lnTo>
                  <a:lnTo>
                    <a:pt x="351" y="550"/>
                  </a:lnTo>
                  <a:lnTo>
                    <a:pt x="377" y="544"/>
                  </a:lnTo>
                  <a:lnTo>
                    <a:pt x="400" y="536"/>
                  </a:lnTo>
                  <a:lnTo>
                    <a:pt x="424" y="527"/>
                  </a:lnTo>
                  <a:lnTo>
                    <a:pt x="451" y="514"/>
                  </a:lnTo>
                  <a:lnTo>
                    <a:pt x="469" y="501"/>
                  </a:lnTo>
                  <a:lnTo>
                    <a:pt x="484" y="490"/>
                  </a:lnTo>
                  <a:lnTo>
                    <a:pt x="492" y="476"/>
                  </a:lnTo>
                  <a:lnTo>
                    <a:pt x="500" y="463"/>
                  </a:lnTo>
                  <a:lnTo>
                    <a:pt x="504" y="453"/>
                  </a:lnTo>
                  <a:lnTo>
                    <a:pt x="505" y="446"/>
                  </a:lnTo>
                  <a:lnTo>
                    <a:pt x="505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9440" y="4970520"/>
              <a:ext cx="801720" cy="241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5927760" y="3124080"/>
            <a:ext cx="3216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7920" bIns="7920" anchor="ctr">
            <a:noAutofit/>
          </a:bodyPr>
          <a:p>
            <a:pPr marL="235080" indent="-235080">
              <a:lnSpc>
                <a:spcPct val="85000"/>
              </a:lnSpc>
              <a:buClr>
                <a:srgbClr val="fd0000"/>
              </a:buClr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Change disks w/o</a:t>
            </a:r>
            <a:br>
              <a:rPr sz="2000"/>
            </a:b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  re-partitio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70280" y="4853160"/>
            <a:ext cx="131760" cy="190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3760" y="4902120"/>
            <a:ext cx="0" cy="82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00600" y="5043600"/>
            <a:ext cx="0" cy="8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1981080"/>
            <a:ext cx="5546520" cy="3884400"/>
            <a:chOff x="228600" y="1981080"/>
            <a:chExt cx="5546520" cy="3884400"/>
          </a:xfrm>
        </p:grpSpPr>
        <p:sp>
          <p:nvSpPr>
            <p:cNvPr id="62" name=""/>
            <p:cNvSpPr/>
            <p:nvPr/>
          </p:nvSpPr>
          <p:spPr>
            <a:xfrm>
              <a:off x="266760" y="2199960"/>
              <a:ext cx="5508360" cy="2978280"/>
            </a:xfrm>
            <a:prstGeom prst="ellipse">
              <a:avLst/>
            </a:prstGeom>
            <a:gradFill rotWithShape="0">
              <a:gsLst>
                <a:gs pos="0">
                  <a:srgbClr val="00238d"/>
                </a:gs>
                <a:gs pos="100000">
                  <a:srgbClr val="0033cc"/>
                </a:gs>
              </a:gsLst>
              <a:lin ang="5400000"/>
            </a:gradFill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15960" y="5027400"/>
              <a:ext cx="353880" cy="320760"/>
              <a:chOff x="615960" y="5027400"/>
              <a:chExt cx="353880" cy="32076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15960" y="5062320"/>
                <a:ext cx="353880" cy="285840"/>
                <a:chOff x="615960" y="5062320"/>
                <a:chExt cx="353880" cy="2858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617400" y="5062320"/>
                  <a:ext cx="346320" cy="243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15960" y="5252760"/>
                  <a:ext cx="353880" cy="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615960" y="5027400"/>
                <a:ext cx="353880" cy="903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228600" y="5130720"/>
              <a:ext cx="352440" cy="318960"/>
              <a:chOff x="228600" y="5130720"/>
              <a:chExt cx="352440" cy="31896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28600" y="5165640"/>
                <a:ext cx="352440" cy="284040"/>
                <a:chOff x="228600" y="5165640"/>
                <a:chExt cx="352440" cy="2840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30040" y="5165640"/>
                  <a:ext cx="341280" cy="242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28600" y="5357520"/>
                  <a:ext cx="352440" cy="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7b7b"/>
                    </a:gs>
                    <a:gs pos="50000">
                      <a:srgbClr val="cecece"/>
                    </a:gs>
                    <a:gs pos="100000">
                      <a:srgbClr val="7b7b7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228600" y="5130720"/>
                <a:ext cx="352440" cy="9036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flipV="1">
              <a:off x="565200" y="4694040"/>
              <a:ext cx="3520800" cy="471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4340160"/>
              <a:ext cx="271620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12920" y="4238280"/>
              <a:ext cx="1874880" cy="45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01560" y="2811240"/>
              <a:ext cx="38448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45800" y="2860560"/>
              <a:ext cx="45252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563480" y="3570120"/>
              <a:ext cx="704880" cy="766800"/>
              <a:chOff x="1563480" y="3570120"/>
              <a:chExt cx="704880" cy="766800"/>
            </a:xfrm>
          </p:grpSpPr>
          <p:sp>
            <p:nvSpPr>
              <p:cNvPr id="79" name=""/>
              <p:cNvSpPr/>
              <p:nvPr/>
            </p:nvSpPr>
            <p:spPr>
              <a:xfrm>
                <a:off x="1563480" y="3570120"/>
                <a:ext cx="650880" cy="52200"/>
              </a:xfrm>
              <a:custGeom>
                <a:avLst/>
                <a:gdLst/>
                <a:ahLst/>
                <a:rect l="l" t="t" r="r" b="b"/>
                <a:pathLst>
                  <a:path w="410" h="33">
                    <a:moveTo>
                      <a:pt x="129" y="32"/>
                    </a:moveTo>
                    <a:lnTo>
                      <a:pt x="409" y="27"/>
                    </a:lnTo>
                    <a:lnTo>
                      <a:pt x="216" y="0"/>
                    </a:lnTo>
                    <a:lnTo>
                      <a:pt x="0" y="0"/>
                    </a:lnTo>
                    <a:lnTo>
                      <a:pt x="129" y="32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68320" y="3614400"/>
                <a:ext cx="476280" cy="25560"/>
              </a:xfrm>
              <a:custGeom>
                <a:avLst/>
                <a:gdLst/>
                <a:ahLst/>
                <a:rect l="l" t="t" r="r" b="b"/>
                <a:pathLst>
                  <a:path w="300" h="16">
                    <a:moveTo>
                      <a:pt x="0" y="0"/>
                    </a:moveTo>
                    <a:lnTo>
                      <a:pt x="14" y="15"/>
                    </a:lnTo>
                    <a:lnTo>
                      <a:pt x="299" y="15"/>
                    </a:lnTo>
                    <a:lnTo>
                      <a:pt x="28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563480" y="3570120"/>
                <a:ext cx="266760" cy="766800"/>
              </a:xfrm>
              <a:custGeom>
                <a:avLst/>
                <a:gdLst/>
                <a:ahLst/>
                <a:rect l="l" t="t" r="r" b="b"/>
                <a:pathLst>
                  <a:path w="168" h="483">
                    <a:moveTo>
                      <a:pt x="0" y="0"/>
                    </a:moveTo>
                    <a:lnTo>
                      <a:pt x="128" y="28"/>
                    </a:lnTo>
                    <a:lnTo>
                      <a:pt x="150" y="41"/>
                    </a:lnTo>
                    <a:lnTo>
                      <a:pt x="167" y="176"/>
                    </a:lnTo>
                    <a:lnTo>
                      <a:pt x="145" y="204"/>
                    </a:lnTo>
                    <a:lnTo>
                      <a:pt x="143" y="482"/>
                    </a:lnTo>
                    <a:lnTo>
                      <a:pt x="0" y="35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92080" y="3884400"/>
                <a:ext cx="441360" cy="450720"/>
              </a:xfrm>
              <a:custGeom>
                <a:avLst/>
                <a:gdLst/>
                <a:ahLst/>
                <a:rect l="l" t="t" r="r" b="b"/>
                <a:pathLst>
                  <a:path w="278" h="284">
                    <a:moveTo>
                      <a:pt x="0" y="0"/>
                    </a:moveTo>
                    <a:lnTo>
                      <a:pt x="0" y="283"/>
                    </a:lnTo>
                    <a:lnTo>
                      <a:pt x="277" y="283"/>
                    </a:lnTo>
                    <a:lnTo>
                      <a:pt x="277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798560" y="3632040"/>
                <a:ext cx="469800" cy="226800"/>
              </a:xfrm>
              <a:custGeom>
                <a:avLst/>
                <a:gdLst/>
                <a:ahLst/>
                <a:rect l="l" t="t" r="r" b="b"/>
                <a:pathLst>
                  <a:path w="296" h="143">
                    <a:moveTo>
                      <a:pt x="0" y="0"/>
                    </a:moveTo>
                    <a:lnTo>
                      <a:pt x="281" y="0"/>
                    </a:lnTo>
                    <a:lnTo>
                      <a:pt x="295" y="142"/>
                    </a:lnTo>
                    <a:lnTo>
                      <a:pt x="11" y="14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95320" y="3858840"/>
                <a:ext cx="473040" cy="25560"/>
              </a:xfrm>
              <a:custGeom>
                <a:avLst/>
                <a:gdLst/>
                <a:ahLst/>
                <a:rect l="l" t="t" r="r" b="b"/>
                <a:pathLst>
                  <a:path w="298" h="16">
                    <a:moveTo>
                      <a:pt x="0" y="15"/>
                    </a:moveTo>
                    <a:lnTo>
                      <a:pt x="273" y="15"/>
                    </a:lnTo>
                    <a:lnTo>
                      <a:pt x="297" y="0"/>
                    </a:lnTo>
                    <a:lnTo>
                      <a:pt x="11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806480" y="3620880"/>
                <a:ext cx="36360" cy="714240"/>
              </a:xfrm>
              <a:custGeom>
                <a:avLst/>
                <a:gdLst/>
                <a:ahLst/>
                <a:rect l="l" t="t" r="r" b="b"/>
                <a:pathLst>
                  <a:path w="23" h="450">
                    <a:moveTo>
                      <a:pt x="0" y="0"/>
                    </a:moveTo>
                    <a:lnTo>
                      <a:pt x="7" y="4"/>
                    </a:lnTo>
                    <a:lnTo>
                      <a:pt x="22" y="147"/>
                    </a:lnTo>
                    <a:lnTo>
                      <a:pt x="7" y="164"/>
                    </a:lnTo>
                    <a:lnTo>
                      <a:pt x="7" y="44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820880" y="3620880"/>
                <a:ext cx="44280" cy="714240"/>
              </a:xfrm>
              <a:custGeom>
                <a:avLst/>
                <a:gdLst/>
                <a:ahLst/>
                <a:rect l="l" t="t" r="r" b="b"/>
                <a:pathLst>
                  <a:path w="28" h="450">
                    <a:moveTo>
                      <a:pt x="0" y="0"/>
                    </a:moveTo>
                    <a:lnTo>
                      <a:pt x="12" y="6"/>
                    </a:lnTo>
                    <a:lnTo>
                      <a:pt x="27" y="147"/>
                    </a:lnTo>
                    <a:lnTo>
                      <a:pt x="12" y="164"/>
                    </a:lnTo>
                    <a:lnTo>
                      <a:pt x="12" y="44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851120" y="3620880"/>
                <a:ext cx="36360" cy="712800"/>
              </a:xfrm>
              <a:custGeom>
                <a:avLst/>
                <a:gdLst/>
                <a:ahLst/>
                <a:rect l="l" t="t" r="r" b="b"/>
                <a:pathLst>
                  <a:path w="23" h="449">
                    <a:moveTo>
                      <a:pt x="0" y="0"/>
                    </a:moveTo>
                    <a:lnTo>
                      <a:pt x="7" y="8"/>
                    </a:lnTo>
                    <a:lnTo>
                      <a:pt x="22" y="148"/>
                    </a:lnTo>
                    <a:lnTo>
                      <a:pt x="7" y="164"/>
                    </a:lnTo>
                    <a:lnTo>
                      <a:pt x="7" y="448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74880" y="3620880"/>
                <a:ext cx="38160" cy="714240"/>
              </a:xfrm>
              <a:custGeom>
                <a:avLst/>
                <a:gdLst/>
                <a:ahLst/>
                <a:rect l="l" t="t" r="r" b="b"/>
                <a:pathLst>
                  <a:path w="24" h="450">
                    <a:moveTo>
                      <a:pt x="0" y="0"/>
                    </a:moveTo>
                    <a:lnTo>
                      <a:pt x="8" y="4"/>
                    </a:lnTo>
                    <a:lnTo>
                      <a:pt x="23" y="147"/>
                    </a:lnTo>
                    <a:lnTo>
                      <a:pt x="8" y="163"/>
                    </a:lnTo>
                    <a:lnTo>
                      <a:pt x="8" y="44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898640" y="3620880"/>
                <a:ext cx="34920" cy="712800"/>
              </a:xfrm>
              <a:custGeom>
                <a:avLst/>
                <a:gdLst/>
                <a:ahLst/>
                <a:rect l="l" t="t" r="r" b="b"/>
                <a:pathLst>
                  <a:path w="22" h="449">
                    <a:moveTo>
                      <a:pt x="0" y="0"/>
                    </a:moveTo>
                    <a:lnTo>
                      <a:pt x="7" y="4"/>
                    </a:lnTo>
                    <a:lnTo>
                      <a:pt x="21" y="147"/>
                    </a:lnTo>
                    <a:lnTo>
                      <a:pt x="7" y="162"/>
                    </a:lnTo>
                    <a:lnTo>
                      <a:pt x="7" y="448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39680" y="3951000"/>
                <a:ext cx="266760" cy="3351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39680" y="4019400"/>
                <a:ext cx="266760" cy="554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39680" y="4089240"/>
                <a:ext cx="266760" cy="540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39680" y="4159080"/>
                <a:ext cx="266760" cy="554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74960" y="4027320"/>
                <a:ext cx="183960" cy="381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74960" y="4098600"/>
                <a:ext cx="183960" cy="3672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06720" y="395748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5" y="0"/>
                    </a:moveTo>
                    <a:lnTo>
                      <a:pt x="15" y="18"/>
                    </a:lnTo>
                    <a:lnTo>
                      <a:pt x="0" y="6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39680" y="3951000"/>
                <a:ext cx="266760" cy="507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66760" y="3957480"/>
                <a:ext cx="41400" cy="2520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5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0" y="15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66760" y="3978000"/>
                <a:ext cx="119160" cy="25560"/>
              </a:xfrm>
              <a:custGeom>
                <a:avLst/>
                <a:gdLst/>
                <a:ahLst/>
                <a:rect l="l" t="t" r="r" b="b"/>
                <a:pathLst>
                  <a:path w="75" h="16">
                    <a:moveTo>
                      <a:pt x="74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69" y="0"/>
                    </a:lnTo>
                    <a:lnTo>
                      <a:pt x="74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120760" y="3958920"/>
                <a:ext cx="65160" cy="25560"/>
              </a:xfrm>
              <a:custGeom>
                <a:avLst/>
                <a:gdLst/>
                <a:ahLst/>
                <a:rect l="l" t="t" r="r" b="b"/>
                <a:pathLst>
                  <a:path w="41" h="16">
                    <a:moveTo>
                      <a:pt x="4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35" y="1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185920" y="39589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0"/>
                    </a:moveTo>
                    <a:lnTo>
                      <a:pt x="0" y="17"/>
                    </a:lnTo>
                    <a:lnTo>
                      <a:pt x="15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28680" y="3989160"/>
                <a:ext cx="1440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49400" y="3971880"/>
                <a:ext cx="244440" cy="25200"/>
              </a:xfrm>
              <a:custGeom>
                <a:avLst/>
                <a:gdLst/>
                <a:ahLst/>
                <a:rect l="l" t="t" r="r" b="b"/>
                <a:pathLst>
                  <a:path w="154" h="16">
                    <a:moveTo>
                      <a:pt x="0" y="15"/>
                    </a:moveTo>
                    <a:lnTo>
                      <a:pt x="153" y="15"/>
                    </a:lnTo>
                    <a:lnTo>
                      <a:pt x="153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93680" y="4036680"/>
                <a:ext cx="157320" cy="25560"/>
              </a:xfrm>
              <a:custGeom>
                <a:avLst/>
                <a:gdLst/>
                <a:ahLst/>
                <a:rect l="l" t="t" r="r" b="b"/>
                <a:pathLst>
                  <a:path w="99" h="16">
                    <a:moveTo>
                      <a:pt x="0" y="15"/>
                    </a:moveTo>
                    <a:lnTo>
                      <a:pt x="98" y="15"/>
                    </a:lnTo>
                    <a:lnTo>
                      <a:pt x="98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039760" y="4052520"/>
                <a:ext cx="69840" cy="255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15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43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834920" y="366372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38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42" y="36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842840" y="375732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39" y="0"/>
                    </a:moveTo>
                    <a:lnTo>
                      <a:pt x="0" y="0"/>
                    </a:lnTo>
                    <a:lnTo>
                      <a:pt x="0" y="34"/>
                    </a:lnTo>
                    <a:lnTo>
                      <a:pt x="42" y="34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46160" y="3751200"/>
                <a:ext cx="274680" cy="68040"/>
              </a:xfrm>
              <a:custGeom>
                <a:avLst/>
                <a:gdLst/>
                <a:ahLst/>
                <a:rect l="l" t="t" r="r" b="b"/>
                <a:pathLst>
                  <a:path w="173" h="43">
                    <a:moveTo>
                      <a:pt x="0" y="0"/>
                    </a:moveTo>
                    <a:lnTo>
                      <a:pt x="5" y="42"/>
                    </a:lnTo>
                    <a:lnTo>
                      <a:pt x="172" y="42"/>
                    </a:lnTo>
                    <a:lnTo>
                      <a:pt x="16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01600" y="3768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01600" y="3789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66760" y="37764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16" y="0"/>
                    </a:lnTo>
                    <a:lnTo>
                      <a:pt x="16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65240" y="3776400"/>
                <a:ext cx="25560" cy="2556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>
              <a:off x="1110960" y="2862000"/>
              <a:ext cx="385560" cy="81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655560" y="3622320"/>
              <a:ext cx="771480" cy="817560"/>
              <a:chOff x="655560" y="3622320"/>
              <a:chExt cx="771480" cy="817560"/>
            </a:xfrm>
          </p:grpSpPr>
          <p:sp>
            <p:nvSpPr>
              <p:cNvPr id="115" name=""/>
              <p:cNvSpPr/>
              <p:nvPr/>
            </p:nvSpPr>
            <p:spPr>
              <a:xfrm>
                <a:off x="655560" y="3622320"/>
                <a:ext cx="709560" cy="54000"/>
              </a:xfrm>
              <a:custGeom>
                <a:avLst/>
                <a:gdLst/>
                <a:ahLst/>
                <a:rect l="l" t="t" r="r" b="b"/>
                <a:pathLst>
                  <a:path w="447" h="34">
                    <a:moveTo>
                      <a:pt x="141" y="33"/>
                    </a:moveTo>
                    <a:lnTo>
                      <a:pt x="446" y="29"/>
                    </a:lnTo>
                    <a:lnTo>
                      <a:pt x="236" y="0"/>
                    </a:lnTo>
                    <a:lnTo>
                      <a:pt x="0" y="0"/>
                    </a:lnTo>
                    <a:lnTo>
                      <a:pt x="141" y="33"/>
                    </a:lnTo>
                  </a:path>
                </a:pathLst>
              </a:custGeom>
              <a:gradFill rotWithShape="0">
                <a:gsLst>
                  <a:gs pos="0">
                    <a:srgbClr val="424242"/>
                  </a:gs>
                  <a:gs pos="100000">
                    <a:srgbClr val="e0e0e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80920" y="3671640"/>
                <a:ext cx="517680" cy="25560"/>
              </a:xfrm>
              <a:custGeom>
                <a:avLst/>
                <a:gdLst/>
                <a:ahLst/>
                <a:rect l="l" t="t" r="r" b="b"/>
                <a:pathLst>
                  <a:path w="326" h="16">
                    <a:moveTo>
                      <a:pt x="0" y="0"/>
                    </a:moveTo>
                    <a:lnTo>
                      <a:pt x="16" y="15"/>
                    </a:lnTo>
                    <a:lnTo>
                      <a:pt x="325" y="15"/>
                    </a:lnTo>
                    <a:lnTo>
                      <a:pt x="30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7000" y="3622320"/>
                <a:ext cx="290520" cy="817560"/>
              </a:xfrm>
              <a:custGeom>
                <a:avLst/>
                <a:gdLst/>
                <a:ahLst/>
                <a:rect l="l" t="t" r="r" b="b"/>
                <a:pathLst>
                  <a:path w="183" h="515">
                    <a:moveTo>
                      <a:pt x="0" y="0"/>
                    </a:moveTo>
                    <a:lnTo>
                      <a:pt x="139" y="31"/>
                    </a:lnTo>
                    <a:lnTo>
                      <a:pt x="164" y="44"/>
                    </a:lnTo>
                    <a:lnTo>
                      <a:pt x="182" y="188"/>
                    </a:lnTo>
                    <a:lnTo>
                      <a:pt x="158" y="218"/>
                    </a:lnTo>
                    <a:lnTo>
                      <a:pt x="155" y="514"/>
                    </a:lnTo>
                    <a:lnTo>
                      <a:pt x="0" y="37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100000">
                    <a:srgbClr val="5f5f5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7920" y="3957480"/>
                <a:ext cx="479520" cy="480960"/>
              </a:xfrm>
              <a:custGeom>
                <a:avLst/>
                <a:gdLst/>
                <a:ahLst/>
                <a:rect l="l" t="t" r="r" b="b"/>
                <a:pathLst>
                  <a:path w="302" h="303">
                    <a:moveTo>
                      <a:pt x="0" y="0"/>
                    </a:moveTo>
                    <a:lnTo>
                      <a:pt x="0" y="302"/>
                    </a:lnTo>
                    <a:lnTo>
                      <a:pt x="301" y="302"/>
                    </a:lnTo>
                    <a:lnTo>
                      <a:pt x="301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12600" y="3684240"/>
                <a:ext cx="514440" cy="244440"/>
              </a:xfrm>
              <a:custGeom>
                <a:avLst/>
                <a:gdLst/>
                <a:ahLst/>
                <a:rect l="l" t="t" r="r" b="b"/>
                <a:pathLst>
                  <a:path w="324" h="154">
                    <a:moveTo>
                      <a:pt x="0" y="0"/>
                    </a:moveTo>
                    <a:lnTo>
                      <a:pt x="307" y="0"/>
                    </a:lnTo>
                    <a:lnTo>
                      <a:pt x="323" y="153"/>
                    </a:lnTo>
                    <a:lnTo>
                      <a:pt x="11" y="15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909720" y="3928680"/>
                <a:ext cx="517320" cy="28800"/>
              </a:xfrm>
              <a:custGeom>
                <a:avLst/>
                <a:gdLst/>
                <a:ahLst/>
                <a:rect l="l" t="t" r="r" b="b"/>
                <a:pathLst>
                  <a:path w="326" h="18">
                    <a:moveTo>
                      <a:pt x="0" y="17"/>
                    </a:moveTo>
                    <a:lnTo>
                      <a:pt x="298" y="17"/>
                    </a:lnTo>
                    <a:lnTo>
                      <a:pt x="325" y="0"/>
                    </a:lnTo>
                    <a:lnTo>
                      <a:pt x="12" y="0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17640" y="3673440"/>
                <a:ext cx="42840" cy="763560"/>
              </a:xfrm>
              <a:custGeom>
                <a:avLst/>
                <a:gdLst/>
                <a:ahLst/>
                <a:rect l="l" t="t" r="r" b="b"/>
                <a:pathLst>
                  <a:path w="27" h="481">
                    <a:moveTo>
                      <a:pt x="0" y="0"/>
                    </a:moveTo>
                    <a:lnTo>
                      <a:pt x="9" y="5"/>
                    </a:lnTo>
                    <a:lnTo>
                      <a:pt x="26" y="158"/>
                    </a:lnTo>
                    <a:lnTo>
                      <a:pt x="9" y="175"/>
                    </a:lnTo>
                    <a:lnTo>
                      <a:pt x="9" y="480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41400" y="3673440"/>
                <a:ext cx="44280" cy="763560"/>
              </a:xfrm>
              <a:custGeom>
                <a:avLst/>
                <a:gdLst/>
                <a:ahLst/>
                <a:rect l="l" t="t" r="r" b="b"/>
                <a:pathLst>
                  <a:path w="28" h="481">
                    <a:moveTo>
                      <a:pt x="0" y="0"/>
                    </a:moveTo>
                    <a:lnTo>
                      <a:pt x="12" y="7"/>
                    </a:lnTo>
                    <a:lnTo>
                      <a:pt x="27" y="158"/>
                    </a:lnTo>
                    <a:lnTo>
                      <a:pt x="12" y="175"/>
                    </a:lnTo>
                    <a:lnTo>
                      <a:pt x="12" y="480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71640" y="3674880"/>
                <a:ext cx="42840" cy="762120"/>
              </a:xfrm>
              <a:custGeom>
                <a:avLst/>
                <a:gdLst/>
                <a:ahLst/>
                <a:rect l="l" t="t" r="r" b="b"/>
                <a:pathLst>
                  <a:path w="27" h="480">
                    <a:moveTo>
                      <a:pt x="0" y="0"/>
                    </a:moveTo>
                    <a:lnTo>
                      <a:pt x="9" y="8"/>
                    </a:lnTo>
                    <a:lnTo>
                      <a:pt x="26" y="158"/>
                    </a:lnTo>
                    <a:lnTo>
                      <a:pt x="9" y="175"/>
                    </a:lnTo>
                    <a:lnTo>
                      <a:pt x="9" y="47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95400" y="3673440"/>
                <a:ext cx="41040" cy="763560"/>
              </a:xfrm>
              <a:custGeom>
                <a:avLst/>
                <a:gdLst/>
                <a:ahLst/>
                <a:rect l="l" t="t" r="r" b="b"/>
                <a:pathLst>
                  <a:path w="26" h="481">
                    <a:moveTo>
                      <a:pt x="0" y="0"/>
                    </a:moveTo>
                    <a:lnTo>
                      <a:pt x="9" y="5"/>
                    </a:lnTo>
                    <a:lnTo>
                      <a:pt x="25" y="157"/>
                    </a:lnTo>
                    <a:lnTo>
                      <a:pt x="9" y="174"/>
                    </a:lnTo>
                    <a:lnTo>
                      <a:pt x="9" y="480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023840" y="3674880"/>
                <a:ext cx="36720" cy="762120"/>
              </a:xfrm>
              <a:custGeom>
                <a:avLst/>
                <a:gdLst/>
                <a:ahLst/>
                <a:rect l="l" t="t" r="r" b="b"/>
                <a:pathLst>
                  <a:path w="23" h="480">
                    <a:moveTo>
                      <a:pt x="0" y="0"/>
                    </a:moveTo>
                    <a:lnTo>
                      <a:pt x="8" y="5"/>
                    </a:lnTo>
                    <a:lnTo>
                      <a:pt x="22" y="157"/>
                    </a:lnTo>
                    <a:lnTo>
                      <a:pt x="8" y="174"/>
                    </a:lnTo>
                    <a:lnTo>
                      <a:pt x="8" y="479"/>
                    </a:lnTo>
                  </a:path>
                </a:pathLst>
              </a:custGeom>
              <a:noFill/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065240" y="4027320"/>
                <a:ext cx="295200" cy="3571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65240" y="4101840"/>
                <a:ext cx="295200" cy="58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65240" y="4176360"/>
                <a:ext cx="295200" cy="572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65240" y="4249440"/>
                <a:ext cx="295200" cy="58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06280" y="4108320"/>
                <a:ext cx="201600" cy="4104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06280" y="4182840"/>
                <a:ext cx="201600" cy="414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252440" y="403200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5" y="0"/>
                    </a:moveTo>
                    <a:lnTo>
                      <a:pt x="15" y="21"/>
                    </a:lnTo>
                    <a:lnTo>
                      <a:pt x="0" y="7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65240" y="4027320"/>
                <a:ext cx="295200" cy="5400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04920" y="4032000"/>
                <a:ext cx="47520" cy="2556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29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24" y="15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04920" y="4057560"/>
                <a:ext cx="131760" cy="25200"/>
              </a:xfrm>
              <a:custGeom>
                <a:avLst/>
                <a:gdLst/>
                <a:ahLst/>
                <a:rect l="l" t="t" r="r" b="b"/>
                <a:pathLst>
                  <a:path w="83" h="16">
                    <a:moveTo>
                      <a:pt x="82" y="15"/>
                    </a:moveTo>
                    <a:lnTo>
                      <a:pt x="0" y="15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82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63600" y="4036680"/>
                <a:ext cx="73080" cy="25560"/>
              </a:xfrm>
              <a:custGeom>
                <a:avLst/>
                <a:gdLst/>
                <a:ahLst/>
                <a:rect l="l" t="t" r="r" b="b"/>
                <a:pathLst>
                  <a:path w="46" h="16">
                    <a:moveTo>
                      <a:pt x="45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0" y="15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336680" y="403668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8"/>
                    </a:lnTo>
                    <a:lnTo>
                      <a:pt x="17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72960" y="4068720"/>
                <a:ext cx="17640" cy="126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7840" y="4049640"/>
                <a:ext cx="266760" cy="25200"/>
              </a:xfrm>
              <a:custGeom>
                <a:avLst/>
                <a:gdLst/>
                <a:ahLst/>
                <a:rect l="l" t="t" r="r" b="b"/>
                <a:pathLst>
                  <a:path w="168" h="16">
                    <a:moveTo>
                      <a:pt x="0" y="15"/>
                    </a:moveTo>
                    <a:lnTo>
                      <a:pt x="167" y="15"/>
                    </a:lnTo>
                    <a:lnTo>
                      <a:pt x="167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23920" y="4119480"/>
                <a:ext cx="174600" cy="27000"/>
              </a:xfrm>
              <a:custGeom>
                <a:avLst/>
                <a:gdLst/>
                <a:ahLst/>
                <a:rect l="l" t="t" r="r" b="b"/>
                <a:pathLst>
                  <a:path w="110" h="17">
                    <a:moveTo>
                      <a:pt x="0" y="16"/>
                    </a:moveTo>
                    <a:lnTo>
                      <a:pt x="109" y="16"/>
                    </a:lnTo>
                    <a:lnTo>
                      <a:pt x="109" y="0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73240" y="4135320"/>
                <a:ext cx="77760" cy="25200"/>
              </a:xfrm>
              <a:custGeom>
                <a:avLst/>
                <a:gdLst/>
                <a:ahLst/>
                <a:rect l="l" t="t" r="r" b="b"/>
                <a:pathLst>
                  <a:path w="49" h="16">
                    <a:moveTo>
                      <a:pt x="0" y="15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8" y="15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57240" y="3722400"/>
                <a:ext cx="7128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44" y="36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63720" y="3821040"/>
                <a:ext cx="72720" cy="60120"/>
              </a:xfrm>
              <a:custGeom>
                <a:avLst/>
                <a:gdLst/>
                <a:ahLst/>
                <a:rect l="l" t="t" r="r" b="b"/>
                <a:pathLst>
                  <a:path w="46" h="38">
                    <a:moveTo>
                      <a:pt x="42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45" y="37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71360" y="3814560"/>
                <a:ext cx="300240" cy="73080"/>
              </a:xfrm>
              <a:custGeom>
                <a:avLst/>
                <a:gdLst/>
                <a:ahLst/>
                <a:rect l="l" t="t" r="r" b="b"/>
                <a:pathLst>
                  <a:path w="189" h="46">
                    <a:moveTo>
                      <a:pt x="0" y="0"/>
                    </a:moveTo>
                    <a:lnTo>
                      <a:pt x="5" y="45"/>
                    </a:lnTo>
                    <a:lnTo>
                      <a:pt x="188" y="45"/>
                    </a:lnTo>
                    <a:lnTo>
                      <a:pt x="18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135080" y="38304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15" y="0"/>
                    </a:lnTo>
                    <a:lnTo>
                      <a:pt x="1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35080" y="3854160"/>
                <a:ext cx="2520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15" y="0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208160" y="384012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0"/>
                    </a:moveTo>
                    <a:lnTo>
                      <a:pt x="19" y="0"/>
                    </a:lnTo>
                    <a:lnTo>
                      <a:pt x="19" y="15"/>
                    </a:lnTo>
                    <a:lnTo>
                      <a:pt x="0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96920" y="3840120"/>
                <a:ext cx="25200" cy="252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33320" y="5079960"/>
              <a:ext cx="3290760" cy="785520"/>
              <a:chOff x="733320" y="5079960"/>
              <a:chExt cx="3290760" cy="7855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119240" y="5079960"/>
                <a:ext cx="355320" cy="317160"/>
                <a:chOff x="1119240" y="5079960"/>
                <a:chExt cx="355320" cy="31716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1119240" y="5113080"/>
                  <a:ext cx="355320" cy="284040"/>
                  <a:chOff x="1119240" y="5113080"/>
                  <a:chExt cx="355320" cy="28404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1125360" y="5113080"/>
                    <a:ext cx="341280" cy="244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1119240" y="5305320"/>
                    <a:ext cx="355320" cy="9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" name=""/>
                <p:cNvSpPr/>
                <p:nvPr/>
              </p:nvSpPr>
              <p:spPr>
                <a:xfrm>
                  <a:off x="1119240" y="5079960"/>
                  <a:ext cx="355320" cy="88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8f8f8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33320" y="5179680"/>
                <a:ext cx="352440" cy="322560"/>
                <a:chOff x="733320" y="5179680"/>
                <a:chExt cx="352440" cy="32256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733320" y="5216400"/>
                  <a:ext cx="352440" cy="285840"/>
                  <a:chOff x="733320" y="5216400"/>
                  <a:chExt cx="352440" cy="28584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739800" y="5216400"/>
                    <a:ext cx="339480" cy="239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33320" y="5408280"/>
                    <a:ext cx="352440" cy="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>
                  <a:off x="733320" y="5179680"/>
                  <a:ext cx="352440" cy="9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8f8f8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644480" y="5130720"/>
                <a:ext cx="436680" cy="325440"/>
                <a:chOff x="1644480" y="5130720"/>
                <a:chExt cx="436680" cy="3254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1644480" y="5167080"/>
                  <a:ext cx="436680" cy="289080"/>
                  <a:chOff x="1644480" y="5167080"/>
                  <a:chExt cx="436680" cy="2890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1654200" y="5167080"/>
                    <a:ext cx="420480" cy="247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644480" y="5364000"/>
                    <a:ext cx="43668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1644480" y="5130720"/>
                  <a:ext cx="436680" cy="9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8f8f8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195280" y="5179680"/>
                <a:ext cx="468360" cy="379440"/>
                <a:chOff x="2195280" y="5179680"/>
                <a:chExt cx="468360" cy="3794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2195280" y="5222520"/>
                  <a:ext cx="468360" cy="336600"/>
                  <a:chOff x="2195280" y="5222520"/>
                  <a:chExt cx="468360" cy="3366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2203560" y="5222520"/>
                    <a:ext cx="452160" cy="287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2195280" y="5449680"/>
                    <a:ext cx="468360" cy="10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9" name=""/>
                <p:cNvSpPr/>
                <p:nvPr/>
              </p:nvSpPr>
              <p:spPr>
                <a:xfrm>
                  <a:off x="2195280" y="5179680"/>
                  <a:ext cx="468360" cy="109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8f8f8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854080" y="5283000"/>
                <a:ext cx="522360" cy="380880"/>
                <a:chOff x="2854080" y="5283000"/>
                <a:chExt cx="522360" cy="38088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2854080" y="5324400"/>
                  <a:ext cx="522360" cy="339480"/>
                  <a:chOff x="2854080" y="5324400"/>
                  <a:chExt cx="522360" cy="3394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2862360" y="5324400"/>
                    <a:ext cx="506160" cy="287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854080" y="5551200"/>
                    <a:ext cx="522360" cy="112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2854080" y="5283000"/>
                  <a:ext cx="522360" cy="106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8f8f8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475080" y="5322600"/>
                <a:ext cx="549000" cy="439920"/>
                <a:chOff x="3475080" y="5322600"/>
                <a:chExt cx="549000" cy="43992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3475080" y="5371920"/>
                  <a:ext cx="549000" cy="390600"/>
                  <a:chOff x="3475080" y="5371920"/>
                  <a:chExt cx="549000" cy="39060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3483000" y="5371920"/>
                    <a:ext cx="530280" cy="333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475080" y="5635440"/>
                    <a:ext cx="549000" cy="127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" name=""/>
                <p:cNvSpPr/>
                <p:nvPr/>
              </p:nvSpPr>
              <p:spPr>
                <a:xfrm>
                  <a:off x="3475080" y="5322600"/>
                  <a:ext cx="549000" cy="12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8f8f8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253880" y="5232240"/>
                <a:ext cx="436680" cy="326880"/>
                <a:chOff x="1253880" y="5232240"/>
                <a:chExt cx="436680" cy="32688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1253880" y="5268600"/>
                  <a:ext cx="436680" cy="290520"/>
                  <a:chOff x="1253880" y="5268600"/>
                  <a:chExt cx="436680" cy="2905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1263600" y="5268600"/>
                    <a:ext cx="420840" cy="247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1253880" y="5465520"/>
                    <a:ext cx="436680" cy="93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4" name=""/>
                <p:cNvSpPr/>
                <p:nvPr/>
              </p:nvSpPr>
              <p:spPr>
                <a:xfrm>
                  <a:off x="1253880" y="5232240"/>
                  <a:ext cx="436680" cy="9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8f8f8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807920" y="5283000"/>
                <a:ext cx="468360" cy="380880"/>
                <a:chOff x="1807920" y="5283000"/>
                <a:chExt cx="468360" cy="38088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07920" y="5324400"/>
                  <a:ext cx="468360" cy="339480"/>
                  <a:chOff x="1807920" y="5324400"/>
                  <a:chExt cx="468360" cy="33948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16200" y="5324400"/>
                    <a:ext cx="450720" cy="287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807920" y="5551200"/>
                    <a:ext cx="468360" cy="112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" name=""/>
                <p:cNvSpPr/>
                <p:nvPr/>
              </p:nvSpPr>
              <p:spPr>
                <a:xfrm>
                  <a:off x="1807920" y="5283000"/>
                  <a:ext cx="468360" cy="106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8f8f8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465280" y="5384520"/>
                <a:ext cx="522360" cy="378000"/>
                <a:chOff x="2465280" y="5384520"/>
                <a:chExt cx="522360" cy="37800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2465280" y="5427360"/>
                  <a:ext cx="522360" cy="335160"/>
                  <a:chOff x="2465280" y="5427360"/>
                  <a:chExt cx="522360" cy="3351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2473200" y="5427360"/>
                    <a:ext cx="504720" cy="2872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2465280" y="5654520"/>
                    <a:ext cx="522360" cy="10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4" name=""/>
                <p:cNvSpPr/>
                <p:nvPr/>
              </p:nvSpPr>
              <p:spPr>
                <a:xfrm>
                  <a:off x="2465280" y="5384520"/>
                  <a:ext cx="522360" cy="1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8f8f8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087720" y="5425920"/>
                <a:ext cx="547560" cy="439560"/>
                <a:chOff x="3087720" y="5425920"/>
                <a:chExt cx="547560" cy="43956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3087720" y="5473440"/>
                  <a:ext cx="547560" cy="392040"/>
                  <a:chOff x="3087720" y="5473440"/>
                  <a:chExt cx="547560" cy="3920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3095640" y="5473440"/>
                    <a:ext cx="530280" cy="333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087720" y="5736960"/>
                    <a:ext cx="547560" cy="128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cecece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3087720" y="5425920"/>
                  <a:ext cx="547560" cy="12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8f8f8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1022400" y="4746600"/>
              <a:ext cx="3131640" cy="728640"/>
              <a:chOff x="1022400" y="4746600"/>
              <a:chExt cx="3131640" cy="72864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1022400" y="4746600"/>
                <a:ext cx="3063600" cy="41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555560" y="4798800"/>
                <a:ext cx="2530440" cy="442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2241360" y="4798800"/>
                <a:ext cx="1909800" cy="51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2927160" y="4847760"/>
                <a:ext cx="1224000" cy="546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3507840" y="4895640"/>
                <a:ext cx="646200" cy="57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722160" y="1981080"/>
              <a:ext cx="709560" cy="5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17600" y="2565360"/>
              <a:ext cx="398520" cy="398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411280" y="3267000"/>
              <a:ext cx="2913120" cy="917280"/>
              <a:chOff x="2411280" y="3267000"/>
              <a:chExt cx="2913120" cy="91728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2411280" y="3468600"/>
                <a:ext cx="642960" cy="715680"/>
                <a:chOff x="2411280" y="3468600"/>
                <a:chExt cx="642960" cy="7156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411280" y="3468600"/>
                  <a:ext cx="593640" cy="47520"/>
                </a:xfrm>
                <a:custGeom>
                  <a:avLst/>
                  <a:gdLst/>
                  <a:ahLst/>
                  <a:rect l="l" t="t" r="r" b="b"/>
                  <a:pathLst>
                    <a:path w="374" h="30">
                      <a:moveTo>
                        <a:pt x="118" y="29"/>
                      </a:moveTo>
                      <a:lnTo>
                        <a:pt x="373" y="25"/>
                      </a:lnTo>
                      <a:lnTo>
                        <a:pt x="197" y="0"/>
                      </a:lnTo>
                      <a:lnTo>
                        <a:pt x="0" y="0"/>
                      </a:lnTo>
                      <a:lnTo>
                        <a:pt x="118" y="29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e0e0e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595600" y="3512880"/>
                  <a:ext cx="434880" cy="25560"/>
                </a:xfrm>
                <a:custGeom>
                  <a:avLst/>
                  <a:gdLst/>
                  <a:ahLst/>
                  <a:rect l="l" t="t" r="r" b="b"/>
                  <a:pathLst>
                    <a:path w="274" h="16">
                      <a:moveTo>
                        <a:pt x="0" y="0"/>
                      </a:moveTo>
                      <a:lnTo>
                        <a:pt x="13" y="15"/>
                      </a:lnTo>
                      <a:lnTo>
                        <a:pt x="273" y="15"/>
                      </a:lnTo>
                      <a:lnTo>
                        <a:pt x="257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411280" y="3468600"/>
                  <a:ext cx="244440" cy="715680"/>
                </a:xfrm>
                <a:custGeom>
                  <a:avLst/>
                  <a:gdLst/>
                  <a:ahLst/>
                  <a:rect l="l" t="t" r="r" b="b"/>
                  <a:pathLst>
                    <a:path w="154" h="451">
                      <a:moveTo>
                        <a:pt x="0" y="0"/>
                      </a:moveTo>
                      <a:lnTo>
                        <a:pt x="117" y="27"/>
                      </a:lnTo>
                      <a:lnTo>
                        <a:pt x="137" y="38"/>
                      </a:lnTo>
                      <a:lnTo>
                        <a:pt x="153" y="165"/>
                      </a:lnTo>
                      <a:lnTo>
                        <a:pt x="132" y="191"/>
                      </a:lnTo>
                      <a:lnTo>
                        <a:pt x="130" y="450"/>
                      </a:lnTo>
                      <a:lnTo>
                        <a:pt x="0" y="329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0a0a0"/>
                    </a:gs>
                    <a:gs pos="100000">
                      <a:srgbClr val="5f5f5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619360" y="3760560"/>
                  <a:ext cx="401760" cy="422280"/>
                </a:xfrm>
                <a:custGeom>
                  <a:avLst/>
                  <a:gdLst/>
                  <a:ahLst/>
                  <a:rect l="l" t="t" r="r" b="b"/>
                  <a:pathLst>
                    <a:path w="253" h="266">
                      <a:moveTo>
                        <a:pt x="0" y="0"/>
                      </a:moveTo>
                      <a:lnTo>
                        <a:pt x="0" y="265"/>
                      </a:lnTo>
                      <a:lnTo>
                        <a:pt x="252" y="265"/>
                      </a:lnTo>
                      <a:lnTo>
                        <a:pt x="252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9b9b9b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624040" y="3524040"/>
                  <a:ext cx="430200" cy="214200"/>
                </a:xfrm>
                <a:custGeom>
                  <a:avLst/>
                  <a:gdLst/>
                  <a:ahLst/>
                  <a:rect l="l" t="t" r="r" b="b"/>
                  <a:pathLst>
                    <a:path w="271" h="135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70" y="134"/>
                      </a:lnTo>
                      <a:lnTo>
                        <a:pt x="10" y="134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9b9b9b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620800" y="3738240"/>
                  <a:ext cx="433440" cy="25560"/>
                </a:xfrm>
                <a:custGeom>
                  <a:avLst/>
                  <a:gdLst/>
                  <a:ahLst/>
                  <a:rect l="l" t="t" r="r" b="b"/>
                  <a:pathLst>
                    <a:path w="273" h="16">
                      <a:moveTo>
                        <a:pt x="0" y="15"/>
                      </a:moveTo>
                      <a:lnTo>
                        <a:pt x="249" y="15"/>
                      </a:lnTo>
                      <a:lnTo>
                        <a:pt x="272" y="0"/>
                      </a:lnTo>
                      <a:lnTo>
                        <a:pt x="11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628720" y="3514680"/>
                  <a:ext cx="36720" cy="668160"/>
                </a:xfrm>
                <a:custGeom>
                  <a:avLst/>
                  <a:gdLst/>
                  <a:ahLst/>
                  <a:rect l="l" t="t" r="r" b="b"/>
                  <a:pathLst>
                    <a:path w="23" h="421">
                      <a:moveTo>
                        <a:pt x="0" y="0"/>
                      </a:moveTo>
                      <a:lnTo>
                        <a:pt x="7" y="4"/>
                      </a:lnTo>
                      <a:lnTo>
                        <a:pt x="22" y="138"/>
                      </a:lnTo>
                      <a:lnTo>
                        <a:pt x="7" y="153"/>
                      </a:lnTo>
                      <a:lnTo>
                        <a:pt x="7" y="420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646360" y="3514680"/>
                  <a:ext cx="38160" cy="668160"/>
                </a:xfrm>
                <a:custGeom>
                  <a:avLst/>
                  <a:gdLst/>
                  <a:ahLst/>
                  <a:rect l="l" t="t" r="r" b="b"/>
                  <a:pathLst>
                    <a:path w="24" h="421">
                      <a:moveTo>
                        <a:pt x="0" y="0"/>
                      </a:moveTo>
                      <a:lnTo>
                        <a:pt x="10" y="6"/>
                      </a:lnTo>
                      <a:lnTo>
                        <a:pt x="23" y="138"/>
                      </a:lnTo>
                      <a:lnTo>
                        <a:pt x="10" y="153"/>
                      </a:lnTo>
                      <a:lnTo>
                        <a:pt x="10" y="420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674800" y="3514680"/>
                  <a:ext cx="33480" cy="666720"/>
                </a:xfrm>
                <a:custGeom>
                  <a:avLst/>
                  <a:gdLst/>
                  <a:ahLst/>
                  <a:rect l="l" t="t" r="r" b="b"/>
                  <a:pathLst>
                    <a:path w="21" h="420">
                      <a:moveTo>
                        <a:pt x="0" y="0"/>
                      </a:moveTo>
                      <a:lnTo>
                        <a:pt x="7" y="7"/>
                      </a:lnTo>
                      <a:lnTo>
                        <a:pt x="20" y="139"/>
                      </a:lnTo>
                      <a:lnTo>
                        <a:pt x="7" y="153"/>
                      </a:lnTo>
                      <a:lnTo>
                        <a:pt x="7" y="419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692440" y="3514680"/>
                  <a:ext cx="36360" cy="668160"/>
                </a:xfrm>
                <a:custGeom>
                  <a:avLst/>
                  <a:gdLst/>
                  <a:ahLst/>
                  <a:rect l="l" t="t" r="r" b="b"/>
                  <a:pathLst>
                    <a:path w="23" h="421">
                      <a:moveTo>
                        <a:pt x="0" y="0"/>
                      </a:moveTo>
                      <a:lnTo>
                        <a:pt x="8" y="4"/>
                      </a:lnTo>
                      <a:lnTo>
                        <a:pt x="22" y="137"/>
                      </a:lnTo>
                      <a:lnTo>
                        <a:pt x="8" y="152"/>
                      </a:lnTo>
                      <a:lnTo>
                        <a:pt x="8" y="420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716200" y="3514680"/>
                  <a:ext cx="30240" cy="666720"/>
                </a:xfrm>
                <a:custGeom>
                  <a:avLst/>
                  <a:gdLst/>
                  <a:ahLst/>
                  <a:rect l="l" t="t" r="r" b="b"/>
                  <a:pathLst>
                    <a:path w="19" h="420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18" y="137"/>
                      </a:lnTo>
                      <a:lnTo>
                        <a:pt x="6" y="152"/>
                      </a:lnTo>
                      <a:lnTo>
                        <a:pt x="6" y="419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751120" y="3823920"/>
                  <a:ext cx="244440" cy="3146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751120" y="3889080"/>
                  <a:ext cx="244440" cy="49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751120" y="3955680"/>
                  <a:ext cx="244440" cy="49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51120" y="4019400"/>
                  <a:ext cx="244440" cy="522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786040" y="3895560"/>
                  <a:ext cx="166680" cy="3816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786040" y="3962160"/>
                  <a:ext cx="166680" cy="3348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908080" y="3827160"/>
                  <a:ext cx="25560" cy="31680"/>
                </a:xfrm>
                <a:custGeom>
                  <a:avLst/>
                  <a:gdLst/>
                  <a:ahLst/>
                  <a:rect l="l" t="t" r="r" b="b"/>
                  <a:pathLst>
                    <a:path w="16" h="20">
                      <a:moveTo>
                        <a:pt x="15" y="0"/>
                      </a:moveTo>
                      <a:lnTo>
                        <a:pt x="15" y="19"/>
                      </a:lnTo>
                      <a:lnTo>
                        <a:pt x="0" y="6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751120" y="3823920"/>
                  <a:ext cx="244440" cy="4788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870280" y="3827160"/>
                  <a:ext cx="39600" cy="25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24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9" y="15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870280" y="3849480"/>
                  <a:ext cx="107640" cy="25560"/>
                </a:xfrm>
                <a:custGeom>
                  <a:avLst/>
                  <a:gdLst/>
                  <a:ahLst/>
                  <a:rect l="l" t="t" r="r" b="b"/>
                  <a:pathLst>
                    <a:path w="68" h="16">
                      <a:moveTo>
                        <a:pt x="67" y="15"/>
                      </a:move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62" y="0"/>
                      </a:lnTo>
                      <a:lnTo>
                        <a:pt x="67" y="1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917800" y="3833640"/>
                  <a:ext cx="60120" cy="25200"/>
                </a:xfrm>
                <a:custGeom>
                  <a:avLst/>
                  <a:gdLst/>
                  <a:ahLst/>
                  <a:rect l="l" t="t" r="r" b="b"/>
                  <a:pathLst>
                    <a:path w="38" h="16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32" y="15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976480" y="3833640"/>
                  <a:ext cx="2700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16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925720" y="3858840"/>
                  <a:ext cx="12600" cy="129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62280" y="3843000"/>
                  <a:ext cx="222120" cy="25560"/>
                </a:xfrm>
                <a:custGeom>
                  <a:avLst/>
                  <a:gdLst/>
                  <a:ahLst/>
                  <a:rect l="l" t="t" r="r" b="b"/>
                  <a:pathLst>
                    <a:path w="140" h="16">
                      <a:moveTo>
                        <a:pt x="0" y="15"/>
                      </a:moveTo>
                      <a:lnTo>
                        <a:pt x="139" y="15"/>
                      </a:lnTo>
                      <a:lnTo>
                        <a:pt x="139" y="0"/>
                      </a:lnTo>
                      <a:lnTo>
                        <a:pt x="0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801880" y="3906720"/>
                  <a:ext cx="144360" cy="25200"/>
                </a:xfrm>
                <a:custGeom>
                  <a:avLst/>
                  <a:gdLst/>
                  <a:ahLst/>
                  <a:rect l="l" t="t" r="r" b="b"/>
                  <a:pathLst>
                    <a:path w="91" h="16">
                      <a:moveTo>
                        <a:pt x="0" y="15"/>
                      </a:moveTo>
                      <a:lnTo>
                        <a:pt x="90" y="15"/>
                      </a:lnTo>
                      <a:lnTo>
                        <a:pt x="90" y="0"/>
                      </a:lnTo>
                      <a:lnTo>
                        <a:pt x="0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843280" y="3919320"/>
                  <a:ext cx="66600" cy="25560"/>
                </a:xfrm>
                <a:custGeom>
                  <a:avLst/>
                  <a:gdLst/>
                  <a:ahLst/>
                  <a:rect l="l" t="t" r="r" b="b"/>
                  <a:pathLst>
                    <a:path w="42" h="16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41" y="15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0760" y="3557520"/>
                  <a:ext cx="63360" cy="52200"/>
                </a:xfrm>
                <a:custGeom>
                  <a:avLst/>
                  <a:gdLst/>
                  <a:ahLst/>
                  <a:rect l="l" t="t" r="r" b="b"/>
                  <a:pathLst>
                    <a:path w="40" h="33">
                      <a:moveTo>
                        <a:pt x="35" y="0"/>
                      </a:moveTo>
                      <a:lnTo>
                        <a:pt x="0" y="0"/>
                      </a:lnTo>
                      <a:lnTo>
                        <a:pt x="0" y="32"/>
                      </a:lnTo>
                      <a:lnTo>
                        <a:pt x="39" y="32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666880" y="3644640"/>
                  <a:ext cx="61920" cy="50760"/>
                </a:xfrm>
                <a:custGeom>
                  <a:avLst/>
                  <a:gdLst/>
                  <a:ahLst/>
                  <a:rect l="l" t="t" r="r" b="b"/>
                  <a:pathLst>
                    <a:path w="39" h="32">
                      <a:moveTo>
                        <a:pt x="35" y="0"/>
                      </a:moveTo>
                      <a:lnTo>
                        <a:pt x="0" y="0"/>
                      </a:lnTo>
                      <a:lnTo>
                        <a:pt x="0" y="31"/>
                      </a:lnTo>
                      <a:lnTo>
                        <a:pt x="38" y="31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757240" y="3636720"/>
                  <a:ext cx="254160" cy="65160"/>
                </a:xfrm>
                <a:custGeom>
                  <a:avLst/>
                  <a:gdLst/>
                  <a:ahLst/>
                  <a:rect l="l" t="t" r="r" b="b"/>
                  <a:pathLst>
                    <a:path w="160" h="41">
                      <a:moveTo>
                        <a:pt x="0" y="0"/>
                      </a:moveTo>
                      <a:lnTo>
                        <a:pt x="5" y="40"/>
                      </a:lnTo>
                      <a:lnTo>
                        <a:pt x="159" y="40"/>
                      </a:lnTo>
                      <a:lnTo>
                        <a:pt x="15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3654360"/>
                  <a:ext cx="2556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09800" y="3673440"/>
                  <a:ext cx="2556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873160" y="366048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776320" y="3660480"/>
                  <a:ext cx="2556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187800" y="3420720"/>
                <a:ext cx="582480" cy="662040"/>
                <a:chOff x="3187800" y="3420720"/>
                <a:chExt cx="582480" cy="6620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187800" y="3420720"/>
                  <a:ext cx="537840" cy="44640"/>
                </a:xfrm>
                <a:custGeom>
                  <a:avLst/>
                  <a:gdLst/>
                  <a:ahLst/>
                  <a:rect l="l" t="t" r="r" b="b"/>
                  <a:pathLst>
                    <a:path w="339" h="28">
                      <a:moveTo>
                        <a:pt x="107" y="27"/>
                      </a:moveTo>
                      <a:lnTo>
                        <a:pt x="338" y="23"/>
                      </a:lnTo>
                      <a:lnTo>
                        <a:pt x="178" y="0"/>
                      </a:lnTo>
                      <a:lnTo>
                        <a:pt x="0" y="0"/>
                      </a:lnTo>
                      <a:lnTo>
                        <a:pt x="107" y="27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e0e0e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57360" y="3458880"/>
                  <a:ext cx="392400" cy="25560"/>
                </a:xfrm>
                <a:custGeom>
                  <a:avLst/>
                  <a:gdLst/>
                  <a:ahLst/>
                  <a:rect l="l" t="t" r="r" b="b"/>
                  <a:pathLst>
                    <a:path w="247" h="16">
                      <a:moveTo>
                        <a:pt x="0" y="0"/>
                      </a:moveTo>
                      <a:lnTo>
                        <a:pt x="11" y="15"/>
                      </a:lnTo>
                      <a:lnTo>
                        <a:pt x="246" y="15"/>
                      </a:lnTo>
                      <a:lnTo>
                        <a:pt x="2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187800" y="3420720"/>
                  <a:ext cx="218880" cy="662040"/>
                </a:xfrm>
                <a:custGeom>
                  <a:avLst/>
                  <a:gdLst/>
                  <a:ahLst/>
                  <a:rect l="l" t="t" r="r" b="b"/>
                  <a:pathLst>
                    <a:path w="138" h="417">
                      <a:moveTo>
                        <a:pt x="0" y="0"/>
                      </a:moveTo>
                      <a:lnTo>
                        <a:pt x="104" y="24"/>
                      </a:lnTo>
                      <a:lnTo>
                        <a:pt x="123" y="36"/>
                      </a:lnTo>
                      <a:lnTo>
                        <a:pt x="137" y="152"/>
                      </a:lnTo>
                      <a:lnTo>
                        <a:pt x="118" y="176"/>
                      </a:lnTo>
                      <a:lnTo>
                        <a:pt x="116" y="416"/>
                      </a:lnTo>
                      <a:lnTo>
                        <a:pt x="0" y="304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0a0a0"/>
                    </a:gs>
                    <a:gs pos="100000">
                      <a:srgbClr val="5f5f5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376440" y="3690720"/>
                  <a:ext cx="362160" cy="392040"/>
                </a:xfrm>
                <a:custGeom>
                  <a:avLst/>
                  <a:gdLst/>
                  <a:ahLst/>
                  <a:rect l="l" t="t" r="r" b="b"/>
                  <a:pathLst>
                    <a:path w="228" h="247">
                      <a:moveTo>
                        <a:pt x="0" y="0"/>
                      </a:moveTo>
                      <a:lnTo>
                        <a:pt x="0" y="246"/>
                      </a:lnTo>
                      <a:lnTo>
                        <a:pt x="227" y="246"/>
                      </a:lnTo>
                      <a:lnTo>
                        <a:pt x="227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9b9b9b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381480" y="3470040"/>
                  <a:ext cx="388800" cy="198360"/>
                </a:xfrm>
                <a:custGeom>
                  <a:avLst/>
                  <a:gdLst/>
                  <a:ahLst/>
                  <a:rect l="l" t="t" r="r" b="b"/>
                  <a:pathLst>
                    <a:path w="245" h="125">
                      <a:moveTo>
                        <a:pt x="0" y="0"/>
                      </a:moveTo>
                      <a:lnTo>
                        <a:pt x="232" y="0"/>
                      </a:lnTo>
                      <a:lnTo>
                        <a:pt x="244" y="124"/>
                      </a:lnTo>
                      <a:lnTo>
                        <a:pt x="8" y="124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9b9b9b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379680" y="3668400"/>
                  <a:ext cx="390600" cy="25560"/>
                </a:xfrm>
                <a:custGeom>
                  <a:avLst/>
                  <a:gdLst/>
                  <a:ahLst/>
                  <a:rect l="l" t="t" r="r" b="b"/>
                  <a:pathLst>
                    <a:path w="246" h="16">
                      <a:moveTo>
                        <a:pt x="0" y="15"/>
                      </a:moveTo>
                      <a:lnTo>
                        <a:pt x="224" y="15"/>
                      </a:lnTo>
                      <a:lnTo>
                        <a:pt x="245" y="0"/>
                      </a:lnTo>
                      <a:lnTo>
                        <a:pt x="9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384360" y="3463560"/>
                  <a:ext cx="34920" cy="619200"/>
                </a:xfrm>
                <a:custGeom>
                  <a:avLst/>
                  <a:gdLst/>
                  <a:ahLst/>
                  <a:rect l="l" t="t" r="r" b="b"/>
                  <a:pathLst>
                    <a:path w="22" h="390">
                      <a:moveTo>
                        <a:pt x="0" y="0"/>
                      </a:moveTo>
                      <a:lnTo>
                        <a:pt x="7" y="4"/>
                      </a:lnTo>
                      <a:lnTo>
                        <a:pt x="21" y="127"/>
                      </a:lnTo>
                      <a:lnTo>
                        <a:pt x="7" y="142"/>
                      </a:lnTo>
                      <a:lnTo>
                        <a:pt x="7" y="389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402000" y="3463560"/>
                  <a:ext cx="34920" cy="619200"/>
                </a:xfrm>
                <a:custGeom>
                  <a:avLst/>
                  <a:gdLst/>
                  <a:ahLst/>
                  <a:rect l="l" t="t" r="r" b="b"/>
                  <a:pathLst>
                    <a:path w="22" h="390">
                      <a:moveTo>
                        <a:pt x="0" y="0"/>
                      </a:moveTo>
                      <a:lnTo>
                        <a:pt x="9" y="6"/>
                      </a:lnTo>
                      <a:lnTo>
                        <a:pt x="21" y="127"/>
                      </a:lnTo>
                      <a:lnTo>
                        <a:pt x="9" y="142"/>
                      </a:lnTo>
                      <a:lnTo>
                        <a:pt x="9" y="389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429000" y="3463560"/>
                  <a:ext cx="30240" cy="619200"/>
                </a:xfrm>
                <a:custGeom>
                  <a:avLst/>
                  <a:gdLst/>
                  <a:ahLst/>
                  <a:rect l="l" t="t" r="r" b="b"/>
                  <a:pathLst>
                    <a:path w="19" h="390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18" y="128"/>
                      </a:lnTo>
                      <a:lnTo>
                        <a:pt x="6" y="142"/>
                      </a:lnTo>
                      <a:lnTo>
                        <a:pt x="6" y="389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444840" y="3463560"/>
                  <a:ext cx="31680" cy="619200"/>
                </a:xfrm>
                <a:custGeom>
                  <a:avLst/>
                  <a:gdLst/>
                  <a:ahLst/>
                  <a:rect l="l" t="t" r="r" b="b"/>
                  <a:pathLst>
                    <a:path w="20" h="390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19" y="127"/>
                      </a:lnTo>
                      <a:lnTo>
                        <a:pt x="6" y="141"/>
                      </a:lnTo>
                      <a:lnTo>
                        <a:pt x="6" y="389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463920" y="3463560"/>
                  <a:ext cx="30240" cy="619200"/>
                </a:xfrm>
                <a:custGeom>
                  <a:avLst/>
                  <a:gdLst/>
                  <a:ahLst/>
                  <a:rect l="l" t="t" r="r" b="b"/>
                  <a:pathLst>
                    <a:path w="19" h="390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18" y="127"/>
                      </a:lnTo>
                      <a:lnTo>
                        <a:pt x="6" y="141"/>
                      </a:lnTo>
                      <a:lnTo>
                        <a:pt x="6" y="389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498840" y="3751200"/>
                  <a:ext cx="217440" cy="287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98840" y="3809880"/>
                  <a:ext cx="217440" cy="46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498840" y="3871800"/>
                  <a:ext cx="217440" cy="42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498840" y="3930480"/>
                  <a:ext cx="217440" cy="46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27280" y="3814560"/>
                  <a:ext cx="150840" cy="3492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527280" y="3876480"/>
                  <a:ext cx="150840" cy="3168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639960" y="375264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16" h="17">
                      <a:moveTo>
                        <a:pt x="15" y="0"/>
                      </a:moveTo>
                      <a:lnTo>
                        <a:pt x="15" y="16"/>
                      </a:lnTo>
                      <a:lnTo>
                        <a:pt x="0" y="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498840" y="3751200"/>
                  <a:ext cx="217440" cy="4104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601800" y="3752640"/>
                  <a:ext cx="38160" cy="2556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3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8" y="15"/>
                      </a:lnTo>
                      <a:lnTo>
                        <a:pt x="2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601800" y="3773160"/>
                  <a:ext cx="100080" cy="25560"/>
                </a:xfrm>
                <a:custGeom>
                  <a:avLst/>
                  <a:gdLst/>
                  <a:ahLst/>
                  <a:rect l="l" t="t" r="r" b="b"/>
                  <a:pathLst>
                    <a:path w="63" h="16">
                      <a:moveTo>
                        <a:pt x="62" y="15"/>
                      </a:move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62" y="1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646440" y="3755880"/>
                  <a:ext cx="55440" cy="25200"/>
                </a:xfrm>
                <a:custGeom>
                  <a:avLst/>
                  <a:gdLst/>
                  <a:ahLst/>
                  <a:rect l="l" t="t" r="r" b="b"/>
                  <a:pathLst>
                    <a:path w="35" h="16">
                      <a:moveTo>
                        <a:pt x="34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30" y="15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701880" y="3755880"/>
                  <a:ext cx="2556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15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657600" y="3782880"/>
                  <a:ext cx="12600" cy="126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508200" y="3767040"/>
                  <a:ext cx="203400" cy="25200"/>
                </a:xfrm>
                <a:custGeom>
                  <a:avLst/>
                  <a:gdLst/>
                  <a:ahLst/>
                  <a:rect l="l" t="t" r="r" b="b"/>
                  <a:pathLst>
                    <a:path w="128" h="16">
                      <a:moveTo>
                        <a:pt x="0" y="15"/>
                      </a:moveTo>
                      <a:lnTo>
                        <a:pt x="127" y="15"/>
                      </a:lnTo>
                      <a:lnTo>
                        <a:pt x="127" y="0"/>
                      </a:lnTo>
                      <a:lnTo>
                        <a:pt x="0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541680" y="3823920"/>
                  <a:ext cx="129960" cy="25560"/>
                </a:xfrm>
                <a:custGeom>
                  <a:avLst/>
                  <a:gdLst/>
                  <a:ahLst/>
                  <a:rect l="l" t="t" r="r" b="b"/>
                  <a:pathLst>
                    <a:path w="82" h="16">
                      <a:moveTo>
                        <a:pt x="0" y="15"/>
                      </a:moveTo>
                      <a:lnTo>
                        <a:pt x="81" y="15"/>
                      </a:lnTo>
                      <a:lnTo>
                        <a:pt x="81" y="0"/>
                      </a:lnTo>
                      <a:lnTo>
                        <a:pt x="0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579840" y="3835080"/>
                  <a:ext cx="61920" cy="25560"/>
                </a:xfrm>
                <a:custGeom>
                  <a:avLst/>
                  <a:gdLst/>
                  <a:ahLst/>
                  <a:rect l="l" t="t" r="r" b="b"/>
                  <a:pathLst>
                    <a:path w="39" h="16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8" y="15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413160" y="3500280"/>
                  <a:ext cx="58680" cy="49320"/>
                </a:xfrm>
                <a:custGeom>
                  <a:avLst/>
                  <a:gdLst/>
                  <a:ahLst/>
                  <a:rect l="l" t="t" r="r" b="b"/>
                  <a:pathLst>
                    <a:path w="37" h="31">
                      <a:moveTo>
                        <a:pt x="32" y="0"/>
                      </a:move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36" y="30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419280" y="3584520"/>
                  <a:ext cx="57240" cy="45720"/>
                </a:xfrm>
                <a:custGeom>
                  <a:avLst/>
                  <a:gdLst/>
                  <a:ahLst/>
                  <a:rect l="l" t="t" r="r" b="b"/>
                  <a:pathLst>
                    <a:path w="36" h="29">
                      <a:moveTo>
                        <a:pt x="32" y="0"/>
                      </a:move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35" y="28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503520" y="3576600"/>
                  <a:ext cx="225360" cy="56880"/>
                </a:xfrm>
                <a:custGeom>
                  <a:avLst/>
                  <a:gdLst/>
                  <a:ahLst/>
                  <a:rect l="l" t="t" r="r" b="b"/>
                  <a:pathLst>
                    <a:path w="142" h="36">
                      <a:moveTo>
                        <a:pt x="0" y="0"/>
                      </a:moveTo>
                      <a:lnTo>
                        <a:pt x="4" y="35"/>
                      </a:lnTo>
                      <a:lnTo>
                        <a:pt x="141" y="35"/>
                      </a:lnTo>
                      <a:lnTo>
                        <a:pt x="13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549600" y="3589200"/>
                  <a:ext cx="2556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549600" y="360648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603600" y="3597120"/>
                  <a:ext cx="2700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5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521160" y="3597120"/>
                  <a:ext cx="2520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030560" y="3317760"/>
                <a:ext cx="581040" cy="663480"/>
                <a:chOff x="4030560" y="3317760"/>
                <a:chExt cx="581040" cy="6634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030560" y="3317760"/>
                  <a:ext cx="538200" cy="44280"/>
                </a:xfrm>
                <a:custGeom>
                  <a:avLst/>
                  <a:gdLst/>
                  <a:ahLst/>
                  <a:rect l="l" t="t" r="r" b="b"/>
                  <a:pathLst>
                    <a:path w="339" h="28">
                      <a:moveTo>
                        <a:pt x="107" y="27"/>
                      </a:moveTo>
                      <a:lnTo>
                        <a:pt x="338" y="23"/>
                      </a:lnTo>
                      <a:lnTo>
                        <a:pt x="178" y="0"/>
                      </a:lnTo>
                      <a:lnTo>
                        <a:pt x="0" y="0"/>
                      </a:lnTo>
                      <a:lnTo>
                        <a:pt x="107" y="27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e0e0e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040" y="3355920"/>
                  <a:ext cx="392040" cy="25200"/>
                </a:xfrm>
                <a:custGeom>
                  <a:avLst/>
                  <a:gdLst/>
                  <a:ahLst/>
                  <a:rect l="l" t="t" r="r" b="b"/>
                  <a:pathLst>
                    <a:path w="247" h="16">
                      <a:moveTo>
                        <a:pt x="0" y="0"/>
                      </a:moveTo>
                      <a:lnTo>
                        <a:pt x="12" y="15"/>
                      </a:lnTo>
                      <a:lnTo>
                        <a:pt x="246" y="15"/>
                      </a:lnTo>
                      <a:lnTo>
                        <a:pt x="23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030560" y="3317760"/>
                  <a:ext cx="220680" cy="663480"/>
                </a:xfrm>
                <a:custGeom>
                  <a:avLst/>
                  <a:gdLst/>
                  <a:ahLst/>
                  <a:rect l="l" t="t" r="r" b="b"/>
                  <a:pathLst>
                    <a:path w="139" h="418">
                      <a:moveTo>
                        <a:pt x="0" y="0"/>
                      </a:moveTo>
                      <a:lnTo>
                        <a:pt x="105" y="24"/>
                      </a:lnTo>
                      <a:lnTo>
                        <a:pt x="123" y="35"/>
                      </a:lnTo>
                      <a:lnTo>
                        <a:pt x="138" y="153"/>
                      </a:lnTo>
                      <a:lnTo>
                        <a:pt x="119" y="177"/>
                      </a:lnTo>
                      <a:lnTo>
                        <a:pt x="117" y="417"/>
                      </a:lnTo>
                      <a:lnTo>
                        <a:pt x="0" y="304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0a0a0"/>
                    </a:gs>
                    <a:gs pos="100000">
                      <a:srgbClr val="5f5f5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221000" y="3590640"/>
                  <a:ext cx="360360" cy="389160"/>
                </a:xfrm>
                <a:custGeom>
                  <a:avLst/>
                  <a:gdLst/>
                  <a:ahLst/>
                  <a:rect l="l" t="t" r="r" b="b"/>
                  <a:pathLst>
                    <a:path w="227" h="245">
                      <a:moveTo>
                        <a:pt x="0" y="0"/>
                      </a:moveTo>
                      <a:lnTo>
                        <a:pt x="0" y="244"/>
                      </a:lnTo>
                      <a:lnTo>
                        <a:pt x="226" y="244"/>
                      </a:lnTo>
                      <a:lnTo>
                        <a:pt x="226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9b9b9b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224240" y="3369960"/>
                  <a:ext cx="387360" cy="195480"/>
                </a:xfrm>
                <a:custGeom>
                  <a:avLst/>
                  <a:gdLst/>
                  <a:ahLst/>
                  <a:rect l="l" t="t" r="r" b="b"/>
                  <a:pathLst>
                    <a:path w="244" h="123">
                      <a:moveTo>
                        <a:pt x="0" y="0"/>
                      </a:moveTo>
                      <a:lnTo>
                        <a:pt x="231" y="0"/>
                      </a:lnTo>
                      <a:lnTo>
                        <a:pt x="243" y="122"/>
                      </a:lnTo>
                      <a:lnTo>
                        <a:pt x="8" y="12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9b9b9b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222800" y="3565440"/>
                  <a:ext cx="388800" cy="27000"/>
                </a:xfrm>
                <a:custGeom>
                  <a:avLst/>
                  <a:gdLst/>
                  <a:ahLst/>
                  <a:rect l="l" t="t" r="r" b="b"/>
                  <a:pathLst>
                    <a:path w="245" h="17">
                      <a:moveTo>
                        <a:pt x="0" y="16"/>
                      </a:moveTo>
                      <a:lnTo>
                        <a:pt x="223" y="16"/>
                      </a:lnTo>
                      <a:lnTo>
                        <a:pt x="244" y="0"/>
                      </a:lnTo>
                      <a:lnTo>
                        <a:pt x="9" y="0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228920" y="3362040"/>
                  <a:ext cx="32040" cy="617760"/>
                </a:xfrm>
                <a:custGeom>
                  <a:avLst/>
                  <a:gdLst/>
                  <a:ahLst/>
                  <a:rect l="l" t="t" r="r" b="b"/>
                  <a:pathLst>
                    <a:path w="20" h="389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19" y="127"/>
                      </a:lnTo>
                      <a:lnTo>
                        <a:pt x="6" y="142"/>
                      </a:lnTo>
                      <a:lnTo>
                        <a:pt x="6" y="388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241880" y="3362040"/>
                  <a:ext cx="37800" cy="617760"/>
                </a:xfrm>
                <a:custGeom>
                  <a:avLst/>
                  <a:gdLst/>
                  <a:ahLst/>
                  <a:rect l="l" t="t" r="r" b="b"/>
                  <a:pathLst>
                    <a:path w="24" h="389">
                      <a:moveTo>
                        <a:pt x="0" y="0"/>
                      </a:moveTo>
                      <a:lnTo>
                        <a:pt x="10" y="5"/>
                      </a:lnTo>
                      <a:lnTo>
                        <a:pt x="23" y="127"/>
                      </a:lnTo>
                      <a:lnTo>
                        <a:pt x="10" y="142"/>
                      </a:lnTo>
                      <a:lnTo>
                        <a:pt x="10" y="388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268880" y="3362040"/>
                  <a:ext cx="31680" cy="617760"/>
                </a:xfrm>
                <a:custGeom>
                  <a:avLst/>
                  <a:gdLst/>
                  <a:ahLst/>
                  <a:rect l="l" t="t" r="r" b="b"/>
                  <a:pathLst>
                    <a:path w="20" h="389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19" y="128"/>
                      </a:lnTo>
                      <a:lnTo>
                        <a:pt x="6" y="142"/>
                      </a:lnTo>
                      <a:lnTo>
                        <a:pt x="6" y="388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287600" y="3362040"/>
                  <a:ext cx="30240" cy="617760"/>
                </a:xfrm>
                <a:custGeom>
                  <a:avLst/>
                  <a:gdLst/>
                  <a:ahLst/>
                  <a:rect l="l" t="t" r="r" b="b"/>
                  <a:pathLst>
                    <a:path w="19" h="389">
                      <a:moveTo>
                        <a:pt x="0" y="0"/>
                      </a:moveTo>
                      <a:lnTo>
                        <a:pt x="6" y="4"/>
                      </a:lnTo>
                      <a:lnTo>
                        <a:pt x="18" y="127"/>
                      </a:lnTo>
                      <a:lnTo>
                        <a:pt x="6" y="141"/>
                      </a:lnTo>
                      <a:lnTo>
                        <a:pt x="6" y="388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303800" y="3362040"/>
                  <a:ext cx="33120" cy="617760"/>
                </a:xfrm>
                <a:custGeom>
                  <a:avLst/>
                  <a:gdLst/>
                  <a:ahLst/>
                  <a:rect l="l" t="t" r="r" b="b"/>
                  <a:pathLst>
                    <a:path w="21" h="389">
                      <a:moveTo>
                        <a:pt x="0" y="0"/>
                      </a:moveTo>
                      <a:lnTo>
                        <a:pt x="7" y="4"/>
                      </a:lnTo>
                      <a:lnTo>
                        <a:pt x="20" y="127"/>
                      </a:lnTo>
                      <a:lnTo>
                        <a:pt x="7" y="141"/>
                      </a:lnTo>
                      <a:lnTo>
                        <a:pt x="7" y="388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340160" y="3647880"/>
                  <a:ext cx="219240" cy="2905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340160" y="3706560"/>
                  <a:ext cx="219240" cy="46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340160" y="3768480"/>
                  <a:ext cx="219240" cy="42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340160" y="3828960"/>
                  <a:ext cx="219240" cy="44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370400" y="3711240"/>
                  <a:ext cx="150840" cy="3672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370400" y="3776400"/>
                  <a:ext cx="150840" cy="3024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81280" y="365256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5" y="0"/>
                      </a:moveTo>
                      <a:lnTo>
                        <a:pt x="15" y="15"/>
                      </a:lnTo>
                      <a:lnTo>
                        <a:pt x="0" y="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40160" y="3647880"/>
                  <a:ext cx="219240" cy="4140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443480" y="3652560"/>
                  <a:ext cx="39600" cy="25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24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9" y="15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43480" y="3671640"/>
                  <a:ext cx="99720" cy="25560"/>
                </a:xfrm>
                <a:custGeom>
                  <a:avLst/>
                  <a:gdLst/>
                  <a:ahLst/>
                  <a:rect l="l" t="t" r="r" b="b"/>
                  <a:pathLst>
                    <a:path w="63" h="16">
                      <a:moveTo>
                        <a:pt x="62" y="15"/>
                      </a:move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62" y="1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489560" y="3657240"/>
                  <a:ext cx="53640" cy="25560"/>
                </a:xfrm>
                <a:custGeom>
                  <a:avLst/>
                  <a:gdLst/>
                  <a:ahLst/>
                  <a:rect l="l" t="t" r="r" b="b"/>
                  <a:pathLst>
                    <a:path w="34" h="16">
                      <a:moveTo>
                        <a:pt x="33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28" y="15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543200" y="36572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15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498920" y="3681360"/>
                  <a:ext cx="12600" cy="126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48080" y="3665160"/>
                  <a:ext cx="203040" cy="25560"/>
                </a:xfrm>
                <a:custGeom>
                  <a:avLst/>
                  <a:gdLst/>
                  <a:ahLst/>
                  <a:rect l="l" t="t" r="r" b="b"/>
                  <a:pathLst>
                    <a:path w="128" h="16">
                      <a:moveTo>
                        <a:pt x="0" y="15"/>
                      </a:moveTo>
                      <a:lnTo>
                        <a:pt x="127" y="15"/>
                      </a:lnTo>
                      <a:lnTo>
                        <a:pt x="127" y="0"/>
                      </a:lnTo>
                      <a:lnTo>
                        <a:pt x="0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383000" y="3724200"/>
                  <a:ext cx="131760" cy="25200"/>
                </a:xfrm>
                <a:custGeom>
                  <a:avLst/>
                  <a:gdLst/>
                  <a:ahLst/>
                  <a:rect l="l" t="t" r="r" b="b"/>
                  <a:pathLst>
                    <a:path w="83" h="16">
                      <a:moveTo>
                        <a:pt x="0" y="15"/>
                      </a:moveTo>
                      <a:lnTo>
                        <a:pt x="82" y="15"/>
                      </a:lnTo>
                      <a:lnTo>
                        <a:pt x="82" y="0"/>
                      </a:lnTo>
                      <a:lnTo>
                        <a:pt x="0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421160" y="3735360"/>
                  <a:ext cx="63360" cy="25200"/>
                </a:xfrm>
                <a:custGeom>
                  <a:avLst/>
                  <a:gdLst/>
                  <a:ahLst/>
                  <a:rect l="l" t="t" r="r" b="b"/>
                  <a:pathLst>
                    <a:path w="40" h="16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35" y="0"/>
                      </a:lnTo>
                      <a:lnTo>
                        <a:pt x="39" y="15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255920" y="3398760"/>
                  <a:ext cx="57240" cy="4896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0" y="30"/>
                      </a:lnTo>
                      <a:lnTo>
                        <a:pt x="35" y="30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260960" y="3481200"/>
                  <a:ext cx="56880" cy="46080"/>
                </a:xfrm>
                <a:custGeom>
                  <a:avLst/>
                  <a:gdLst/>
                  <a:ahLst/>
                  <a:rect l="l" t="t" r="r" b="b"/>
                  <a:pathLst>
                    <a:path w="36" h="29">
                      <a:moveTo>
                        <a:pt x="32" y="0"/>
                      </a:move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35" y="28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44840" y="3473280"/>
                  <a:ext cx="228600" cy="60120"/>
                </a:xfrm>
                <a:custGeom>
                  <a:avLst/>
                  <a:gdLst/>
                  <a:ahLst/>
                  <a:rect l="l" t="t" r="r" b="b"/>
                  <a:pathLst>
                    <a:path w="144" h="38">
                      <a:moveTo>
                        <a:pt x="0" y="0"/>
                      </a:moveTo>
                      <a:lnTo>
                        <a:pt x="4" y="37"/>
                      </a:lnTo>
                      <a:lnTo>
                        <a:pt x="143" y="37"/>
                      </a:lnTo>
                      <a:lnTo>
                        <a:pt x="13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92720" y="3489120"/>
                  <a:ext cx="25200" cy="25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392720" y="350820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444920" y="3495600"/>
                  <a:ext cx="27000" cy="25200"/>
                </a:xfrm>
                <a:custGeom>
                  <a:avLst/>
                  <a:gdLst/>
                  <a:ahLst/>
                  <a:rect l="l" t="t" r="r" b="b"/>
                  <a:pathLst>
                    <a:path w="17" h="16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5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63920" y="3495600"/>
                  <a:ext cx="2556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805280" y="3267000"/>
                <a:ext cx="519120" cy="612720"/>
                <a:chOff x="4805280" y="3267000"/>
                <a:chExt cx="519120" cy="6127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805280" y="3267000"/>
                  <a:ext cx="480960" cy="41040"/>
                </a:xfrm>
                <a:custGeom>
                  <a:avLst/>
                  <a:gdLst/>
                  <a:ahLst/>
                  <a:rect l="l" t="t" r="r" b="b"/>
                  <a:pathLst>
                    <a:path w="303" h="26">
                      <a:moveTo>
                        <a:pt x="95" y="25"/>
                      </a:moveTo>
                      <a:lnTo>
                        <a:pt x="302" y="22"/>
                      </a:lnTo>
                      <a:lnTo>
                        <a:pt x="159" y="0"/>
                      </a:lnTo>
                      <a:lnTo>
                        <a:pt x="0" y="0"/>
                      </a:lnTo>
                      <a:lnTo>
                        <a:pt x="95" y="25"/>
                      </a:lnTo>
                    </a:path>
                  </a:pathLst>
                </a:custGeom>
                <a:gradFill rotWithShape="0">
                  <a:gsLst>
                    <a:gs pos="0">
                      <a:srgbClr val="424242"/>
                    </a:gs>
                    <a:gs pos="100000">
                      <a:srgbClr val="e0e0e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957560" y="3304800"/>
                  <a:ext cx="349560" cy="25560"/>
                </a:xfrm>
                <a:custGeom>
                  <a:avLst/>
                  <a:gdLst/>
                  <a:ahLst/>
                  <a:rect l="l" t="t" r="r" b="b"/>
                  <a:pathLst>
                    <a:path w="220" h="16">
                      <a:moveTo>
                        <a:pt x="0" y="0"/>
                      </a:moveTo>
                      <a:lnTo>
                        <a:pt x="10" y="15"/>
                      </a:lnTo>
                      <a:lnTo>
                        <a:pt x="219" y="15"/>
                      </a:lnTo>
                      <a:lnTo>
                        <a:pt x="206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805280" y="3267000"/>
                  <a:ext cx="198360" cy="612720"/>
                </a:xfrm>
                <a:custGeom>
                  <a:avLst/>
                  <a:gdLst/>
                  <a:ahLst/>
                  <a:rect l="l" t="t" r="r" b="b"/>
                  <a:pathLst>
                    <a:path w="125" h="386">
                      <a:moveTo>
                        <a:pt x="0" y="0"/>
                      </a:moveTo>
                      <a:lnTo>
                        <a:pt x="94" y="23"/>
                      </a:lnTo>
                      <a:lnTo>
                        <a:pt x="111" y="32"/>
                      </a:lnTo>
                      <a:lnTo>
                        <a:pt x="124" y="141"/>
                      </a:lnTo>
                      <a:lnTo>
                        <a:pt x="106" y="163"/>
                      </a:lnTo>
                      <a:lnTo>
                        <a:pt x="106" y="385"/>
                      </a:lnTo>
                      <a:lnTo>
                        <a:pt x="0" y="28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0a0a0"/>
                    </a:gs>
                    <a:gs pos="100000">
                      <a:srgbClr val="5f5f5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975200" y="3517560"/>
                  <a:ext cx="322200" cy="360360"/>
                </a:xfrm>
                <a:custGeom>
                  <a:avLst/>
                  <a:gdLst/>
                  <a:ahLst/>
                  <a:rect l="l" t="t" r="r" b="b"/>
                  <a:pathLst>
                    <a:path w="203" h="227">
                      <a:moveTo>
                        <a:pt x="0" y="0"/>
                      </a:moveTo>
                      <a:lnTo>
                        <a:pt x="0" y="226"/>
                      </a:lnTo>
                      <a:lnTo>
                        <a:pt x="202" y="226"/>
                      </a:lnTo>
                      <a:lnTo>
                        <a:pt x="202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9b9b9b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978440" y="3314520"/>
                  <a:ext cx="345960" cy="181080"/>
                </a:xfrm>
                <a:custGeom>
                  <a:avLst/>
                  <a:gdLst/>
                  <a:ahLst/>
                  <a:rect l="l" t="t" r="r" b="b"/>
                  <a:pathLst>
                    <a:path w="218" h="114">
                      <a:moveTo>
                        <a:pt x="0" y="0"/>
                      </a:moveTo>
                      <a:lnTo>
                        <a:pt x="206" y="0"/>
                      </a:lnTo>
                      <a:lnTo>
                        <a:pt x="217" y="113"/>
                      </a:lnTo>
                      <a:lnTo>
                        <a:pt x="7" y="113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9b9b9b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976640" y="3495600"/>
                  <a:ext cx="347760" cy="25200"/>
                </a:xfrm>
                <a:custGeom>
                  <a:avLst/>
                  <a:gdLst/>
                  <a:ahLst/>
                  <a:rect l="l" t="t" r="r" b="b"/>
                  <a:pathLst>
                    <a:path w="219" h="16">
                      <a:moveTo>
                        <a:pt x="0" y="15"/>
                      </a:moveTo>
                      <a:lnTo>
                        <a:pt x="200" y="15"/>
                      </a:lnTo>
                      <a:lnTo>
                        <a:pt x="218" y="0"/>
                      </a:lnTo>
                      <a:lnTo>
                        <a:pt x="8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986360" y="3308040"/>
                  <a:ext cx="25200" cy="569880"/>
                </a:xfrm>
                <a:custGeom>
                  <a:avLst/>
                  <a:gdLst/>
                  <a:ahLst/>
                  <a:rect l="l" t="t" r="r" b="b"/>
                  <a:pathLst>
                    <a:path w="16" h="359">
                      <a:moveTo>
                        <a:pt x="0" y="0"/>
                      </a:moveTo>
                      <a:lnTo>
                        <a:pt x="5" y="3"/>
                      </a:lnTo>
                      <a:lnTo>
                        <a:pt x="15" y="117"/>
                      </a:lnTo>
                      <a:lnTo>
                        <a:pt x="5" y="131"/>
                      </a:lnTo>
                      <a:lnTo>
                        <a:pt x="5" y="358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995720" y="3308040"/>
                  <a:ext cx="33480" cy="569880"/>
                </a:xfrm>
                <a:custGeom>
                  <a:avLst/>
                  <a:gdLst/>
                  <a:ahLst/>
                  <a:rect l="l" t="t" r="r" b="b"/>
                  <a:pathLst>
                    <a:path w="21" h="359">
                      <a:moveTo>
                        <a:pt x="0" y="0"/>
                      </a:moveTo>
                      <a:lnTo>
                        <a:pt x="8" y="5"/>
                      </a:lnTo>
                      <a:lnTo>
                        <a:pt x="20" y="117"/>
                      </a:lnTo>
                      <a:lnTo>
                        <a:pt x="8" y="131"/>
                      </a:lnTo>
                      <a:lnTo>
                        <a:pt x="8" y="358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5019480" y="3308040"/>
                  <a:ext cx="27000" cy="568440"/>
                </a:xfrm>
                <a:custGeom>
                  <a:avLst/>
                  <a:gdLst/>
                  <a:ahLst/>
                  <a:rect l="l" t="t" r="r" b="b"/>
                  <a:pathLst>
                    <a:path w="17" h="358">
                      <a:moveTo>
                        <a:pt x="0" y="0"/>
                      </a:moveTo>
                      <a:lnTo>
                        <a:pt x="5" y="6"/>
                      </a:lnTo>
                      <a:lnTo>
                        <a:pt x="16" y="118"/>
                      </a:lnTo>
                      <a:lnTo>
                        <a:pt x="5" y="131"/>
                      </a:lnTo>
                      <a:lnTo>
                        <a:pt x="5" y="357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033880" y="3308040"/>
                  <a:ext cx="31680" cy="569880"/>
                </a:xfrm>
                <a:custGeom>
                  <a:avLst/>
                  <a:gdLst/>
                  <a:ahLst/>
                  <a:rect l="l" t="t" r="r" b="b"/>
                  <a:pathLst>
                    <a:path w="20" h="35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9" y="117"/>
                      </a:lnTo>
                      <a:lnTo>
                        <a:pt x="7" y="130"/>
                      </a:lnTo>
                      <a:lnTo>
                        <a:pt x="7" y="358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051520" y="3308040"/>
                  <a:ext cx="28440" cy="568440"/>
                </a:xfrm>
                <a:custGeom>
                  <a:avLst/>
                  <a:gdLst/>
                  <a:ahLst/>
                  <a:rect l="l" t="t" r="r" b="b"/>
                  <a:pathLst>
                    <a:path w="18" h="358">
                      <a:moveTo>
                        <a:pt x="0" y="0"/>
                      </a:moveTo>
                      <a:lnTo>
                        <a:pt x="6" y="3"/>
                      </a:lnTo>
                      <a:lnTo>
                        <a:pt x="17" y="117"/>
                      </a:lnTo>
                      <a:lnTo>
                        <a:pt x="6" y="129"/>
                      </a:lnTo>
                      <a:lnTo>
                        <a:pt x="6" y="357"/>
                      </a:lnTo>
                    </a:path>
                  </a:pathLst>
                </a:custGeom>
                <a:noFill/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084640" y="3571560"/>
                  <a:ext cx="192240" cy="2667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084640" y="3624120"/>
                  <a:ext cx="192240" cy="442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084640" y="3681360"/>
                  <a:ext cx="192240" cy="428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084640" y="3740040"/>
                  <a:ext cx="192240" cy="396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108400" y="3632040"/>
                  <a:ext cx="135000" cy="3024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108400" y="3687480"/>
                  <a:ext cx="135000" cy="3024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208480" y="3573360"/>
                  <a:ext cx="25560" cy="27000"/>
                </a:xfrm>
                <a:custGeom>
                  <a:avLst/>
                  <a:gdLst/>
                  <a:ahLst/>
                  <a:rect l="l" t="t" r="r" b="b"/>
                  <a:pathLst>
                    <a:path w="16" h="17">
                      <a:moveTo>
                        <a:pt x="15" y="0"/>
                      </a:moveTo>
                      <a:lnTo>
                        <a:pt x="15" y="16"/>
                      </a:lnTo>
                      <a:lnTo>
                        <a:pt x="0" y="5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084640" y="3571560"/>
                  <a:ext cx="192240" cy="38160"/>
                </a:xfrm>
                <a:prstGeom prst="rect">
                  <a:avLst/>
                </a:prstGeom>
                <a:solidFill>
                  <a:srgbClr val="a0a0a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176800" y="3573360"/>
                  <a:ext cx="33480" cy="25200"/>
                </a:xfrm>
                <a:custGeom>
                  <a:avLst/>
                  <a:gdLst/>
                  <a:ahLst/>
                  <a:rect l="l" t="t" r="r" b="b"/>
                  <a:pathLst>
                    <a:path w="21" h="16">
                      <a:moveTo>
                        <a:pt x="20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16" y="15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176800" y="3592440"/>
                  <a:ext cx="88920" cy="25200"/>
                </a:xfrm>
                <a:custGeom>
                  <a:avLst/>
                  <a:gdLst/>
                  <a:ahLst/>
                  <a:rect l="l" t="t" r="r" b="b"/>
                  <a:pathLst>
                    <a:path w="56" h="16">
                      <a:moveTo>
                        <a:pt x="55" y="15"/>
                      </a:move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5" y="15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214960" y="3578040"/>
                  <a:ext cx="50760" cy="2556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31" y="0"/>
                      </a:move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27" y="15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263920" y="3578040"/>
                  <a:ext cx="25560" cy="2556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15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224320" y="3603600"/>
                  <a:ext cx="14400" cy="126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089320" y="3589200"/>
                  <a:ext cx="182520" cy="25200"/>
                </a:xfrm>
                <a:custGeom>
                  <a:avLst/>
                  <a:gdLst/>
                  <a:ahLst/>
                  <a:rect l="l" t="t" r="r" b="b"/>
                  <a:pathLst>
                    <a:path w="115" h="16">
                      <a:moveTo>
                        <a:pt x="0" y="15"/>
                      </a:moveTo>
                      <a:lnTo>
                        <a:pt x="114" y="15"/>
                      </a:lnTo>
                      <a:lnTo>
                        <a:pt x="114" y="0"/>
                      </a:lnTo>
                      <a:lnTo>
                        <a:pt x="0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122800" y="3638520"/>
                  <a:ext cx="114120" cy="25200"/>
                </a:xfrm>
                <a:custGeom>
                  <a:avLst/>
                  <a:gdLst/>
                  <a:ahLst/>
                  <a:rect l="l" t="t" r="r" b="b"/>
                  <a:pathLst>
                    <a:path w="72" h="16">
                      <a:moveTo>
                        <a:pt x="0" y="15"/>
                      </a:moveTo>
                      <a:lnTo>
                        <a:pt x="71" y="15"/>
                      </a:lnTo>
                      <a:lnTo>
                        <a:pt x="71" y="0"/>
                      </a:lnTo>
                      <a:lnTo>
                        <a:pt x="0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153040" y="3651120"/>
                  <a:ext cx="57240" cy="2520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5" y="15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005440" y="3341520"/>
                  <a:ext cx="54000" cy="4752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29" y="0"/>
                      </a:move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33" y="29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011560" y="3417840"/>
                  <a:ext cx="54000" cy="42840"/>
                </a:xfrm>
                <a:custGeom>
                  <a:avLst/>
                  <a:gdLst/>
                  <a:ahLst/>
                  <a:rect l="l" t="t" r="r" b="b"/>
                  <a:pathLst>
                    <a:path w="34" h="27">
                      <a:moveTo>
                        <a:pt x="30" y="0"/>
                      </a:move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3" y="26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086440" y="3411360"/>
                  <a:ext cx="201600" cy="54000"/>
                </a:xfrm>
                <a:custGeom>
                  <a:avLst/>
                  <a:gdLst/>
                  <a:ahLst/>
                  <a:rect l="l" t="t" r="r" b="b"/>
                  <a:pathLst>
                    <a:path w="127" h="34">
                      <a:moveTo>
                        <a:pt x="0" y="0"/>
                      </a:moveTo>
                      <a:lnTo>
                        <a:pt x="3" y="33"/>
                      </a:lnTo>
                      <a:lnTo>
                        <a:pt x="126" y="33"/>
                      </a:lnTo>
                      <a:lnTo>
                        <a:pt x="12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130720" y="3425760"/>
                  <a:ext cx="2556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130720" y="3441600"/>
                  <a:ext cx="2556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176800" y="343044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15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103720" y="3430440"/>
                  <a:ext cx="2556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" name=""/>
            <p:cNvGrpSpPr/>
            <p:nvPr/>
          </p:nvGrpSpPr>
          <p:grpSpPr>
            <a:xfrm>
              <a:off x="1565280" y="2658960"/>
              <a:ext cx="3566880" cy="1989000"/>
              <a:chOff x="1565280" y="2658960"/>
              <a:chExt cx="3566880" cy="1989000"/>
            </a:xfrm>
          </p:grpSpPr>
          <p:sp>
            <p:nvSpPr>
              <p:cNvPr id="350" name=""/>
              <p:cNvSpPr/>
              <p:nvPr/>
            </p:nvSpPr>
            <p:spPr>
              <a:xfrm>
                <a:off x="2990880" y="4135320"/>
                <a:ext cx="1108080" cy="51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689280" y="4022640"/>
                <a:ext cx="468360" cy="574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4287600" y="3982680"/>
                <a:ext cx="128880" cy="561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4417920" y="3830400"/>
                <a:ext cx="714240" cy="766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30440" y="2658960"/>
                <a:ext cx="3255840" cy="61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1628640" y="2706120"/>
                <a:ext cx="2463840" cy="63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30440" y="2812680"/>
                <a:ext cx="1692000" cy="61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5280" y="2862000"/>
                <a:ext cx="10396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475560" y="2346480"/>
              <a:ext cx="5130360" cy="2181600"/>
              <a:chOff x="475560" y="2346480"/>
              <a:chExt cx="5130360" cy="2181600"/>
            </a:xfrm>
          </p:grpSpPr>
          <p:sp>
            <p:nvSpPr>
              <p:cNvPr id="359" name=""/>
              <p:cNvSpPr/>
              <p:nvPr/>
            </p:nvSpPr>
            <p:spPr>
              <a:xfrm rot="21240000">
                <a:off x="482040" y="3584520"/>
                <a:ext cx="5116680" cy="39816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25560">
                <a:solidFill>
                  <a:srgbClr val="fd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21240000">
                <a:off x="2005200" y="3594960"/>
                <a:ext cx="2131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Shared Cach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60000">
                <a:off x="2067480" y="2368080"/>
                <a:ext cx="25138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ache Fusio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436760" y="2562120"/>
              <a:ext cx="398160" cy="398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3cc33"/>
                </a:gs>
              </a:gsLst>
              <a:lin ang="13500000"/>
            </a:gra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825720" y="4546440"/>
              <a:ext cx="655560" cy="398520"/>
              <a:chOff x="3825720" y="4546440"/>
              <a:chExt cx="655560" cy="398520"/>
            </a:xfrm>
          </p:grpSpPr>
          <p:sp>
            <p:nvSpPr>
              <p:cNvPr id="364" name=""/>
              <p:cNvSpPr/>
              <p:nvPr/>
            </p:nvSpPr>
            <p:spPr>
              <a:xfrm>
                <a:off x="4083120" y="4546440"/>
                <a:ext cx="398160" cy="398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cc33"/>
                  </a:gs>
                </a:gsLst>
                <a:lin ang="13500000"/>
              </a:gradFill>
              <a:ln w="12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967200" y="4546440"/>
                <a:ext cx="398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cc33"/>
                  </a:gs>
                </a:gsLst>
                <a:lin ang="13500000"/>
              </a:gradFill>
              <a:ln w="12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25720" y="4546440"/>
                <a:ext cx="398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cc33"/>
                  </a:gs>
                </a:gsLst>
                <a:lin ang="13500000"/>
              </a:gradFill>
              <a:ln w="1260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7" name=""/>
          <p:cNvSpPr/>
          <p:nvPr/>
        </p:nvSpPr>
        <p:spPr>
          <a:xfrm>
            <a:off x="5927760" y="4495680"/>
            <a:ext cx="3216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7920" bIns="7920" anchor="ctr">
            <a:noAutofit/>
          </a:bodyPr>
          <a:p>
            <a:pPr marL="235080" indent="-235080">
              <a:lnSpc>
                <a:spcPct val="85000"/>
              </a:lnSpc>
              <a:buClr>
                <a:srgbClr val="fd0000"/>
              </a:buClr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Shared storage wit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the disk ping c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27760" y="5257800"/>
            <a:ext cx="3216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7920" bIns="7920" anchor="ctr">
            <a:noAutofit/>
          </a:bodyPr>
          <a:p>
            <a:pPr marL="235080" indent="-235080">
              <a:lnSpc>
                <a:spcPct val="85000"/>
              </a:lnSpc>
              <a:buClr>
                <a:srgbClr val="fd0000"/>
              </a:buClr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Standard h/w – SA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85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and fast I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95280" y="2514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i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4495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s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Univers"/>
              </a:rPr>
              <a:t>What is Cache Fusion?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oherency strategy for cluster database cache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urrent block sent across interconnect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Integrates DLM &amp; cach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“GCM”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Less I/O (compared to disk ping)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89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Less latency to get block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4038480" y="4648320"/>
            <a:ext cx="914400" cy="1371600"/>
            <a:chOff x="4038480" y="4648320"/>
            <a:chExt cx="914400" cy="1371600"/>
          </a:xfrm>
        </p:grpSpPr>
        <p:sp>
          <p:nvSpPr>
            <p:cNvPr id="374" name=""/>
            <p:cNvSpPr/>
            <p:nvPr/>
          </p:nvSpPr>
          <p:spPr>
            <a:xfrm>
              <a:off x="4038480" y="4648320"/>
              <a:ext cx="914400" cy="1371600"/>
            </a:xfrm>
            <a:prstGeom prst="flowChartMagneticDisk">
              <a:avLst/>
            </a:prstGeom>
            <a:solidFill>
              <a:srgbClr val="315fa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91120" y="5257800"/>
              <a:ext cx="60948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91120" y="5257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Univers"/>
                </a:rPr>
                <a:t>9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Fusion on contended block – initial state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78" name=""/>
          <p:cNvSpPr/>
          <p:nvPr/>
        </p:nvSpPr>
        <p:spPr>
          <a:xfrm rot="19230600">
            <a:off x="761760" y="2209320"/>
            <a:ext cx="3809880" cy="2971800"/>
          </a:xfrm>
          <a:prstGeom prst="ellipse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9230600">
            <a:off x="5028840" y="2133360"/>
            <a:ext cx="3809880" cy="2971800"/>
          </a:xfrm>
          <a:prstGeom prst="ellipse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3809880"/>
            <a:ext cx="1218960" cy="1067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3880" y="2971800"/>
            <a:ext cx="914400" cy="838080"/>
          </a:xfrm>
          <a:prstGeom prst="octagon">
            <a:avLst>
              <a:gd name="adj" fmla="val 29287"/>
            </a:avLst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15000" y="2971800"/>
            <a:ext cx="914400" cy="838080"/>
          </a:xfrm>
          <a:prstGeom prst="octagon">
            <a:avLst>
              <a:gd name="adj" fmla="val 29287"/>
            </a:avLst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62720" y="3809880"/>
            <a:ext cx="1218960" cy="1067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91320" y="411480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6520" y="3200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Req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5562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d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38680" y="5486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d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71800" y="2133720"/>
            <a:ext cx="961920" cy="914400"/>
          </a:xfrm>
          <a:prstGeom prst="pentagon">
            <a:avLst/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8120" y="2362320"/>
            <a:ext cx="99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2: x-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D: 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91320" y="30481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x-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1814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Cache ho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280" y="2362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GCM shad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315200" y="13716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Dirty Log recor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120" y="2743200"/>
            <a:ext cx="9144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43200" y="182880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914400" y="4495320"/>
            <a:ext cx="9907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429000"/>
            <a:ext cx="914400" cy="609480"/>
          </a:xfrm>
          <a:prstGeom prst="flowChartDocumen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315200" y="342900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695720" y="1752480"/>
            <a:ext cx="304920" cy="1752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315200" y="5257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Dirty curr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flipV="1">
            <a:off x="6553080" y="4495320"/>
            <a:ext cx="99072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1447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GCM ma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 rot="19230600">
            <a:off x="761760" y="2209320"/>
            <a:ext cx="3809880" cy="2971800"/>
          </a:xfrm>
          <a:prstGeom prst="ellipse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0161800">
            <a:off x="2290320" y="2744280"/>
            <a:ext cx="847800" cy="533520"/>
          </a:xfrm>
          <a:prstGeom prst="rightArrow">
            <a:avLst>
              <a:gd name="adj1" fmla="val 50000"/>
              <a:gd name="adj2" fmla="val 3972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23880" y="2971800"/>
            <a:ext cx="914400" cy="838080"/>
          </a:xfrm>
          <a:prstGeom prst="octagon">
            <a:avLst>
              <a:gd name="adj" fmla="val 29287"/>
            </a:avLst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Fusion on contended block - reques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07" name=""/>
          <p:cNvSpPr/>
          <p:nvPr/>
        </p:nvSpPr>
        <p:spPr>
          <a:xfrm rot="19230600">
            <a:off x="5028840" y="2133360"/>
            <a:ext cx="3809880" cy="2971800"/>
          </a:xfrm>
          <a:prstGeom prst="ellipse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3809880"/>
            <a:ext cx="1218960" cy="1067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15000" y="2971800"/>
            <a:ext cx="914400" cy="838080"/>
          </a:xfrm>
          <a:prstGeom prst="octagon">
            <a:avLst>
              <a:gd name="adj" fmla="val 29287"/>
            </a:avLst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62720" y="3809880"/>
            <a:ext cx="1218960" cy="1067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411480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76520" y="3200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Req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71800" y="2133720"/>
            <a:ext cx="961920" cy="914400"/>
          </a:xfrm>
          <a:prstGeom prst="pentagon">
            <a:avLst/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91320" y="30481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x-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238880" y="3429000"/>
            <a:ext cx="914400" cy="947160"/>
            <a:chOff x="7238880" y="3429000"/>
            <a:chExt cx="914400" cy="947160"/>
          </a:xfrm>
        </p:grpSpPr>
        <p:sp>
          <p:nvSpPr>
            <p:cNvPr id="416" name=""/>
            <p:cNvSpPr/>
            <p:nvPr/>
          </p:nvSpPr>
          <p:spPr>
            <a:xfrm>
              <a:off x="7238880" y="3429000"/>
              <a:ext cx="914400" cy="609480"/>
            </a:xfrm>
            <a:prstGeom prst="flowChartDocumen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15200" y="342900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Univers"/>
                </a:rPr>
                <a:t>1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4038480" y="4648320"/>
            <a:ext cx="914400" cy="1371600"/>
            <a:chOff x="4038480" y="4648320"/>
            <a:chExt cx="914400" cy="1371600"/>
          </a:xfrm>
        </p:grpSpPr>
        <p:sp>
          <p:nvSpPr>
            <p:cNvPr id="419" name=""/>
            <p:cNvSpPr/>
            <p:nvPr/>
          </p:nvSpPr>
          <p:spPr>
            <a:xfrm>
              <a:off x="4038480" y="4648320"/>
              <a:ext cx="914400" cy="1371600"/>
            </a:xfrm>
            <a:prstGeom prst="flowChartMagneticDisk">
              <a:avLst/>
            </a:prstGeom>
            <a:solidFill>
              <a:srgbClr val="315fa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91120" y="5257800"/>
              <a:ext cx="60948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91120" y="5257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Univers"/>
                </a:rPr>
                <a:t>9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48120" y="2362320"/>
            <a:ext cx="99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2: x-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D: 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71600" y="1447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Function cal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05120" y="1676520"/>
            <a:ext cx="761760" cy="1371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 rot="19230600">
            <a:off x="5028840" y="2133360"/>
            <a:ext cx="3809880" cy="2971800"/>
          </a:xfrm>
          <a:prstGeom prst="ellipse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9230600">
            <a:off x="761760" y="2209320"/>
            <a:ext cx="3809880" cy="2971800"/>
          </a:xfrm>
          <a:prstGeom prst="ellipse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104600">
            <a:off x="3807000" y="2749320"/>
            <a:ext cx="1968480" cy="533160"/>
          </a:xfrm>
          <a:prstGeom prst="rightArrow">
            <a:avLst>
              <a:gd name="adj1" fmla="val 50000"/>
              <a:gd name="adj2" fmla="val 92302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2971800"/>
            <a:ext cx="914400" cy="838080"/>
          </a:xfrm>
          <a:prstGeom prst="octagon">
            <a:avLst>
              <a:gd name="adj" fmla="val 29287"/>
            </a:avLst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Fusion on contended block - ping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30" name=""/>
          <p:cNvSpPr/>
          <p:nvPr/>
        </p:nvSpPr>
        <p:spPr>
          <a:xfrm>
            <a:off x="1447920" y="3809880"/>
            <a:ext cx="1218960" cy="1067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2971800"/>
            <a:ext cx="914400" cy="838080"/>
          </a:xfrm>
          <a:prstGeom prst="octagon">
            <a:avLst>
              <a:gd name="adj" fmla="val 29287"/>
            </a:avLst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62720" y="3809880"/>
            <a:ext cx="1218960" cy="1067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91320" y="411480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76520" y="3200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Req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71800" y="2133720"/>
            <a:ext cx="961920" cy="914400"/>
          </a:xfrm>
          <a:prstGeom prst="pentagon">
            <a:avLst/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91320" y="30481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x-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038480" y="4648320"/>
            <a:ext cx="914400" cy="1371600"/>
            <a:chOff x="4038480" y="4648320"/>
            <a:chExt cx="914400" cy="1371600"/>
          </a:xfrm>
        </p:grpSpPr>
        <p:sp>
          <p:nvSpPr>
            <p:cNvPr id="438" name=""/>
            <p:cNvSpPr/>
            <p:nvPr/>
          </p:nvSpPr>
          <p:spPr>
            <a:xfrm>
              <a:off x="4038480" y="4648320"/>
              <a:ext cx="914400" cy="1371600"/>
            </a:xfrm>
            <a:prstGeom prst="flowChartMagneticDisk">
              <a:avLst/>
            </a:prstGeom>
            <a:solidFill>
              <a:srgbClr val="315fa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91120" y="5257800"/>
              <a:ext cx="60948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91120" y="5257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Univers"/>
                </a:rPr>
                <a:t>9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238880" y="3429000"/>
            <a:ext cx="914400" cy="947160"/>
            <a:chOff x="7238880" y="3429000"/>
            <a:chExt cx="914400" cy="947160"/>
          </a:xfrm>
        </p:grpSpPr>
        <p:sp>
          <p:nvSpPr>
            <p:cNvPr id="442" name=""/>
            <p:cNvSpPr/>
            <p:nvPr/>
          </p:nvSpPr>
          <p:spPr>
            <a:xfrm>
              <a:off x="7238880" y="3429000"/>
              <a:ext cx="914400" cy="609480"/>
            </a:xfrm>
            <a:prstGeom prst="flowChartDocumen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15200" y="342900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Univers"/>
                </a:rPr>
                <a:t>1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3048120" y="2362320"/>
            <a:ext cx="99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2: x-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D: 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95680" y="17524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Ping (“bast”) mess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724280" y="2286000"/>
            <a:ext cx="15264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 rot="19230600">
            <a:off x="761760" y="2209320"/>
            <a:ext cx="3809880" cy="2971800"/>
          </a:xfrm>
          <a:prstGeom prst="ellipse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23880" y="2971800"/>
            <a:ext cx="914400" cy="838080"/>
          </a:xfrm>
          <a:prstGeom prst="octagon">
            <a:avLst>
              <a:gd name="adj" fmla="val 29287"/>
            </a:avLst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Fusion on contended block – log wait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50" name=""/>
          <p:cNvSpPr/>
          <p:nvPr/>
        </p:nvSpPr>
        <p:spPr>
          <a:xfrm rot="19230600">
            <a:off x="5028840" y="2133360"/>
            <a:ext cx="3809880" cy="2971800"/>
          </a:xfrm>
          <a:prstGeom prst="ellipse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447920" y="3809880"/>
            <a:ext cx="1218960" cy="10670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5000" y="2971800"/>
            <a:ext cx="914400" cy="838080"/>
          </a:xfrm>
          <a:prstGeom prst="octagon">
            <a:avLst>
              <a:gd name="adj" fmla="val 29287"/>
            </a:avLst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62720" y="3809880"/>
            <a:ext cx="1218960" cy="1067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91320" y="411480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76520" y="3200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Req 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71800" y="2133720"/>
            <a:ext cx="961920" cy="914400"/>
          </a:xfrm>
          <a:prstGeom prst="pentagon">
            <a:avLst/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30481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x-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038480" y="4648320"/>
            <a:ext cx="914400" cy="1371600"/>
            <a:chOff x="4038480" y="4648320"/>
            <a:chExt cx="914400" cy="1371600"/>
          </a:xfrm>
        </p:grpSpPr>
        <p:sp>
          <p:nvSpPr>
            <p:cNvPr id="459" name=""/>
            <p:cNvSpPr/>
            <p:nvPr/>
          </p:nvSpPr>
          <p:spPr>
            <a:xfrm>
              <a:off x="4038480" y="4648320"/>
              <a:ext cx="914400" cy="1371600"/>
            </a:xfrm>
            <a:prstGeom prst="flowChartMagneticDisk">
              <a:avLst/>
            </a:prstGeom>
            <a:solidFill>
              <a:srgbClr val="315fa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91120" y="5257800"/>
              <a:ext cx="60948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91120" y="5257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Univers"/>
                </a:rPr>
                <a:t>9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 rot="4269000">
            <a:off x="7255800" y="4311360"/>
            <a:ext cx="1361880" cy="533160"/>
          </a:xfrm>
          <a:prstGeom prst="rightArrow">
            <a:avLst>
              <a:gd name="adj1" fmla="val 50000"/>
              <a:gd name="adj2" fmla="val 63859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7238880" y="3429000"/>
            <a:ext cx="914400" cy="947160"/>
            <a:chOff x="7238880" y="3429000"/>
            <a:chExt cx="914400" cy="947160"/>
          </a:xfrm>
        </p:grpSpPr>
        <p:sp>
          <p:nvSpPr>
            <p:cNvPr id="464" name=""/>
            <p:cNvSpPr/>
            <p:nvPr/>
          </p:nvSpPr>
          <p:spPr>
            <a:xfrm>
              <a:off x="7238880" y="3429000"/>
              <a:ext cx="914400" cy="609480"/>
            </a:xfrm>
            <a:prstGeom prst="flowChartDocumen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15200" y="342900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Univers"/>
                </a:rPr>
                <a:t>1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7772400" y="5257800"/>
            <a:ext cx="914400" cy="609480"/>
          </a:xfrm>
          <a:prstGeom prst="flowChartMagneticDisk">
            <a:avLst/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2362320"/>
            <a:ext cx="99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2: x-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D: 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238880" y="11430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Group committed log write, usually already done before p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7772040" y="1828800"/>
            <a:ext cx="304920" cy="167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 rot="19230600">
            <a:off x="761760" y="2209320"/>
            <a:ext cx="3809880" cy="2971800"/>
          </a:xfrm>
          <a:prstGeom prst="ellipse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2971800"/>
            <a:ext cx="914400" cy="838080"/>
          </a:xfrm>
          <a:prstGeom prst="octagon">
            <a:avLst>
              <a:gd name="adj" fmla="val 29287"/>
            </a:avLst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Univers"/>
              </a:rPr>
              <a:t>Fusion on contended block – ship block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73" name=""/>
          <p:cNvSpPr/>
          <p:nvPr/>
        </p:nvSpPr>
        <p:spPr>
          <a:xfrm rot="19230600">
            <a:off x="5028840" y="2133360"/>
            <a:ext cx="3809880" cy="2971800"/>
          </a:xfrm>
          <a:prstGeom prst="ellipse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3809880"/>
            <a:ext cx="1218960" cy="10670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15000" y="2971800"/>
            <a:ext cx="914400" cy="838080"/>
          </a:xfrm>
          <a:prstGeom prst="octagon">
            <a:avLst>
              <a:gd name="adj" fmla="val 29287"/>
            </a:avLst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62720" y="3809880"/>
            <a:ext cx="1218960" cy="1067040"/>
          </a:xfrm>
          <a:prstGeom prst="rect">
            <a:avLst/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791320" y="4114800"/>
            <a:ext cx="76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6520" y="32004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X-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71800" y="2133720"/>
            <a:ext cx="961920" cy="914400"/>
          </a:xfrm>
          <a:prstGeom prst="pentagon">
            <a:avLst/>
          </a:prstGeom>
          <a:solidFill>
            <a:srgbClr val="315fa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91320" y="30481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pi-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038480" y="4648320"/>
            <a:ext cx="914400" cy="1371600"/>
            <a:chOff x="4038480" y="4648320"/>
            <a:chExt cx="914400" cy="1371600"/>
          </a:xfrm>
        </p:grpSpPr>
        <p:sp>
          <p:nvSpPr>
            <p:cNvPr id="482" name=""/>
            <p:cNvSpPr/>
            <p:nvPr/>
          </p:nvSpPr>
          <p:spPr>
            <a:xfrm>
              <a:off x="4038480" y="4648320"/>
              <a:ext cx="914400" cy="1371600"/>
            </a:xfrm>
            <a:prstGeom prst="flowChartMagneticDisk">
              <a:avLst/>
            </a:prstGeom>
            <a:solidFill>
              <a:srgbClr val="315fa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1120" y="5257800"/>
              <a:ext cx="60948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91120" y="52578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Univers"/>
                </a:rPr>
                <a:t>99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1600200" y="403848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62920" y="54864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Past Image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6477120" y="4572000"/>
            <a:ext cx="76176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48120" y="23623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2: x-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91120" y="1295280"/>
            <a:ext cx="1828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consign” message in the block shipped by remote D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666880" y="3886200"/>
            <a:ext cx="2895840" cy="485640"/>
          </a:xfrm>
          <a:prstGeom prst="leftArrow">
            <a:avLst>
              <a:gd name="adj1" fmla="val 50000"/>
              <a:gd name="adj2" fmla="val 149073"/>
            </a:avLst>
          </a:prstGeom>
          <a:solidFill>
            <a:srgbClr val="fd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648320" y="1981080"/>
            <a:ext cx="45720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02:28:43Z</dcterms:created>
  <dc:creator>David Brower</dc:creator>
  <dc:description/>
  <dc:language>en-US</dc:language>
  <cp:lastModifiedBy>James Hamilton</cp:lastModifiedBy>
  <cp:lastPrinted>2000-11-16T18:06:41Z</cp:lastPrinted>
  <dcterms:modified xsi:type="dcterms:W3CDTF">2001-10-19T15:13:35Z</dcterms:modified>
  <cp:revision>3</cp:revision>
  <dc:subject/>
  <dc:title> Cache Fusion  Making Shared Storage Perform for Vanilla Systems</dc:title>
</cp:coreProperties>
</file>