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DD27-B8F8-41CB-B5E8-8A003A8A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673-169F-4BCB-952E-37B253ED292B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D55F-8AD1-4C2A-BF73-A317DDEA68E9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 and Other Ailme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re Uniform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 island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emory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urit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reading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is be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Dupli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009880"/>
            <a:ext cx="84582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islands support transform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asonable chance you will do each one 6 or more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intenance headac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 How To Consolidate……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704960"/>
            <a:ext cx="82296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verge app server into OR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mbest OR query is execut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8160" y="4149720"/>
            <a:ext cx="66027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that everything looks like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ail to the guy with the hamme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ictoriall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43040" y="1536840"/>
            <a:ext cx="1606680" cy="118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58880" y="3441600"/>
            <a:ext cx="1658880" cy="113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294160"/>
            <a:ext cx="1658880" cy="114948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440" y="2732040"/>
            <a:ext cx="0" cy="69696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584600"/>
            <a:ext cx="0" cy="68112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960" y="191772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3840" y="37544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40160" y="56246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97840" y="1604880"/>
            <a:ext cx="2311560" cy="1114560"/>
            <a:chOff x="4497840" y="1604880"/>
            <a:chExt cx="2311560" cy="1114560"/>
          </a:xfrm>
        </p:grpSpPr>
        <p:sp>
          <p:nvSpPr>
            <p:cNvPr id="129" name=""/>
            <p:cNvSpPr/>
            <p:nvPr/>
          </p:nvSpPr>
          <p:spPr>
            <a:xfrm>
              <a:off x="4724280" y="1604880"/>
              <a:ext cx="1795320" cy="11145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7840" y="186696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33120" y="3429000"/>
            <a:ext cx="2311560" cy="1114560"/>
            <a:chOff x="4533120" y="3429000"/>
            <a:chExt cx="2311560" cy="1114560"/>
          </a:xfrm>
        </p:grpSpPr>
        <p:sp>
          <p:nvSpPr>
            <p:cNvPr id="132" name=""/>
            <p:cNvSpPr/>
            <p:nvPr/>
          </p:nvSpPr>
          <p:spPr>
            <a:xfrm>
              <a:off x="4724280" y="3429000"/>
              <a:ext cx="1795680" cy="111456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3120" y="373392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56800" y="5210280"/>
            <a:ext cx="2311560" cy="1114200"/>
            <a:chOff x="4456800" y="5210280"/>
            <a:chExt cx="2311560" cy="1114200"/>
          </a:xfrm>
        </p:grpSpPr>
        <p:sp>
          <p:nvSpPr>
            <p:cNvPr id="135" name=""/>
            <p:cNvSpPr/>
            <p:nvPr/>
          </p:nvSpPr>
          <p:spPr>
            <a:xfrm>
              <a:off x="4724280" y="5210280"/>
              <a:ext cx="1795680" cy="1114200"/>
            </a:xfrm>
            <a:prstGeom prst="ellipse">
              <a:avLst/>
            </a:prstGeom>
            <a:solidFill>
              <a:srgbClr val="ffff66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56800" y="551484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3352320" y="22096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40384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58672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Require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28640"/>
            <a:ext cx="746784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to send queries to other DB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.e. be a dat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ad balance also requires 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est of Breed Feder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400040"/>
            <a:ext cx="74674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schema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 executing OR fun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materialized vie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 cache stat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0496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minate 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 only supports “push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 both “push” and “pull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04920"/>
            <a:ext cx="8445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3640" y="2057400"/>
            <a:ext cx="79754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 collection of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o’s allowed to buy w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who must approve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st considered as a boxes and arrows dia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compiled into components to run on an app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Workflow Framework -- PO’s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89548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352680"/>
            <a:ext cx="838080" cy="0"/>
          </a:xfrm>
          <a:prstGeom prst="line">
            <a:avLst/>
          </a:prstGeom>
          <a:ln w="9360">
            <a:solidFill>
              <a:srgbClr val="00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120" y="3048120"/>
            <a:ext cx="60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764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876920"/>
            <a:ext cx="1752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343400"/>
            <a:ext cx="1371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352680"/>
            <a:ext cx="9903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352680"/>
            <a:ext cx="10670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8732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876920"/>
            <a:ext cx="1600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800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ata Intensive Workflow Should  Move Inside an OR DBM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00" y="2133720"/>
            <a:ext cx="8304120" cy="31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UI for “boxes and arrows”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iler for the diagram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cessing steps become component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usiness rules become trigge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 data flow inside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ed great in Media/360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o much middle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ail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b services 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r professional sick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g Big Big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performance advantag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polling of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data mov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sy to change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3480" y="448632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Times New Roman"/>
              </a:rPr>
              <a:t>Watch for Informix product in this are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600200"/>
            <a:ext cx="746784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integrated system that do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th a single transformation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sed on DBMS technology (or something else…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812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content storage and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as “on the wire” format for data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long as you don’t need to send a lot of stuff f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storag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6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S and IDMS get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ustomers start complaining about rewriting everything when schema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rites pioneering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tarts a decade long argument between IMS/CODASYL advocates and Codd suppor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utting semantics into data order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stricts storage op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dden meaning b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self-defining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is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s change oft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n’t want to rewrite anything when this happe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level query languages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KISS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ll these three premises “Codd’s laws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83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ins Turing aw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knowledgement for being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in This Historical Ligh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bad features of IMS/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ows semantics in data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will be a challe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updates on inverted hierarch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k at IMS LD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complex than 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ent-Server Got Replaced by N-Tier Comput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iz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alability and management problems with client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r Fiel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look a little silly say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 idea renounced in the 197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s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ading our colleagues to ask “What’s different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somebody disproved Codd’s laws; they didn’t tell me…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to Win the Turing Award Circa 20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587600"/>
            <a:ext cx="8610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0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data storage gets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st off Codd’s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10 years to be proven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7920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 Any C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line tags turn 1Tbyte of EMP data into 10 Tbytes of EMP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n’t store anything big in native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use something else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ke wha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R DB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is merely this year’s data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xt year it will be WML or 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re will be a next year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Schem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s the kitchen s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run am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iarrhea from the SGML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ludes lots of known hard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union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qu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ly syntactic sugar on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// is a user-defined function in Informix OR en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to keep the semantics close to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other History Less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ypical enterprise wanted data integration for business analysis bad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eded data in a variety of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a variety of forma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no unique 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incompatible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 day delivery means lots of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di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28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TL Warehouse Projects of the 90’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ll into 8 dig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ually a factor of three behind sche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livering a factor of 3 les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body dented their pick on semantic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hard, hard,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not solved by the blizzard of 3 letter acronyms from Redm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eb Servi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be a long time coming outside of simple domains (where there is no data integration to deal wi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catalog 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rainger perspiration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80060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~50-75% of IT projects f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we built bridges, our profession would be f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 same mistakes are repeated over and over (excessive ambition, rolling specs, bad design, failure to load a large data set ear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umilit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all sold client-server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ring the 8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even into the 90’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han 10 years la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t is the worst idea on the pla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6920" y="5140440"/>
            <a:ext cx="472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e should feel really dumb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typically don’t teach this stuff (and do a serious disservice to our studen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bably because we don’t (can’t) spend any time in industry to figure it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724280"/>
            <a:ext cx="65534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ion item:  at the very least read a couple of Robert L. Glass’s boo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rdware “half-life” is 18 month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oftware half-life is 18 years (or more)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25 years we moved fr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 to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QL to Xqu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uch higher level design environ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v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al purpose languages (report writers,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stop turning down papers on thi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rand Challe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rove application productivity (probability of success * programmer productivity) by 2 this dec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-Tier Computing Produced Lots of Middlew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/mess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rt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verage enterprise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AI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TL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portal prod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lication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maybe someday a federated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ll of these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 transformation eng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do function activation (app servic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have adapters to legacy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1320" y="4886280"/>
            <a:ext cx="438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uge overlap in functionality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uniform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duplic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 administ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bu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cross system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3:30Z</dcterms:modified>
  <cp:revision>161</cp:revision>
  <dc:subject/>
  <dc:title>Cohera</dc:title>
</cp:coreProperties>
</file>