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3160" y="684000"/>
            <a:ext cx="4667400" cy="35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8825040"/>
            <a:ext cx="302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962160" y="8825040"/>
            <a:ext cx="30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1E7B-105B-4677-AF6D-8D58CCFC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607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144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3520" y="684360"/>
            <a:ext cx="4667400" cy="3500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13240"/>
            <a:ext cx="512748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78272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2840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097880"/>
            <a:ext cx="26737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00" y="88920"/>
            <a:ext cx="830412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09788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782720"/>
            <a:ext cx="405216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8400" y="4097880"/>
            <a:ext cx="830412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/>
          </a:bodyPr>
          <a:p>
            <a:pPr marL="290520" indent="-2905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1560" indent="-279720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43E-71E9-4830-BBC8-48FD946EE877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476040" y="6081840"/>
            <a:ext cx="1038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.I.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0" y="879480"/>
            <a:ext cx="4562640" cy="551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8760" y="828720"/>
            <a:ext cx="4714920" cy="566748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6618960"/>
            <a:ext cx="1704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3897-C84F-48F7-8036-BE52E79411F6}" type="slidenum">
              <a:rPr b="0" lang="en-US" sz="9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96000" y="6149880"/>
            <a:ext cx="216216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38760" y="6105600"/>
            <a:ext cx="2238480" cy="600120"/>
          </a:xfrm>
          <a:prstGeom prst="rect">
            <a:avLst/>
          </a:prstGeom>
          <a:solidFill>
            <a:srgbClr val="00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338040" indent="0"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744480" algn="ctr">
              <a:spcAft>
                <a:spcPts val="601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Aft>
                <a:spcPts val="601"/>
              </a:spcAft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Aft>
                <a:spcPts val="601"/>
              </a:spcAft>
              <a:buClr>
                <a:srgbClr val="ff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iddleware Diarrhea and Other Ailment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04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Stonebrake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djunct Professor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assachusetts Institute of Technology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(stonebraker@lcs.mit.edu)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ore Uniform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very island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emory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urity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reading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is be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Duplic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009880"/>
            <a:ext cx="84582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 of the islands support transform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asonable chance you will do each one 6 or more ti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aintenance headac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 How To Consolidate……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704960"/>
            <a:ext cx="822960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verge app server into OR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mbest OR query is execute 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8160" y="4149720"/>
            <a:ext cx="660276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member that everything looks like 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ail to the guy with the hammer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Pictorially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43040" y="1536840"/>
            <a:ext cx="1606680" cy="11826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58880" y="3441600"/>
            <a:ext cx="1658880" cy="11304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5294160"/>
            <a:ext cx="1658880" cy="1149480"/>
          </a:xfrm>
          <a:prstGeom prst="rect">
            <a:avLst/>
          </a:prstGeom>
          <a:solidFill>
            <a:srgbClr val="ffff66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440" y="2732040"/>
            <a:ext cx="0" cy="696960"/>
          </a:xfrm>
          <a:prstGeom prst="line">
            <a:avLst/>
          </a:prstGeom>
          <a:ln w="255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584600"/>
            <a:ext cx="0" cy="681120"/>
          </a:xfrm>
          <a:prstGeom prst="line">
            <a:avLst/>
          </a:prstGeom>
          <a:ln w="255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97960" y="1917720"/>
            <a:ext cx="158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63840" y="3754440"/>
            <a:ext cx="1750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40160" y="5624640"/>
            <a:ext cx="1750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497840" y="1604880"/>
            <a:ext cx="2311560" cy="1114560"/>
            <a:chOff x="4497840" y="1604880"/>
            <a:chExt cx="2311560" cy="1114560"/>
          </a:xfrm>
        </p:grpSpPr>
        <p:sp>
          <p:nvSpPr>
            <p:cNvPr id="129" name=""/>
            <p:cNvSpPr/>
            <p:nvPr/>
          </p:nvSpPr>
          <p:spPr>
            <a:xfrm>
              <a:off x="4724280" y="1604880"/>
              <a:ext cx="1795320" cy="111456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7840" y="186696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533120" y="3429000"/>
            <a:ext cx="2311560" cy="1114560"/>
            <a:chOff x="4533120" y="3429000"/>
            <a:chExt cx="2311560" cy="1114560"/>
          </a:xfrm>
        </p:grpSpPr>
        <p:sp>
          <p:nvSpPr>
            <p:cNvPr id="132" name=""/>
            <p:cNvSpPr/>
            <p:nvPr/>
          </p:nvSpPr>
          <p:spPr>
            <a:xfrm>
              <a:off x="4724280" y="3429000"/>
              <a:ext cx="1795680" cy="111456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3120" y="373392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56800" y="5210280"/>
            <a:ext cx="2311560" cy="1114200"/>
            <a:chOff x="4456800" y="5210280"/>
            <a:chExt cx="2311560" cy="1114200"/>
          </a:xfrm>
        </p:grpSpPr>
        <p:sp>
          <p:nvSpPr>
            <p:cNvPr id="135" name=""/>
            <p:cNvSpPr/>
            <p:nvPr/>
          </p:nvSpPr>
          <p:spPr>
            <a:xfrm>
              <a:off x="4724280" y="5210280"/>
              <a:ext cx="1795680" cy="1114200"/>
            </a:xfrm>
            <a:prstGeom prst="ellipse">
              <a:avLst/>
            </a:prstGeom>
            <a:solidFill>
              <a:srgbClr val="ffff66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56800" y="5514840"/>
              <a:ext cx="2311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3352320" y="22096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8640" y="40384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586728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is Requires…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628640"/>
            <a:ext cx="746784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 to send queries to other DB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.e. be a data fed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ad balance also requires a federa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est of Breed Federa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400040"/>
            <a:ext cx="74674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pport schema heterogene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y executing OR fun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upport materialized view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 cache static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Moving Parts…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70496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 dominate ET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L only supports “push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 do both “push” and “pull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304920"/>
            <a:ext cx="84452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ork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3640" y="2057400"/>
            <a:ext cx="797544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 collection of ru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o’s allowed to buy w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who must approve 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est considered as a boxes and arrows dia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compiled into components to run on an app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Workflow Framework -- PO’s</a:t>
            </a:r>
            <a:endParaRPr b="1" lang="en-US" sz="3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2895480"/>
            <a:ext cx="14479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352680"/>
            <a:ext cx="838080" cy="0"/>
          </a:xfrm>
          <a:prstGeom prst="line">
            <a:avLst/>
          </a:prstGeom>
          <a:ln w="9360">
            <a:solidFill>
              <a:srgbClr val="00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743200"/>
            <a:ext cx="1214280" cy="12142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352680"/>
            <a:ext cx="11430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120" y="3048120"/>
            <a:ext cx="60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7640" y="2971800"/>
            <a:ext cx="50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962520"/>
            <a:ext cx="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4876920"/>
            <a:ext cx="1752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4343400"/>
            <a:ext cx="13716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v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4460760"/>
            <a:ext cx="5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2743200"/>
            <a:ext cx="1214280" cy="1214280"/>
          </a:xfrm>
          <a:prstGeom prst="diamond">
            <a:avLst/>
          </a:prstGeom>
          <a:solidFill>
            <a:srgbClr val="ffff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4120" y="3352680"/>
            <a:ext cx="99036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3352680"/>
            <a:ext cx="106704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87320" y="2971800"/>
            <a:ext cx="502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3962520"/>
            <a:ext cx="0" cy="91440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876920"/>
            <a:ext cx="160020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8000" y="4460760"/>
            <a:ext cx="587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ata Intensive Workflow Should  Move Inside an OR DBM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00" y="2133720"/>
            <a:ext cx="8304120" cy="317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UI for “boxes and arrows”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iler for the diagram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cessing steps become component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usiness rules become trigge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ll data flow inside the DBM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ed great in Media/360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oo much middle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ail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b services il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ur professional sickn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88920"/>
            <a:ext cx="830412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?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8400" y="1782720"/>
            <a:ext cx="8304120" cy="443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290520" indent="-29052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g Big Big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performance advantage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polling of the DBM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data movemen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7720" indent="-343080">
              <a:spcAft>
                <a:spcPts val="700"/>
              </a:spcAft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sy to change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93480" y="4486320"/>
            <a:ext cx="590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Times New Roman"/>
              </a:rPr>
              <a:t>Watch for Informix product in this area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600200"/>
            <a:ext cx="746784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integrated system that do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 ser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th a single transformation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sed on DBMS technology (or something else…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7812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for content storage and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ood as “on the wire” format for data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s long as you don’t need to send a lot of stuff fa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ad for data storag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6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S and IDMS get 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ustomers start complaining about rewriting everything when schema chan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dd writes pioneering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tarts a decade long argument between IMS/CODASYL advocates and Codd support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utting semantics into data order is b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restricts storage op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dden meaning b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o self-defining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dependence is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hemas change oft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n’t want to rewrite anything when this happe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et-Net of Argu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lexity is b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igh level query languages are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KISS arg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ll these three premises “Codd’s laws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istor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983(?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dd wins Turing aw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knowledgement for being r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 in This Historical Ligh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 of the bad features of IMS/Codasy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llows semantics in data 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ata independence will be a challen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y updates on inverted hierarch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ook at IMS LD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re complex than Codasy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lient-Server Got Replaced by N-Tier Comput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e We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iz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calability and management problems with client serv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ur Fiel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look a little silly say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 idea renounced in the 197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s 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ading our colleagues to ask “What’s different?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 somebody disproved Codd’s laws; they didn’t tell me…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ow to Win the Turing Award Circa 202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587600"/>
            <a:ext cx="8610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00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data storage gets tr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st off Codd’s pap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10 years to be proven r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79200"/>
            <a:ext cx="86868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n Any Ca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3640" y="1587600"/>
            <a:ext cx="828036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line tags turn 1Tbyte of EMP data into 10 Tbytes of EMP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n’t store anything big in native XM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 use something else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ke wha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R DB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XML is merely this year’s data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xt year it will be WML or 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there will be a next year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MLSchem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tains the kitchen s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mplexity run am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iarrhea from the SGML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ludes lots of known hard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g. union typ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Xqu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stly syntactic sugar on OR SQ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// is a user-defined function in Informix OR eng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ry to keep the semantics close to OR SQ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other History Less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00200"/>
            <a:ext cx="80773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ypical enterprise wanted data integration for business analysis bad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eded data in a variety of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a variety of forma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with no unique 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with incompatible semanti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3560" indent="-2919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2 day delivery means lots of th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ften di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28600" y="22860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TL Warehouse Projects of the 90’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600200"/>
            <a:ext cx="80773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ll into 8 dig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Usually a factor of three behind schedu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livering a factor of 3 less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verybody dented their pick on semantic heterogene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hich is hard, hard, h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not solved by the blizzard of 3 letter acronyms from Redmon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Web Servic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ill be a long time coming outside of simple domains (where there is no data integration to deal wi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g. catalog 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Grainger perspiration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4800600"/>
            <a:ext cx="35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Depressing State of Affai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~50-75% of IT projects fai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f we built bridges, our profession would be f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the same mistakes are repeated over and over (excessive ambition, rolling specs, bad design, failure to load a large data set ear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Humility Less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all sold client-server h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uring the 80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even into the 90’s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than 10 years la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t is the worst idea on the pla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6920" y="5140440"/>
            <a:ext cx="4722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We should feel really dumb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To Do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e typically don’t teach this stuff (and do a serious disservice to our student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obably because we don’t (can’t) spend any time in industry to figure it 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724280"/>
            <a:ext cx="655344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ction item:  at the very least read a couple of Robert L. Glass’s boo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Depressing State of Affai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rdware “half-life” is 18 month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oftware half-life is 18 years (or more)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 25 years we moved fro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 to Ja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QL to Xque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at To Do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uch higher level design environ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v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pecial purpose languages (report writers,…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stop turning down papers on this stuff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33520" y="79200"/>
            <a:ext cx="8445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rand Challen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63640" y="1371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rove application productivity (probability of success * programmer productivity) by 2 this deca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N-Tier Computing Produced Lots of Middlewa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60020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pp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AI/mess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T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dera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ork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ort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790015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iddleware Diarrhe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1587600"/>
            <a:ext cx="741672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verage enterprise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app ser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EAI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ETL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portal prod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(or more) application packag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851040" indent="-279360"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maybe someday a federated DB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920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ll of these syste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8381880" cy="439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tain transformation engin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often do function activation (app servic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nd often have adapters to legacy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1320" y="4886280"/>
            <a:ext cx="4389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uge overlap in functionality!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Moving Par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ore uniform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duplic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304920"/>
            <a:ext cx="8445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Less System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09880"/>
            <a:ext cx="74674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system administra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trai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man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bu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ts val="4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ess cross system iss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18:35:09Z</dcterms:created>
  <dc:creator>Michael Laven</dc:creator>
  <dc:description/>
  <dc:language>en-US</dc:language>
  <cp:lastModifiedBy>James Hamilton</cp:lastModifiedBy>
  <cp:lastPrinted>1999-12-07T22:03:43Z</cp:lastPrinted>
  <dcterms:modified xsi:type="dcterms:W3CDTF">2001-10-18T14:03:30Z</dcterms:modified>
  <cp:revision>161</cp:revision>
  <dc:subject/>
  <dc:title>Cohera</dc:title>
</cp:coreProperties>
</file>