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962160" y="0"/>
            <a:ext cx="302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63160" y="684000"/>
            <a:ext cx="4667400" cy="350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1680" y="4413240"/>
            <a:ext cx="512748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0" y="8825040"/>
            <a:ext cx="302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962160" y="8825040"/>
            <a:ext cx="302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926D-9B43-4ABD-8913-B930020B0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9607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0720" y="881712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-1440" y="881712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63520" y="684360"/>
            <a:ext cx="4667400" cy="35002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1680" y="4413240"/>
            <a:ext cx="51274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83041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8400" y="4097880"/>
            <a:ext cx="83041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284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36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6040" y="178272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4040" y="178272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400" y="409788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6040" y="409788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4040" y="409788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28400" y="1782720"/>
            <a:ext cx="830412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830412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28400" y="88920"/>
            <a:ext cx="830412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4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28400" y="1782720"/>
            <a:ext cx="830412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28400" y="4097880"/>
            <a:ext cx="83041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83041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8400" y="4097880"/>
            <a:ext cx="83041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84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6040" y="178272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4040" y="178272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28400" y="409788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6040" y="409788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4040" y="409788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830412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28400" y="88920"/>
            <a:ext cx="830412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284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6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8400" y="4097880"/>
            <a:ext cx="83041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696000" y="6149880"/>
            <a:ext cx="2162160" cy="5209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638760" y="6105600"/>
            <a:ext cx="2238480" cy="600120"/>
          </a:xfrm>
          <a:prstGeom prst="rect">
            <a:avLst/>
          </a:prstGeom>
          <a:solidFill>
            <a:srgbClr val="00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28400" y="1782720"/>
            <a:ext cx="830412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marL="290520" indent="-290520">
              <a:spcAft>
                <a:spcPts val="601"/>
              </a:spcAft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7720" indent="-343080">
              <a:spcAft>
                <a:spcPts val="601"/>
              </a:spcAft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1560" indent="-279720">
              <a:spcAft>
                <a:spcPts val="601"/>
              </a:spcAft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Aft>
                <a:spcPts val="601"/>
              </a:spcAft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Aft>
                <a:spcPts val="601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Aft>
                <a:spcPts val="601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Aft>
                <a:spcPts val="601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6618960"/>
            <a:ext cx="1704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63A5-2F91-4C77-B3B5-C64A48508943}" type="slidenum">
              <a:rPr b="0" lang="en-US" sz="9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476040" y="6081840"/>
            <a:ext cx="1038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M.I.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0" y="879480"/>
            <a:ext cx="4562640" cy="5514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28760" y="828720"/>
            <a:ext cx="4714920" cy="5667480"/>
          </a:xfrm>
          <a:prstGeom prst="rect">
            <a:avLst/>
          </a:prstGeom>
          <a:solidFill>
            <a:srgbClr val="00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7080" y="6618960"/>
            <a:ext cx="1704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373C-427F-49EA-A12D-4687B5683AED}" type="slidenum">
              <a:rPr b="0" lang="en-US" sz="9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696000" y="6149880"/>
            <a:ext cx="2162160" cy="520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638760" y="6105600"/>
            <a:ext cx="2238480" cy="600120"/>
          </a:xfrm>
          <a:prstGeom prst="rect">
            <a:avLst/>
          </a:prstGeom>
          <a:solidFill>
            <a:srgbClr val="00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338040" indent="0"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744480" algn="ctr">
              <a:spcAft>
                <a:spcPts val="601"/>
              </a:spcAft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Aft>
                <a:spcPts val="601"/>
              </a:spcAft>
              <a:buClr>
                <a:srgbClr val="ffff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Aft>
                <a:spcPts val="601"/>
              </a:spcAft>
              <a:buClr>
                <a:srgbClr val="ff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Middleware Diarrhea and Other Ailment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04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ichael Stonebraker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djunct Professor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assachusetts Institute of Technology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(stonebraker@lcs.mit.edu)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2280" y="30492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More Uniformit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009880"/>
            <a:ext cx="7467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very island ha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emory manag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ecurity mod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hreading mod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ess is bet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2280" y="30492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Less Duplica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009880"/>
            <a:ext cx="845820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ost of the islands support transforma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reasonable chance you will do each one 6 or more tim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aintenance headach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8600" y="22860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So How To Consolidate……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1704960"/>
            <a:ext cx="822960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onverge app server into OR DB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umbest OR query is execute fun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790015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8160" y="4149720"/>
            <a:ext cx="660276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Remember that everything looks like 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nail to the guy with the hammer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Pictorially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43040" y="1536840"/>
            <a:ext cx="1606680" cy="118260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58880" y="3441600"/>
            <a:ext cx="1658880" cy="1130400"/>
          </a:xfrm>
          <a:prstGeom prst="rect">
            <a:avLst/>
          </a:prstGeom>
          <a:solidFill>
            <a:srgbClr val="ffff99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5294160"/>
            <a:ext cx="1658880" cy="1149480"/>
          </a:xfrm>
          <a:prstGeom prst="rect">
            <a:avLst/>
          </a:prstGeom>
          <a:solidFill>
            <a:srgbClr val="ffff66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95440" y="2732040"/>
            <a:ext cx="0" cy="696960"/>
          </a:xfrm>
          <a:prstGeom prst="line">
            <a:avLst/>
          </a:prstGeom>
          <a:ln w="25560">
            <a:solidFill>
              <a:srgbClr val="ffffcc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11280" y="4584600"/>
            <a:ext cx="0" cy="681120"/>
          </a:xfrm>
          <a:prstGeom prst="line">
            <a:avLst/>
          </a:prstGeom>
          <a:ln w="25560">
            <a:solidFill>
              <a:srgbClr val="ffffcc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97960" y="1917720"/>
            <a:ext cx="1584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63840" y="3754440"/>
            <a:ext cx="1750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40160" y="5624640"/>
            <a:ext cx="1750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497840" y="1604880"/>
            <a:ext cx="2311560" cy="1114560"/>
            <a:chOff x="4497840" y="1604880"/>
            <a:chExt cx="2311560" cy="1114560"/>
          </a:xfrm>
        </p:grpSpPr>
        <p:sp>
          <p:nvSpPr>
            <p:cNvPr id="129" name=""/>
            <p:cNvSpPr/>
            <p:nvPr/>
          </p:nvSpPr>
          <p:spPr>
            <a:xfrm>
              <a:off x="4724280" y="1604880"/>
              <a:ext cx="1795320" cy="111456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97840" y="1866960"/>
              <a:ext cx="2311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533120" y="3429000"/>
            <a:ext cx="2311560" cy="1114560"/>
            <a:chOff x="4533120" y="3429000"/>
            <a:chExt cx="2311560" cy="1114560"/>
          </a:xfrm>
        </p:grpSpPr>
        <p:sp>
          <p:nvSpPr>
            <p:cNvPr id="132" name=""/>
            <p:cNvSpPr/>
            <p:nvPr/>
          </p:nvSpPr>
          <p:spPr>
            <a:xfrm>
              <a:off x="4724280" y="3429000"/>
              <a:ext cx="1795680" cy="1114560"/>
            </a:xfrm>
            <a:prstGeom prst="ellipse">
              <a:avLst/>
            </a:prstGeom>
            <a:solidFill>
              <a:srgbClr val="ffff99"/>
            </a:solidFill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33120" y="3733920"/>
              <a:ext cx="2311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456800" y="5210280"/>
            <a:ext cx="2311560" cy="1114200"/>
            <a:chOff x="4456800" y="5210280"/>
            <a:chExt cx="2311560" cy="1114200"/>
          </a:xfrm>
        </p:grpSpPr>
        <p:sp>
          <p:nvSpPr>
            <p:cNvPr id="135" name=""/>
            <p:cNvSpPr/>
            <p:nvPr/>
          </p:nvSpPr>
          <p:spPr>
            <a:xfrm>
              <a:off x="4724280" y="5210280"/>
              <a:ext cx="1795680" cy="1114200"/>
            </a:xfrm>
            <a:prstGeom prst="ellipse">
              <a:avLst/>
            </a:prstGeom>
            <a:solidFill>
              <a:srgbClr val="ffff66"/>
            </a:solidFill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56800" y="5514840"/>
              <a:ext cx="2311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 flipH="1">
            <a:off x="3352320" y="2209680"/>
            <a:ext cx="1219320" cy="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428640" y="4038480"/>
            <a:ext cx="1219320" cy="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428640" y="5867280"/>
            <a:ext cx="1219320" cy="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8600" y="22860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This Requires…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1628640"/>
            <a:ext cx="7467840" cy="439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BMS to send queries to other DB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.e. be a data federat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oad balance also requires a federat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52280" y="22860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Best of Breed Federator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1400040"/>
            <a:ext cx="7467480" cy="439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upport schema heterogene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y executing OR func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upport materialized view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o cache static d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790015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790015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52280" y="22860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Less Moving Parts…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1704960"/>
            <a:ext cx="7467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ederators dominate ET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TL only supports “push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ederators do both “push” and “pull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790015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3520" y="304920"/>
            <a:ext cx="844524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Workflow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3640" y="2057400"/>
            <a:ext cx="7975440" cy="32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 collection of ru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ho’s allowed to buy wh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nd who must approve 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est considered as a boxes and arrows diagra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nd compiled into components to run on an app serv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Workflow Framework -- PO’s</a:t>
            </a: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2895480"/>
            <a:ext cx="14479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3352680"/>
            <a:ext cx="838080" cy="0"/>
          </a:xfrm>
          <a:prstGeom prst="line">
            <a:avLst/>
          </a:prstGeom>
          <a:ln w="9360">
            <a:solidFill>
              <a:srgbClr val="00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2743200"/>
            <a:ext cx="1214280" cy="1214280"/>
          </a:xfrm>
          <a:prstGeom prst="diamond">
            <a:avLst/>
          </a:prstGeom>
          <a:solidFill>
            <a:srgbClr val="ffff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3352680"/>
            <a:ext cx="114300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6120" y="3048120"/>
            <a:ext cx="604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g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7640" y="2971800"/>
            <a:ext cx="502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28800" y="3962520"/>
            <a:ext cx="0" cy="9144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4876920"/>
            <a:ext cx="175248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4343400"/>
            <a:ext cx="137160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v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92360" y="4460760"/>
            <a:ext cx="587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2743200"/>
            <a:ext cx="1214280" cy="1214280"/>
          </a:xfrm>
          <a:prstGeom prst="diamond">
            <a:avLst/>
          </a:prstGeom>
          <a:solidFill>
            <a:srgbClr val="ffff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4120" y="3352680"/>
            <a:ext cx="99036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96080" y="3352680"/>
            <a:ext cx="106704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987320" y="2971800"/>
            <a:ext cx="502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86600" y="3962520"/>
            <a:ext cx="0" cy="9144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86600" y="4876920"/>
            <a:ext cx="160020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758000" y="4460760"/>
            <a:ext cx="587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Data Intensive Workflow Should  Move Inside an OR DBM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28400" y="2133720"/>
            <a:ext cx="8304120" cy="31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290520" indent="-290520">
              <a:spcAft>
                <a:spcPts val="700"/>
              </a:spcAft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GUI for “boxes and arrows”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0520" indent="-290520">
              <a:spcAft>
                <a:spcPts val="700"/>
              </a:spcAft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ompiler for the diagram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7720" indent="-343080">
              <a:spcAft>
                <a:spcPts val="700"/>
              </a:spcAft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ocessing steps become components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7720" indent="-343080">
              <a:spcAft>
                <a:spcPts val="700"/>
              </a:spcAft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usiness rules become triggers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7720" indent="-343080">
              <a:spcAft>
                <a:spcPts val="700"/>
              </a:spcAft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ll data flow inside the DBMS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0520" indent="-290520">
              <a:spcAft>
                <a:spcPts val="700"/>
              </a:spcAft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orked great in Media/360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79200"/>
            <a:ext cx="844524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63640" y="1587600"/>
            <a:ext cx="741672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oo much middlewa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XML ailm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eb services il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Our professional sickn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Why?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8304120" cy="443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290520" indent="-290520">
              <a:spcAft>
                <a:spcPts val="700"/>
              </a:spcAft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ig Big Big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performance advantage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7720" indent="-343080">
              <a:spcAft>
                <a:spcPts val="700"/>
              </a:spcAft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no polling of the DBMS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7720" indent="-343080">
              <a:spcAft>
                <a:spcPts val="700"/>
              </a:spcAft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no data movement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7720" indent="-343080">
              <a:spcAft>
                <a:spcPts val="700"/>
              </a:spcAft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asy to change!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93480" y="4486320"/>
            <a:ext cx="590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Times New Roman"/>
              </a:rPr>
              <a:t>Watch for Informix product in this area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28600" y="22860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Nirvan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1600200"/>
            <a:ext cx="746784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One integrated system that do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eder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A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pp servi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ith a single transformation syst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ased on DBMS technology (or something else….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280" y="22860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XM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1781280"/>
            <a:ext cx="7467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Good for content storage and mov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Good as “on the wire” format for data mov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s long as you don’t need to send a lot of stuff fa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ad for data storage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History Less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63640" y="1587600"/>
            <a:ext cx="828036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1960’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MS and IDMS get tra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ustomers start complaining about rewriting everything when schema chang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History Less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63640" y="1587600"/>
            <a:ext cx="828036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197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odd writes pioneering pap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tarts a decade long argument between IMS/CODASYL advocates and Codd support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Net-Net of Argum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63640" y="1587600"/>
            <a:ext cx="828036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utting semantics into data order is ba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restricts storage op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Hidden meaning b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no self-defining fiel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Net-Net of Argum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63640" y="1587600"/>
            <a:ext cx="828036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ata independence is goo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chemas change oft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on’t want to rewrite anything when this happe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Net-Net of Argum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63640" y="1587600"/>
            <a:ext cx="828036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omplexity is ba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high level query languages are goo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KISS argum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all these three premises “Codd’s laws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History Less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63640" y="1587600"/>
            <a:ext cx="741672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1983(?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odd wins Turing awa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cknowledgement for being righ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XML in This Historical Ligh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63640" y="1587600"/>
            <a:ext cx="828036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ost of the bad features of IMS/Codasy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llows semantics in data ord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ata independence will be a challen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1663560" indent="-2919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ry updates on inverted hierarchi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1663560" indent="-2919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ook at IMS LDB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ore complex than Codasy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8600" y="22860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ent-Server Got Replaced by N-Tier Comput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1600200"/>
            <a:ext cx="7467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he Web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Gizm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calability and management problems with client serv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790015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Our Fiel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63640" y="1587600"/>
            <a:ext cx="828036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e look a little silly say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n idea renounced in the 1970’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s bac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eading our colleagues to ask “What’s different?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f somebody disproved Codd’s laws; they didn’t tell me….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How to Win the Turing Award Circa 202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1587600"/>
            <a:ext cx="8610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2000’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XML data storage gets tra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ust off Codd’s pap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ait 10 years to be proven righ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57200" y="79200"/>
            <a:ext cx="86868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In Any Cas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63640" y="1587600"/>
            <a:ext cx="828036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n line tags turn 1Tbyte of EMP data into 10 Tbytes of EMP d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on’t store anything big in native XM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ill use something else…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ike what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OR DBM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63640" y="1587600"/>
            <a:ext cx="741672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XML is merely this year’s data typ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Next year it will be WML or …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nd there will be a next year…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XMLSchem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63640" y="1587600"/>
            <a:ext cx="741672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ontains the kitchen sin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omplexity run amo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iarrhea from the SGML typ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ncludes lots of known hard stuff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.g. union typ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Xquer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63640" y="1587600"/>
            <a:ext cx="741672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ostly syntactic sugar on OR SQ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// is a user-defined function in Informix OR engi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ry to keep the semantics close to OR SQ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28600" y="22860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Another History Less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1600200"/>
            <a:ext cx="807732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ypical enterprise wanted data integration for business analysis bad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needed data in a variety of syste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n a variety of forma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often with no unique i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often with incompatible semantic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1663560" indent="-2919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2 day delivery means lots of thing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often di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8600" y="22860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ETL Warehouse Projects of the 90’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600200"/>
            <a:ext cx="807732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ell into 8 digi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Usually a factor of three behind schedu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elivering a factor of 3 less stuff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verybody dented their pick on semantic heterogene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hich is hard, hard, ha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nd not solved by the blizzard of 3 letter acronyms from Redmon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28600" y="22860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Web Servic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1600200"/>
            <a:ext cx="7467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ill be a long time coming outside of simple domains (where there is no data integration to deal with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.g. catalog  manag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Grainger perspiration…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05120" y="4800600"/>
            <a:ext cx="35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33520" y="79200"/>
            <a:ext cx="8445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The Depressing State of Affair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63640" y="1371600"/>
            <a:ext cx="741672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~50-75% of IT projects fai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f we built bridges, our profession would be fir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nd the same mistakes are repeated over and over (excessive ambition, rolling specs, bad design, failure to load a large data set early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22860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Humility Less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1600200"/>
            <a:ext cx="7467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e all sold client-server ha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uring the 80’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nd even into the 90’s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ess than 10 years la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t is the worst idea on the plane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790015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6920" y="5140440"/>
            <a:ext cx="4722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We should feel really dumb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33520" y="79200"/>
            <a:ext cx="8445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What To Do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63640" y="1371600"/>
            <a:ext cx="741672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e typically don’t teach this stuff (and do a serious disservice to our student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obably because we don’t (can’t) spend any time in industry to figure it ou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4724280"/>
            <a:ext cx="655344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ction item:  at the very least read a couple of Robert L. Glass’s boo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533520" y="79200"/>
            <a:ext cx="8445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The Depressing State of Affair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63640" y="1371600"/>
            <a:ext cx="741672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Hardware “half-life” is 18 month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oftware half-life is 18 years (or more)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n 25 years we moved fro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 to Jav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QL to Xque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533520" y="79200"/>
            <a:ext cx="8445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What To Do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63640" y="1371600"/>
            <a:ext cx="741672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uch higher level design environm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v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orkflo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pecial purpose languages (report writers,…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nd stop turning down papers on this stuff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33520" y="79200"/>
            <a:ext cx="8445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Grand Challeng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63640" y="1371600"/>
            <a:ext cx="741672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mprove application productivity (probability of success * programmer productivity) by 2 this deca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8600" y="22860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N-Tier Computing Produced Lots of Middlewar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1600200"/>
            <a:ext cx="7467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pp serv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AI/messag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T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ederato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orkflo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orta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B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790015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Middleware Diarrhe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63640" y="1587600"/>
            <a:ext cx="741672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verage enterprise ha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one (or more) app serv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one (or more) EAI packag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one (or more) ETL packag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one (or more) portal produc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one (or more) application packag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nd maybe someday a federated DB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All of these system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1523880"/>
            <a:ext cx="8381880" cy="439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ontain transformation engin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nd often do function activation (app servic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nd often have adapters to legacy syste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1320" y="4886280"/>
            <a:ext cx="4389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Huge overlap in functionality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52280" y="30492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Less Moving Par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009880"/>
            <a:ext cx="7467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ess syste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ore uniform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ess duplicatio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2280" y="30492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Less System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009880"/>
            <a:ext cx="7467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ess system administrato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ess train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ess manua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ess bug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ess cross system issu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0T18:35:09Z</dcterms:created>
  <dc:creator>Michael Laven</dc:creator>
  <dc:description/>
  <dc:language>en-US</dc:language>
  <cp:lastModifiedBy>James Hamilton</cp:lastModifiedBy>
  <cp:lastPrinted>1999-12-07T22:03:43Z</cp:lastPrinted>
  <dcterms:modified xsi:type="dcterms:W3CDTF">2001-10-18T14:03:30Z</dcterms:modified>
  <cp:revision>161</cp:revision>
  <dc:subject/>
  <dc:title>Cohera</dc:title>
</cp:coreProperties>
</file>