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700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700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700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908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700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908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-169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8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8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53320" y="326880"/>
            <a:ext cx="1203480" cy="66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07160" y="201600"/>
            <a:ext cx="15177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2895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</a:rPr>
              <a:t>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4560" y="3781440"/>
            <a:ext cx="557856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96920" y="3929040"/>
            <a:ext cx="5560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79640" y="1587600"/>
            <a:ext cx="6255000" cy="3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06640" y="3252960"/>
            <a:ext cx="5589720" cy="32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09520" y="4238640"/>
            <a:ext cx="5560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5f5f"/>
                </a:solidFill>
                <a:latin typeface="Arial"/>
              </a:rPr>
              <a:t>Inventory Management in Internet Advertising</a:t>
            </a:r>
            <a:endParaRPr b="1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4884840"/>
            <a:ext cx="5562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Tom Shields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HTPS – October 15, 2001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48F54-82C6-411C-9171-6C46B7AA8F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Inventory Management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s and ad serving systems have collected data on users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ternet advertising downturn, advertisers are demanding more targeted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sales people need to know availability of impressions meeting arbitrary targe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servers need to be able to fulfill promises made by sales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Requirement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availability across arbitrar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imes in 5-10 se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successful delivery to flight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larg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systems serve over 1 billion ads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,000 ad flights, up to 10,000 simultaneous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imensions, some of high cardinality, e.g. Z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G (Country, Zip, Age, Gen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ital status, household income, education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ed inter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, section, or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word or keyword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Example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en ages 18-25: 2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en in California: 1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15,000 impressions to Men 18-25 in P&amp;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: How many avails for Men in Califor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overlap: Men, 18-25, in CA: 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impact: ¾ of overlap already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answer: 9,000 non-overlap + 1,500 in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sell 7,500 of Men in CA, only 1/5 can be 18-25, even though proportionately 2/5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The Problem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present the impress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forecast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f day, day of week, seasonal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ntinuous growth due to “site of the da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calculating avails for any set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discounting existing flights from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delivery that maximizes probability that all goals will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Attempted Solution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multi-dimensiona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n’t afford the hardware and software to scal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size needed to be large to handle high cardinality dim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requires table scans and lots of com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te, but very 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Today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first level of overlap between fl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in 10% “fudge factor” to handle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up flights necessary about 10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we be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7:30:47Z</dcterms:created>
  <dc:creator>Clone</dc:creator>
  <dc:description/>
  <dc:language>en-US</dc:language>
  <cp:lastModifiedBy>James Hamilton</cp:lastModifiedBy>
  <dcterms:modified xsi:type="dcterms:W3CDTF">2001-10-31T22:58:36Z</dcterms:modified>
  <cp:revision>43</cp:revision>
  <dc:subject/>
  <dc:title>PowerPoint Presentation</dc:title>
</cp:coreProperties>
</file>