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7696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041360"/>
            <a:ext cx="7696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8720" y="129492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0413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8720" y="40413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7000" y="129492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080" y="129492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04136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7000" y="404136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080" y="404136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4920" y="1294920"/>
            <a:ext cx="76964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7696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375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38720" y="1294920"/>
            <a:ext cx="375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94920" y="152280"/>
            <a:ext cx="6172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38720" y="1294920"/>
            <a:ext cx="375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94920" y="40413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294920"/>
            <a:ext cx="76964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375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8720" y="129492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38720" y="40413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8720" y="129492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041360"/>
            <a:ext cx="7696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7696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94920" y="4041360"/>
            <a:ext cx="7696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38720" y="129492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94920" y="40413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238720" y="40413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97000" y="129492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99080" y="129492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94920" y="404136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97000" y="404136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99080" y="404136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7696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375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8720" y="1294920"/>
            <a:ext cx="375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152280"/>
            <a:ext cx="6172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8720" y="1294920"/>
            <a:ext cx="375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0413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375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8720" y="129492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8720" y="40413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8720" y="129492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041360"/>
            <a:ext cx="7696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Bookman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4920" y="1294920"/>
            <a:ext cx="7696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-1681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8720" indent="-169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8720" indent="-169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8720" indent="-169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753320" y="326880"/>
            <a:ext cx="1203480" cy="662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607160" y="201600"/>
            <a:ext cx="151776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2895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77777"/>
                </a:solidFill>
                <a:latin typeface="Arial"/>
              </a:rPr>
              <a:t>August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14560" y="3781440"/>
            <a:ext cx="5578560" cy="0"/>
          </a:xfrm>
          <a:prstGeom prst="line">
            <a:avLst/>
          </a:prstGeom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2896920" y="3929040"/>
            <a:ext cx="556092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879640" y="1587600"/>
            <a:ext cx="6255000" cy="357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906640" y="3252960"/>
            <a:ext cx="5589720" cy="328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777777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09520" y="4238640"/>
            <a:ext cx="556092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f5f5f"/>
                </a:solidFill>
                <a:latin typeface="Arial"/>
              </a:rPr>
              <a:t>Inventory Management in Internet Advertising</a:t>
            </a:r>
            <a:endParaRPr b="1" lang="en-US" sz="19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895480" y="4884840"/>
            <a:ext cx="55627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Tom Shields</a:t>
            </a:r>
            <a:endParaRPr b="1" lang="en-US" sz="1600" spc="-1" strike="noStrike">
              <a:solidFill>
                <a:srgbClr val="777777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HTPS – October 15, 2001</a:t>
            </a:r>
            <a:endParaRPr b="1" lang="en-US" sz="16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AF0470-DDD4-47F0-9915-4C5910EF0D9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Bookman"/>
              </a:rPr>
              <a:t>Inventory Management</a:t>
            </a: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7696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sites and ad serving systems have collected data on users for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internet advertising downturn, advertisers are demanding more targeted 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 sales people need to know availability of impressions meeting arbitrary target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 servers need to be able to fulfill promises made by sales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Bookman"/>
              </a:rPr>
              <a:t>Requirements</a:t>
            </a: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7696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 availability across arbitrary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times in 5-10 sec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ize successful delivery to flight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e large data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rge systems serve over 1 billion ads per 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00,000 ad flights, up to 10,000 simultaneous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 dimensions, some of high cardinality, e.g. Z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dim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ZAG (Country, Zip, Age, Gend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ital status, household income, education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rted intere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te, section, or p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yword or keyword pai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Bookman"/>
              </a:rPr>
              <a:t>Example</a:t>
            </a: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7696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 impres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m Men ages 18-25: 2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m Men in California: 15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l 15,000 impressions to Men 18-25 in P&amp;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: How many avails for Men in Californ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 overlap: Men, 18-25, in CA: 6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impact: ¾ of overlap already s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 answer: 9,000 non-overlap + 1,500 in overl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sell 7,500 of Men in CA, only 1/5 can be 18-25, even though proportionately 2/5 should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Bookman"/>
              </a:rPr>
              <a:t>The Problems</a:t>
            </a: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7696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represent the impressio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forecasting 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of day, day of week, seasonal vari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ontinuous growth due to “site of the da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 for calculating avails for any set of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 for discounting existing flights from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 for delivery that maximizes probability that all goals will be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Bookman"/>
              </a:rPr>
              <a:t>Attempted Solutions</a:t>
            </a: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7696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multi-dimensional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ldn’t afford the hardware and software to scale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ple size needed to be large to handle high cardinality dimen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ill requires table scans and lots of compu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urate, but very sl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Bookman"/>
              </a:rPr>
              <a:t>Today</a:t>
            </a: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7696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re we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culate first level of overlap between fligh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 in 10% “fudge factor” to handle the r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up flights necessary about 10% of the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hould we be do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17:30:47Z</dcterms:created>
  <dc:creator>Clone</dc:creator>
  <dc:description/>
  <dc:language>en-US</dc:language>
  <cp:lastModifiedBy>James Hamilton</cp:lastModifiedBy>
  <dcterms:modified xsi:type="dcterms:W3CDTF">2001-10-31T22:58:36Z</dcterms:modified>
  <cp:revision>43</cp:revision>
  <dc:subject/>
  <dc:title>PowerPoint Presentation</dc:title>
</cp:coreProperties>
</file>