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04136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87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700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700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387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94920" y="404136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387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700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99080" y="129492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9492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700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99080" y="40413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6172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8720" y="40413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8720" y="129492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041360"/>
            <a:ext cx="7696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1681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8720" indent="-169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8720" indent="-169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8720" indent="-169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53320" y="326880"/>
            <a:ext cx="1203480" cy="662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607160" y="201600"/>
            <a:ext cx="151776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2895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7777"/>
                </a:solidFill>
                <a:latin typeface="Arial"/>
              </a:rPr>
              <a:t>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14560" y="3781440"/>
            <a:ext cx="5578560" cy="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896920" y="3929040"/>
            <a:ext cx="5560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879640" y="1587600"/>
            <a:ext cx="6255000" cy="357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06640" y="3252960"/>
            <a:ext cx="5589720" cy="32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09520" y="4238640"/>
            <a:ext cx="556092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f5f5f"/>
                </a:solidFill>
                <a:latin typeface="Arial"/>
              </a:rPr>
              <a:t>Inventory Management in Internet Advertising</a:t>
            </a:r>
            <a:endParaRPr b="1" lang="en-US" sz="1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95480" y="4884840"/>
            <a:ext cx="55627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Tom Shields</a:t>
            </a: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HTPS – October 15, 2001</a:t>
            </a:r>
            <a:endParaRPr b="1" lang="en-US" sz="1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608FE-76E9-4E59-921B-D8D59E56F3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Inventory Management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ites and ad serving systems have collected data on users for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internet advertising downturn, advertisers are demanding more targeted 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sales people need to know availability of impressions meeting arbitrary target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servers need to be able to fulfill promises made by sales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Requirements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availability across arbitrary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imes in 5-10 se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successful delivery to flight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large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systems serve over 1 billion ads per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0,000 ad flights, up to 10,000 simultaneous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dimensions, some of high cardinality, e.g. Z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AG (Country, Zip, Age, Gend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ital status, household income, education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ed inter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te, section, or 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word or keyword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Example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res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Men ages 18-25: 2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Men in California: 1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 15,000 impressions to Men 18-25 in P&amp;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: How many avails for Men in Californ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overlap: Men, 18-25, in CA: 6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impact: ¾ of overlap already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answer: 9,000 non-overlap + 1,500 in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sell 7,500 of Men in CA, only 1/5 can be 18-25, even though proportionately 2/5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The Problems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represent the impress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forecasting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of day, day of week, seasonal var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ontinuous growth due to “site of the da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calculating avails for any set of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discounting existing flights from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delivery that maximizes probability that all goals will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Attempted Solutions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multi-dimensional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ldn’t afford the hardware and software to scale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size needed to be large to handle high cardinality dimen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requires table scans and lots of compu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rate, but very s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Bookman"/>
              </a:rPr>
              <a:t>Today</a:t>
            </a:r>
            <a:endParaRPr b="0" lang="en-US" sz="38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1294920"/>
            <a:ext cx="7696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re w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e first level of overlap between fligh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in 10% “fudge factor” to handle the 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052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up flights necessary about 10% of th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we be d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7:30:47Z</dcterms:created>
  <dc:creator>Clone</dc:creator>
  <dc:description/>
  <dc:language>en-US</dc:language>
  <cp:lastModifiedBy>James Hamilton</cp:lastModifiedBy>
  <dcterms:modified xsi:type="dcterms:W3CDTF">2001-10-31T22:58:36Z</dcterms:modified>
  <cp:revision>43</cp:revision>
  <dc:subject/>
  <dc:title>PowerPoint Presentation</dc:title>
</cp:coreProperties>
</file>