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3C5B-CEE2-4756-9C3C-0A9FFF395D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rate complex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rate size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fa3c"/>
                </a:solidFill>
                <a:latin typeface="Times New Roman"/>
                <a:ea typeface="Times New Roman (Hebrew)"/>
              </a:rPr>
              <a:t>Benchmark 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Independently designed benchmark (DBL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Compares RDBMS to Index Server (on top of RDB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80,000 XML documents, 72 MB of data, low complexity (simulates ~ 10x the data 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Pentium 3, NT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Test query is a simple 2-attribut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E5A3-C594-4B7E-B478-14FB1F17B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12F8-0309-4B28-AA2C-618E9B044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671E-A69F-423B-AC12-DCEAA0FC6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224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6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4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224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C1D9-14D1-4F7E-8D25-D34353648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260AC-21BF-496F-81F8-488FF052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E2152-DA5A-47BA-8083-5BC44017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E1AC0-7BC6-41AB-8258-68CEB5A5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D2004-7304-4B85-B2E8-F756AD70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3E4DE-A14A-468B-A5B7-E84DC72F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8600" y="-360"/>
            <a:ext cx="8369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54F10-8993-4BFA-ABBF-3576A005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6A9FD-DC52-4951-A1E0-74DEE72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9784-6F17-4F7C-B543-E66C81574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D2588-C0D8-4475-A820-912595D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A7E79-FEAA-47E8-A084-EC7374FD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B0532-5CC8-4156-B277-77A76884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F607E-31AA-4491-AADB-6424FC52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64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224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36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64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224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59DB6-6710-435E-B728-CCEFF6C4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B5C6-EFB1-467F-B784-A2269AD33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716E-D5B1-4C1F-ADB5-692172CEE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9D5E-2352-4A69-9469-1E33ADD87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8600" y="-360"/>
            <a:ext cx="8369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5B22-D82A-4314-97CC-CFFB4BEB6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4746-76D9-419E-8DB3-C5A616CF7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0946-DD7B-42CA-BAFD-27CBC0BD9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946F-9D85-45F9-81FE-75C386266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62720" y="6315120"/>
            <a:ext cx="1737000" cy="4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5080" y="6334200"/>
            <a:ext cx="107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9EB4-DD9B-40C9-9F02-5E6406B2ACA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06640" y="1206360"/>
            <a:ext cx="7478640" cy="77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0560" y="1206360"/>
            <a:ext cx="7478640" cy="77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800" y="9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583F-F4F3-4BBE-9197-CF443D80A5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4040" y="2139840"/>
            <a:ext cx="7478640" cy="77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81360" y="2139840"/>
            <a:ext cx="7479000" cy="77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4600" y="6259680"/>
            <a:ext cx="1736640" cy="43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800" y="9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dexing Data Relationship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2459160"/>
            <a:ext cx="876312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ael J. Frankl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ity of California, Berkel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amp; RightOrder In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480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489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493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497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500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509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514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524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4698-F010-44EE-8CAE-6A5303D8BE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2347200" y="189540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1: divide trie into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535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541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548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552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555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564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569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575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579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B745-D3B9-4BBE-B321-07916EFC11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346840" y="189540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2: build another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591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594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605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611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614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618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622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625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634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639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645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649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ABD9-2E24-4359-A421-E2977BECE2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18954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“ca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661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664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1200" y="1935000"/>
            <a:ext cx="17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enb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79560" y="2347920"/>
            <a:ext cx="23328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677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683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686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690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697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706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711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717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721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D680-546F-4CE0-8C48-50C4A36EB4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438280" y="18954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“ca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733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736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8440" y="4865760"/>
            <a:ext cx="17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b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1200240" y="4138200"/>
            <a:ext cx="19836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64280" y="2556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933600" y="255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467480" y="377352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996680" y="362268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53080" y="246204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70360" y="240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53452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548560" y="438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86692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55316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48720" y="37749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6272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7208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55820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740720" y="3819600"/>
            <a:ext cx="0" cy="609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73440" y="474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413200" y="4762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99320" y="37623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3440" y="3597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572160" y="439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64240" y="444168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80080" y="43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138000" y="4700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870080" y="375768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599000" y="4400640"/>
            <a:ext cx="380880" cy="459720"/>
            <a:chOff x="4599000" y="4400640"/>
            <a:chExt cx="380880" cy="459720"/>
          </a:xfrm>
        </p:grpSpPr>
        <p:sp>
          <p:nvSpPr>
            <p:cNvPr id="776" name=""/>
            <p:cNvSpPr/>
            <p:nvPr/>
          </p:nvSpPr>
          <p:spPr>
            <a:xfrm>
              <a:off x="4599000" y="44514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08000" y="440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5212440" y="3573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14040" y="4770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46120" y="4619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581800" y="5381640"/>
            <a:ext cx="380880" cy="457200"/>
            <a:chOff x="5581800" y="5381640"/>
            <a:chExt cx="380880" cy="457200"/>
          </a:xfrm>
        </p:grpSpPr>
        <p:sp>
          <p:nvSpPr>
            <p:cNvPr id="782" name=""/>
            <p:cNvSpPr/>
            <p:nvPr/>
          </p:nvSpPr>
          <p:spPr>
            <a:xfrm>
              <a:off x="558180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9620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896000" y="477216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591080" y="5381640"/>
            <a:ext cx="380880" cy="457200"/>
            <a:chOff x="4591080" y="5381640"/>
            <a:chExt cx="380880" cy="457200"/>
          </a:xfrm>
        </p:grpSpPr>
        <p:sp>
          <p:nvSpPr>
            <p:cNvPr id="786" name=""/>
            <p:cNvSpPr/>
            <p:nvPr/>
          </p:nvSpPr>
          <p:spPr>
            <a:xfrm>
              <a:off x="459108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0548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4788000" y="4816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97240" y="57434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332680" y="5743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377E-7BB1-465E-BE83-F610EF0A26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2438280" y="18954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“ca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798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801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069000" y="3940200"/>
            <a:ext cx="17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010040" y="4352760"/>
            <a:ext cx="51768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164280" y="2556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933600" y="255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67480" y="377352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996680" y="362268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53080" y="246204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70360" y="240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53452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548560" y="438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586692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55316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848720" y="37749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56272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57208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54380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55820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740720" y="3819600"/>
            <a:ext cx="0" cy="609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273440" y="474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413200" y="4762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899320" y="37623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013440" y="3597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572160" y="439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64240" y="444168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0080" y="43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138000" y="4700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4870080" y="375768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599000" y="4400640"/>
            <a:ext cx="380880" cy="459720"/>
            <a:chOff x="4599000" y="4400640"/>
            <a:chExt cx="380880" cy="459720"/>
          </a:xfrm>
        </p:grpSpPr>
        <p:sp>
          <p:nvSpPr>
            <p:cNvPr id="841" name=""/>
            <p:cNvSpPr/>
            <p:nvPr/>
          </p:nvSpPr>
          <p:spPr>
            <a:xfrm>
              <a:off x="4599000" y="44514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08000" y="440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212440" y="3573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514040" y="4770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46120" y="4619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581800" y="5381640"/>
            <a:ext cx="380880" cy="457200"/>
            <a:chOff x="5581800" y="5381640"/>
            <a:chExt cx="380880" cy="457200"/>
          </a:xfrm>
        </p:grpSpPr>
        <p:sp>
          <p:nvSpPr>
            <p:cNvPr id="847" name=""/>
            <p:cNvSpPr/>
            <p:nvPr/>
          </p:nvSpPr>
          <p:spPr>
            <a:xfrm>
              <a:off x="558180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9620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4896000" y="477216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4591080" y="5381640"/>
            <a:ext cx="380880" cy="457200"/>
            <a:chOff x="4591080" y="5381640"/>
            <a:chExt cx="380880" cy="457200"/>
          </a:xfrm>
        </p:grpSpPr>
        <p:sp>
          <p:nvSpPr>
            <p:cNvPr id="851" name=""/>
            <p:cNvSpPr/>
            <p:nvPr/>
          </p:nvSpPr>
          <p:spPr>
            <a:xfrm>
              <a:off x="459108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60548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788000" y="481644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97240" y="57434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32680" y="5743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A176-AB3D-43B1-A57A-EE95D6B04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5575320" y="2075040"/>
            <a:ext cx="1783800" cy="4703760"/>
            <a:chOff x="5575320" y="2075040"/>
            <a:chExt cx="1783800" cy="4703760"/>
          </a:xfrm>
        </p:grpSpPr>
        <p:grpSp>
          <p:nvGrpSpPr>
            <p:cNvPr id="858" name=""/>
            <p:cNvGrpSpPr/>
            <p:nvPr/>
          </p:nvGrpSpPr>
          <p:grpSpPr>
            <a:xfrm>
              <a:off x="5575320" y="2075040"/>
              <a:ext cx="473040" cy="4703760"/>
              <a:chOff x="5575320" y="2075040"/>
              <a:chExt cx="473040" cy="4703760"/>
            </a:xfrm>
          </p:grpSpPr>
          <p:sp>
            <p:nvSpPr>
              <p:cNvPr id="859" name=""/>
              <p:cNvSpPr/>
              <p:nvPr/>
            </p:nvSpPr>
            <p:spPr>
              <a:xfrm>
                <a:off x="5575320" y="2075040"/>
                <a:ext cx="473040" cy="4703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3512880" y="4194000"/>
                <a:ext cx="459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rot="16200000">
              <a:off x="5469480" y="4053600"/>
              <a:ext cx="33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048360" y="388260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46920" y="437508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54840" y="4527720"/>
              <a:ext cx="8856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45120" y="4714920"/>
              <a:ext cx="9190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6051600" y="3389400"/>
              <a:ext cx="9190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040440" y="2919240"/>
              <a:ext cx="92088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046920" y="4979880"/>
              <a:ext cx="92052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1066680" y="1709640"/>
            <a:ext cx="5518440" cy="1795680"/>
            <a:chOff x="1066680" y="1709640"/>
            <a:chExt cx="5518440" cy="1795680"/>
          </a:xfrm>
        </p:grpSpPr>
        <p:sp>
          <p:nvSpPr>
            <p:cNvPr id="870" name=""/>
            <p:cNvSpPr/>
            <p:nvPr/>
          </p:nvSpPr>
          <p:spPr>
            <a:xfrm flipV="1">
              <a:off x="1066680" y="1709640"/>
              <a:ext cx="5518440" cy="1795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410800">
              <a:off x="1668600" y="270144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5573880" y="2070000"/>
            <a:ext cx="474480" cy="4709880"/>
            <a:chOff x="5573880" y="2070000"/>
            <a:chExt cx="474480" cy="4709880"/>
          </a:xfrm>
        </p:grpSpPr>
        <p:grpSp>
          <p:nvGrpSpPr>
            <p:cNvPr id="873" name=""/>
            <p:cNvGrpSpPr/>
            <p:nvPr/>
          </p:nvGrpSpPr>
          <p:grpSpPr>
            <a:xfrm>
              <a:off x="5573880" y="2070000"/>
              <a:ext cx="474480" cy="4709880"/>
              <a:chOff x="5573880" y="2070000"/>
              <a:chExt cx="474480" cy="4709880"/>
            </a:xfrm>
          </p:grpSpPr>
          <p:sp>
            <p:nvSpPr>
              <p:cNvPr id="874" name=""/>
              <p:cNvSpPr/>
              <p:nvPr/>
            </p:nvSpPr>
            <p:spPr>
              <a:xfrm>
                <a:off x="5575320" y="207000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75320" y="249840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575320" y="292716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575320" y="33559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575320" y="37861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575320" y="42145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75320" y="46432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75320" y="507204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73880" y="54925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73880" y="59212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73880" y="63496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 rot="16200000">
              <a:off x="3514320" y="419580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yer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4156200" y="2092320"/>
            <a:ext cx="1414440" cy="4590720"/>
            <a:chOff x="4156200" y="2092320"/>
            <a:chExt cx="1414440" cy="4590720"/>
          </a:xfrm>
        </p:grpSpPr>
        <p:sp>
          <p:nvSpPr>
            <p:cNvPr id="887" name=""/>
            <p:cNvSpPr/>
            <p:nvPr/>
          </p:nvSpPr>
          <p:spPr>
            <a:xfrm flipV="1">
              <a:off x="4648320" y="4060440"/>
              <a:ext cx="8856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46520" y="455292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54440" y="470520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45080" y="4892400"/>
              <a:ext cx="91908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651200" y="3566520"/>
              <a:ext cx="91944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640400" y="3097080"/>
              <a:ext cx="92052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46520" y="5157720"/>
              <a:ext cx="92088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4156200" y="2092320"/>
              <a:ext cx="489960" cy="4590720"/>
              <a:chOff x="4156200" y="2092320"/>
              <a:chExt cx="489960" cy="4590720"/>
            </a:xfrm>
          </p:grpSpPr>
          <p:sp>
            <p:nvSpPr>
              <p:cNvPr id="895" name=""/>
              <p:cNvSpPr/>
              <p:nvPr/>
            </p:nvSpPr>
            <p:spPr>
              <a:xfrm>
                <a:off x="4171680" y="2898720"/>
                <a:ext cx="474480" cy="2997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200000">
                <a:off x="2090520" y="4157640"/>
                <a:ext cx="45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157640" y="2091960"/>
            <a:ext cx="488880" cy="4591080"/>
            <a:chOff x="4157640" y="2091960"/>
            <a:chExt cx="488880" cy="4591080"/>
          </a:xfrm>
        </p:grpSpPr>
        <p:grpSp>
          <p:nvGrpSpPr>
            <p:cNvPr id="898" name=""/>
            <p:cNvGrpSpPr/>
            <p:nvPr/>
          </p:nvGrpSpPr>
          <p:grpSpPr>
            <a:xfrm>
              <a:off x="4171680" y="2900160"/>
              <a:ext cx="474840" cy="2995920"/>
              <a:chOff x="4171680" y="2900160"/>
              <a:chExt cx="474840" cy="2995920"/>
            </a:xfrm>
          </p:grpSpPr>
          <p:sp>
            <p:nvSpPr>
              <p:cNvPr id="899" name=""/>
              <p:cNvSpPr/>
              <p:nvPr/>
            </p:nvSpPr>
            <p:spPr>
              <a:xfrm>
                <a:off x="4173480" y="2900160"/>
                <a:ext cx="473040" cy="43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73480" y="33289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73480" y="37591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173480" y="41878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173480" y="46162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173480" y="504504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171680" y="5465880"/>
                <a:ext cx="47340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 rot="16200000">
              <a:off x="2091960" y="415764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yer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763720" y="2103120"/>
            <a:ext cx="1438560" cy="4591080"/>
            <a:chOff x="2763720" y="2103120"/>
            <a:chExt cx="1438560" cy="4591080"/>
          </a:xfrm>
        </p:grpSpPr>
        <p:sp>
          <p:nvSpPr>
            <p:cNvPr id="908" name=""/>
            <p:cNvSpPr/>
            <p:nvPr/>
          </p:nvSpPr>
          <p:spPr>
            <a:xfrm flipV="1">
              <a:off x="3263760" y="396072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62320" y="445320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86080" y="460548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60880" y="4792680"/>
              <a:ext cx="91908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282840" y="3466800"/>
              <a:ext cx="91944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2763720" y="2103120"/>
              <a:ext cx="496800" cy="4591080"/>
              <a:chOff x="2763720" y="2103120"/>
              <a:chExt cx="496800" cy="4591080"/>
            </a:xfrm>
          </p:grpSpPr>
          <p:sp>
            <p:nvSpPr>
              <p:cNvPr id="914" name=""/>
              <p:cNvSpPr/>
              <p:nvPr/>
            </p:nvSpPr>
            <p:spPr>
              <a:xfrm>
                <a:off x="2786040" y="3778200"/>
                <a:ext cx="474480" cy="1289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6200000">
                <a:off x="698040" y="4168800"/>
                <a:ext cx="459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2763720" y="2104560"/>
            <a:ext cx="492120" cy="4591080"/>
            <a:chOff x="2763720" y="2104560"/>
            <a:chExt cx="492120" cy="4591080"/>
          </a:xfrm>
        </p:grpSpPr>
        <p:sp>
          <p:nvSpPr>
            <p:cNvPr id="917" name=""/>
            <p:cNvSpPr/>
            <p:nvPr/>
          </p:nvSpPr>
          <p:spPr>
            <a:xfrm>
              <a:off x="2782800" y="3778200"/>
              <a:ext cx="473040" cy="43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82800" y="4206600"/>
              <a:ext cx="473040" cy="43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82800" y="4635360"/>
              <a:ext cx="473040" cy="43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6200000">
              <a:off x="698040" y="417024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yer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415880" y="2075040"/>
            <a:ext cx="1397160" cy="4590720"/>
            <a:chOff x="1415880" y="2075040"/>
            <a:chExt cx="1397160" cy="4590720"/>
          </a:xfrm>
        </p:grpSpPr>
        <p:sp>
          <p:nvSpPr>
            <p:cNvPr id="922" name=""/>
            <p:cNvSpPr/>
            <p:nvPr/>
          </p:nvSpPr>
          <p:spPr>
            <a:xfrm flipV="1">
              <a:off x="1895400" y="3916080"/>
              <a:ext cx="8859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3960" y="440820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17720" y="4560840"/>
              <a:ext cx="8859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415880" y="2075040"/>
              <a:ext cx="495360" cy="4590720"/>
              <a:chOff x="1415880" y="2075040"/>
              <a:chExt cx="495360" cy="4590720"/>
            </a:xfrm>
          </p:grpSpPr>
          <p:sp>
            <p:nvSpPr>
              <p:cNvPr id="926" name=""/>
              <p:cNvSpPr/>
              <p:nvPr/>
            </p:nvSpPr>
            <p:spPr>
              <a:xfrm>
                <a:off x="1438200" y="4203720"/>
                <a:ext cx="473040" cy="429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6200000">
                <a:off x="-649440" y="4140360"/>
                <a:ext cx="45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1442880" y="4202280"/>
            <a:ext cx="47340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774880" y="4632480"/>
            <a:ext cx="47304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168800" y="5040360"/>
            <a:ext cx="47304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576760" y="5065560"/>
            <a:ext cx="47304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A910-9F64-42ED-8E66-16D988990D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8885160" y="1600200"/>
            <a:ext cx="176400" cy="1706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erformanc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236600" y="145404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layers is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(small) space pe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ranching factor per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hy, shallow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KB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 bit pointers + 2 bytes for keys/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000+ pointers per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3 layers for 1 billion pointers to data (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layers are tiny (10 megabytes), in 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layer 0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suall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index I/O per key look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7380360" y="2424240"/>
            <a:ext cx="14292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524720" y="2533680"/>
            <a:ext cx="2905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542360" y="2500200"/>
            <a:ext cx="288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524720" y="2390400"/>
            <a:ext cx="3081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7542360" y="2226960"/>
            <a:ext cx="29844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808760" y="2189160"/>
            <a:ext cx="154080" cy="573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962840" y="2541600"/>
            <a:ext cx="40788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983360" y="2508120"/>
            <a:ext cx="378000" cy="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962840" y="2398320"/>
            <a:ext cx="3747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983360" y="2224080"/>
            <a:ext cx="3574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986600" y="2136240"/>
            <a:ext cx="3621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966080" y="26114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966080" y="2687760"/>
            <a:ext cx="39060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7966080" y="2004480"/>
            <a:ext cx="378000" cy="26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346960" y="1967040"/>
            <a:ext cx="154080" cy="106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rot="16200000">
            <a:off x="8693640" y="23252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501040" y="2540160"/>
            <a:ext cx="40788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8521560" y="2506680"/>
            <a:ext cx="378000" cy="5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8501040" y="2396880"/>
            <a:ext cx="3747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8521560" y="2222280"/>
            <a:ext cx="357480" cy="20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8524800" y="2134800"/>
            <a:ext cx="3621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504280" y="261000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504280" y="2685960"/>
            <a:ext cx="390600" cy="2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8504280" y="2003400"/>
            <a:ext cx="37764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504280" y="1806480"/>
            <a:ext cx="34272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504280" y="2852640"/>
            <a:ext cx="35388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31F2-51E8-47FB-AF7E-56E2F9ED84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52040" y="99720"/>
            <a:ext cx="800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Find publications by co-author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203040" y="1754280"/>
          <a:ext cx="874080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754280"/>
                    <a:ext cx="874080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>
            <a:off x="1773360" y="5181480"/>
            <a:ext cx="693900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57720" y="3762360"/>
            <a:ext cx="1917720" cy="1978560"/>
            <a:chOff x="5157720" y="3762360"/>
            <a:chExt cx="1917720" cy="1978560"/>
          </a:xfrm>
        </p:grpSpPr>
        <p:sp>
          <p:nvSpPr>
            <p:cNvPr id="966" name=""/>
            <p:cNvSpPr/>
            <p:nvPr/>
          </p:nvSpPr>
          <p:spPr>
            <a:xfrm>
              <a:off x="5157720" y="5037120"/>
              <a:ext cx="19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DBMS STO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54640" y="376236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5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521160" y="4214880"/>
            <a:ext cx="1917720" cy="1830960"/>
            <a:chOff x="3521160" y="4214880"/>
            <a:chExt cx="1917720" cy="1830960"/>
          </a:xfrm>
        </p:grpSpPr>
        <p:sp>
          <p:nvSpPr>
            <p:cNvPr id="969" name=""/>
            <p:cNvSpPr/>
            <p:nvPr/>
          </p:nvSpPr>
          <p:spPr>
            <a:xfrm>
              <a:off x="3521160" y="503712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w Path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18080" y="421488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1884240" y="4552920"/>
            <a:ext cx="1917720" cy="1492920"/>
            <a:chOff x="1884240" y="4552920"/>
            <a:chExt cx="1917720" cy="1492920"/>
          </a:xfrm>
        </p:grpSpPr>
        <p:sp>
          <p:nvSpPr>
            <p:cNvPr id="972" name=""/>
            <p:cNvSpPr/>
            <p:nvPr/>
          </p:nvSpPr>
          <p:spPr>
            <a:xfrm>
              <a:off x="1884240" y="503712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fined Path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1160" y="455292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5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6730920" y="5037120"/>
            <a:ext cx="19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DBMS Edg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602520" y="134928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000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8264-56FB-45A6-9ADC-BC018BC05989}" type="slidenum">
              <a:t>18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3520" y="88560"/>
            <a:ext cx="80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Find publications by co-author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331920" y="1749600"/>
            <a:ext cx="8520120" cy="4752720"/>
            <a:chOff x="331920" y="1749600"/>
            <a:chExt cx="8520120" cy="4752720"/>
          </a:xfrm>
        </p:grpSpPr>
        <p:graphicFrame>
          <p:nvGraphicFramePr>
            <p:cNvPr id="978" name=""/>
            <p:cNvGraphicFramePr/>
            <p:nvPr/>
          </p:nvGraphicFramePr>
          <p:xfrm>
            <a:off x="331920" y="1749600"/>
            <a:ext cx="8520120" cy="475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20" y="1749600"/>
                      <a:ext cx="8520120" cy="47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>
              <a:off x="2039760" y="5047920"/>
              <a:ext cx="6564600" cy="66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68960" y="4903560"/>
              <a:ext cx="19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DBMS STO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87920" y="490356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w Path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51000" y="490356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fined Path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97520" y="4903560"/>
              <a:ext cx="19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DBMS Edge mapp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77040" y="342864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1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40200" y="399240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59160" y="445284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3602520" y="134928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000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25C1-B367-4285-9E2F-56F6F75447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6960" y="1130400"/>
            <a:ext cx="80233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relationships can be comple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views: XML, LDAP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structure &amp; dynamic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ach:Encode paths as tagged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” paths encod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ined” paths accelerate look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strings in a highly-compact stru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ve on top of, next to or inside DB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, Scalability + Adap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s mature DBMS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5712-3D2C-4A77-9874-9B93EDFA36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arbitrary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e as designated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ships and structures can b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 many data access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ed for DTD or pre-defined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data structure for long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key look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designato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078E-1153-445D-A3E3-F42FC86C7B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For more inform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236240" y="1453680"/>
            <a:ext cx="65898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@rightorder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rightorder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5543640" y="4481640"/>
          <a:ext cx="216360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4481640"/>
                    <a:ext cx="2163600" cy="121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1576440" y="4481640"/>
          <a:ext cx="2163600" cy="11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4481640"/>
                    <a:ext cx="2163600" cy="1191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0B19-E32E-45F2-B99E-05EB355EF4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aw paths w/Designator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2397240"/>
            <a:ext cx="3362400" cy="3051720"/>
            <a:chOff x="380880" y="2397240"/>
            <a:chExt cx="3362400" cy="3051720"/>
          </a:xfrm>
        </p:grpSpPr>
        <p:sp>
          <p:nvSpPr>
            <p:cNvPr id="99" name=""/>
            <p:cNvSpPr/>
            <p:nvPr/>
          </p:nvSpPr>
          <p:spPr>
            <a:xfrm>
              <a:off x="988920" y="2397240"/>
              <a:ext cx="2754360" cy="1388880"/>
            </a:xfrm>
            <a:custGeom>
              <a:avLst/>
              <a:gdLst/>
              <a:ahLst/>
              <a:rect l="l" t="t" r="r" b="b"/>
              <a:pathLst>
                <a:path w="1007" h="875">
                  <a:moveTo>
                    <a:pt x="1007" y="0"/>
                  </a:moveTo>
                  <a:cubicBezTo>
                    <a:pt x="681" y="135"/>
                    <a:pt x="356" y="271"/>
                    <a:pt x="188" y="417"/>
                  </a:cubicBezTo>
                  <a:cubicBezTo>
                    <a:pt x="20" y="563"/>
                    <a:pt x="10" y="719"/>
                    <a:pt x="0" y="875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80880" y="5054400"/>
              <a:ext cx="1981440" cy="394560"/>
              <a:chOff x="380880" y="5054400"/>
              <a:chExt cx="1981440" cy="394560"/>
            </a:xfrm>
          </p:grpSpPr>
          <p:sp>
            <p:nvSpPr>
              <p:cNvPr id="101" name=""/>
              <p:cNvSpPr/>
              <p:nvPr/>
            </p:nvSpPr>
            <p:spPr>
              <a:xfrm>
                <a:off x="380880" y="5054400"/>
                <a:ext cx="198144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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ABC Cor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47880" y="5074920"/>
                <a:ext cx="0" cy="374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380880" y="2529000"/>
            <a:ext cx="3648240" cy="3601080"/>
            <a:chOff x="380880" y="2529000"/>
            <a:chExt cx="3648240" cy="3601080"/>
          </a:xfrm>
        </p:grpSpPr>
        <p:sp>
          <p:nvSpPr>
            <p:cNvPr id="104" name=""/>
            <p:cNvSpPr/>
            <p:nvPr/>
          </p:nvSpPr>
          <p:spPr>
            <a:xfrm>
              <a:off x="2316240" y="2529000"/>
              <a:ext cx="1712880" cy="1277640"/>
            </a:xfrm>
            <a:custGeom>
              <a:avLst/>
              <a:gdLst/>
              <a:ahLst/>
              <a:rect l="l" t="t" r="r" b="b"/>
              <a:pathLst>
                <a:path w="621" h="805">
                  <a:moveTo>
                    <a:pt x="621" y="0"/>
                  </a:moveTo>
                  <a:cubicBezTo>
                    <a:pt x="390" y="113"/>
                    <a:pt x="160" y="227"/>
                    <a:pt x="80" y="361"/>
                  </a:cubicBezTo>
                  <a:cubicBezTo>
                    <a:pt x="0" y="495"/>
                    <a:pt x="133" y="732"/>
                    <a:pt x="143" y="80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80880" y="5740200"/>
              <a:ext cx="2438640" cy="389880"/>
              <a:chOff x="380880" y="5740200"/>
              <a:chExt cx="2438640" cy="389880"/>
            </a:xfrm>
          </p:grpSpPr>
          <p:sp>
            <p:nvSpPr>
              <p:cNvPr id="106" name=""/>
              <p:cNvSpPr/>
              <p:nvPr/>
            </p:nvSpPr>
            <p:spPr>
              <a:xfrm>
                <a:off x="380880" y="5740200"/>
                <a:ext cx="243864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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123 ABC W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46080" y="5755680"/>
                <a:ext cx="0" cy="37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971800" y="2484360"/>
            <a:ext cx="2209680" cy="3212640"/>
            <a:chOff x="2971800" y="2484360"/>
            <a:chExt cx="2209680" cy="3212640"/>
          </a:xfrm>
        </p:grpSpPr>
        <p:sp>
          <p:nvSpPr>
            <p:cNvPr id="109" name=""/>
            <p:cNvSpPr/>
            <p:nvPr/>
          </p:nvSpPr>
          <p:spPr>
            <a:xfrm flipH="1">
              <a:off x="4777560" y="2484360"/>
              <a:ext cx="374760" cy="1266840"/>
            </a:xfrm>
            <a:custGeom>
              <a:avLst/>
              <a:gdLst/>
              <a:ahLst/>
              <a:rect l="l" t="t" r="r" b="b"/>
              <a:pathLst>
                <a:path w="236" h="764">
                  <a:moveTo>
                    <a:pt x="236" y="0"/>
                  </a:moveTo>
                  <a:cubicBezTo>
                    <a:pt x="230" y="101"/>
                    <a:pt x="225" y="203"/>
                    <a:pt x="201" y="271"/>
                  </a:cubicBezTo>
                  <a:cubicBezTo>
                    <a:pt x="177" y="339"/>
                    <a:pt x="123" y="328"/>
                    <a:pt x="90" y="410"/>
                  </a:cubicBezTo>
                  <a:cubicBezTo>
                    <a:pt x="57" y="492"/>
                    <a:pt x="28" y="628"/>
                    <a:pt x="0" y="764"/>
                  </a:cubicBezTo>
                </a:path>
              </a:pathLst>
            </a:custGeom>
            <a:noFill/>
            <a:ln w="2844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971800" y="5054400"/>
              <a:ext cx="2209680" cy="642600"/>
              <a:chOff x="2971800" y="5054400"/>
              <a:chExt cx="2209680" cy="642600"/>
            </a:xfrm>
          </p:grpSpPr>
          <p:sp>
            <p:nvSpPr>
              <p:cNvPr id="111" name=""/>
              <p:cNvSpPr/>
              <p:nvPr/>
            </p:nvSpPr>
            <p:spPr>
              <a:xfrm>
                <a:off x="2971800" y="5054400"/>
                <a:ext cx="2209680" cy="64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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17 Main 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13240" y="5062320"/>
                <a:ext cx="0" cy="374760"/>
              </a:xfrm>
              <a:prstGeom prst="line">
                <a:avLst/>
              </a:prstGeom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971800" y="2330280"/>
            <a:ext cx="5943600" cy="3800520"/>
            <a:chOff x="2971800" y="2330280"/>
            <a:chExt cx="5943600" cy="3800520"/>
          </a:xfrm>
        </p:grpSpPr>
        <p:grpSp>
          <p:nvGrpSpPr>
            <p:cNvPr id="114" name=""/>
            <p:cNvGrpSpPr/>
            <p:nvPr/>
          </p:nvGrpSpPr>
          <p:grpSpPr>
            <a:xfrm>
              <a:off x="2971800" y="2475000"/>
              <a:ext cx="2209680" cy="3655800"/>
              <a:chOff x="2971800" y="2475000"/>
              <a:chExt cx="2209680" cy="3655800"/>
            </a:xfrm>
          </p:grpSpPr>
          <p:sp>
            <p:nvSpPr>
              <p:cNvPr id="115" name=""/>
              <p:cNvSpPr/>
              <p:nvPr/>
            </p:nvSpPr>
            <p:spPr>
              <a:xfrm>
                <a:off x="3930480" y="2475000"/>
                <a:ext cx="374760" cy="1288800"/>
              </a:xfrm>
              <a:custGeom>
                <a:avLst/>
                <a:gdLst/>
                <a:ahLst/>
                <a:rect l="l" t="t" r="r" b="b"/>
                <a:pathLst>
                  <a:path w="236" h="764">
                    <a:moveTo>
                      <a:pt x="236" y="0"/>
                    </a:moveTo>
                    <a:cubicBezTo>
                      <a:pt x="230" y="101"/>
                      <a:pt x="225" y="203"/>
                      <a:pt x="201" y="271"/>
                    </a:cubicBezTo>
                    <a:cubicBezTo>
                      <a:pt x="177" y="339"/>
                      <a:pt x="123" y="328"/>
                      <a:pt x="90" y="410"/>
                    </a:cubicBezTo>
                    <a:cubicBezTo>
                      <a:pt x="57" y="492"/>
                      <a:pt x="28" y="628"/>
                      <a:pt x="0" y="764"/>
                    </a:cubicBezTo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971800" y="5740200"/>
                <a:ext cx="2209680" cy="390600"/>
                <a:chOff x="2971800" y="5740200"/>
                <a:chExt cx="2209680" cy="390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971800" y="5740200"/>
                  <a:ext cx="220968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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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Goods Inc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513240" y="5756040"/>
                  <a:ext cx="0" cy="3747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4932360" y="2454120"/>
              <a:ext cx="2230560" cy="2994120"/>
              <a:chOff x="4932360" y="2454120"/>
              <a:chExt cx="2230560" cy="2994120"/>
            </a:xfrm>
          </p:grpSpPr>
          <p:sp>
            <p:nvSpPr>
              <p:cNvPr id="120" name=""/>
              <p:cNvSpPr/>
              <p:nvPr/>
            </p:nvSpPr>
            <p:spPr>
              <a:xfrm>
                <a:off x="4932360" y="2454120"/>
                <a:ext cx="1731960" cy="1341360"/>
              </a:xfrm>
              <a:custGeom>
                <a:avLst/>
                <a:gdLst/>
                <a:ahLst/>
                <a:rect l="l" t="t" r="r" b="b"/>
                <a:pathLst>
                  <a:path w="994" h="797">
                    <a:moveTo>
                      <a:pt x="0" y="0"/>
                    </a:moveTo>
                    <a:cubicBezTo>
                      <a:pt x="379" y="112"/>
                      <a:pt x="734" y="221"/>
                      <a:pt x="864" y="354"/>
                    </a:cubicBezTo>
                    <a:cubicBezTo>
                      <a:pt x="994" y="487"/>
                      <a:pt x="797" y="705"/>
                      <a:pt x="779" y="797"/>
                    </a:cubicBezTo>
                  </a:path>
                </a:pathLst>
              </a:custGeom>
              <a:noFill/>
              <a:ln w="28440">
                <a:solidFill>
                  <a:srgbClr val="99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5410080" y="5054400"/>
                <a:ext cx="1752840" cy="393840"/>
                <a:chOff x="5410080" y="5054400"/>
                <a:chExt cx="1752840" cy="3938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410080" y="5054400"/>
                  <a:ext cx="175284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99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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widge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59440" y="5073480"/>
                  <a:ext cx="0" cy="374760"/>
                </a:xfrm>
                <a:prstGeom prst="line">
                  <a:avLst/>
                </a:prstGeom>
                <a:ln w="38160">
                  <a:solidFill>
                    <a:srgbClr val="99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5029200" y="2397240"/>
              <a:ext cx="2343240" cy="3732840"/>
              <a:chOff x="5029200" y="2397240"/>
              <a:chExt cx="2343240" cy="3732840"/>
            </a:xfrm>
          </p:grpSpPr>
          <p:sp>
            <p:nvSpPr>
              <p:cNvPr id="125" name=""/>
              <p:cNvSpPr/>
              <p:nvPr/>
            </p:nvSpPr>
            <p:spPr>
              <a:xfrm>
                <a:off x="5029200" y="2397240"/>
                <a:ext cx="2343240" cy="1465200"/>
              </a:xfrm>
              <a:custGeom>
                <a:avLst/>
                <a:gdLst/>
                <a:ahLst/>
                <a:rect l="l" t="t" r="r" b="b"/>
                <a:pathLst>
                  <a:path w="1010" h="882">
                    <a:moveTo>
                      <a:pt x="0" y="0"/>
                    </a:moveTo>
                    <a:cubicBezTo>
                      <a:pt x="342" y="103"/>
                      <a:pt x="684" y="207"/>
                      <a:pt x="847" y="354"/>
                    </a:cubicBezTo>
                    <a:cubicBezTo>
                      <a:pt x="1010" y="501"/>
                      <a:pt x="994" y="691"/>
                      <a:pt x="979" y="882"/>
                    </a:cubicBezTo>
                  </a:path>
                </a:pathLst>
              </a:custGeom>
              <a:noFill/>
              <a:ln w="28440">
                <a:solidFill>
                  <a:srgbClr val="ff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5410080" y="5740200"/>
                <a:ext cx="1752840" cy="389880"/>
                <a:chOff x="5410080" y="5740200"/>
                <a:chExt cx="1752840" cy="389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410080" y="5740200"/>
                  <a:ext cx="175284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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thing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935680" y="5755680"/>
                  <a:ext cx="0" cy="374400"/>
                </a:xfrm>
                <a:prstGeom prst="line">
                  <a:avLst/>
                </a:prstGeom>
                <a:ln w="38160">
                  <a:solidFill>
                    <a:srgbClr val="ff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5054760" y="2330280"/>
              <a:ext cx="3860640" cy="3117960"/>
              <a:chOff x="5054760" y="2330280"/>
              <a:chExt cx="3860640" cy="3117960"/>
            </a:xfrm>
          </p:grpSpPr>
          <p:sp>
            <p:nvSpPr>
              <p:cNvPr id="130" name=""/>
              <p:cNvSpPr/>
              <p:nvPr/>
            </p:nvSpPr>
            <p:spPr>
              <a:xfrm>
                <a:off x="5054760" y="2330280"/>
                <a:ext cx="3394080" cy="1467000"/>
              </a:xfrm>
              <a:custGeom>
                <a:avLst/>
                <a:gdLst/>
                <a:ahLst/>
                <a:rect l="l" t="t" r="r" b="b"/>
                <a:pathLst>
                  <a:path w="1340" h="882">
                    <a:moveTo>
                      <a:pt x="0" y="0"/>
                    </a:moveTo>
                    <a:cubicBezTo>
                      <a:pt x="398" y="97"/>
                      <a:pt x="797" y="194"/>
                      <a:pt x="1020" y="341"/>
                    </a:cubicBezTo>
                    <a:cubicBezTo>
                      <a:pt x="1243" y="488"/>
                      <a:pt x="1291" y="685"/>
                      <a:pt x="1340" y="882"/>
                    </a:cubicBezTo>
                  </a:path>
                </a:pathLst>
              </a:custGeom>
              <a:noFill/>
              <a:ln w="2844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7315200" y="5054400"/>
                <a:ext cx="1600200" cy="393840"/>
                <a:chOff x="7315200" y="5054400"/>
                <a:chExt cx="1600200" cy="393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15200" y="505440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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job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842240" y="5073480"/>
                  <a:ext cx="0" cy="37476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463680" y="1382760"/>
            <a:ext cx="8399160" cy="3409200"/>
            <a:chOff x="463680" y="1382760"/>
            <a:chExt cx="8399160" cy="3409200"/>
          </a:xfrm>
        </p:grpSpPr>
        <p:sp>
          <p:nvSpPr>
            <p:cNvPr id="135" name=""/>
            <p:cNvSpPr/>
            <p:nvPr/>
          </p:nvSpPr>
          <p:spPr>
            <a:xfrm>
              <a:off x="3124080" y="138276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  <a:ea typeface="Times New Roman"/>
                </a:rPr>
                <a:t>Invoice as a 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8600" y="2198520"/>
              <a:ext cx="109044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vo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30440" y="3054240"/>
              <a:ext cx="70488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Bu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79960" y="3043080"/>
              <a:ext cx="73800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l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9160" y="3043080"/>
              <a:ext cx="957240" cy="320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9240" y="3787560"/>
              <a:ext cx="662040" cy="3412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25720" y="3822480"/>
              <a:ext cx="990360" cy="3304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8200" y="3843360"/>
              <a:ext cx="60660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3680" y="4271760"/>
              <a:ext cx="12412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ABC Cor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00080" y="4271760"/>
              <a:ext cx="138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123 ABC 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84720" y="4273560"/>
              <a:ext cx="1247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Goods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5440" y="4271760"/>
              <a:ext cx="10224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17 Main S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9200" y="4271760"/>
              <a:ext cx="8794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wi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19920" y="4271760"/>
              <a:ext cx="8809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thin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15400" y="4271760"/>
              <a:ext cx="8474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job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95560" y="41371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41641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9400" y="4174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95880" y="4174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31040" y="417024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5880" y="4174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10680" y="4164120"/>
              <a:ext cx="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206000" y="3365280"/>
              <a:ext cx="61452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52800" y="3365280"/>
              <a:ext cx="3632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995280" y="3363840"/>
              <a:ext cx="46044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7400" y="3375000"/>
              <a:ext cx="50616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436800" y="3321000"/>
              <a:ext cx="584280" cy="5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04280" y="3332160"/>
              <a:ext cx="80316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392960" y="3375000"/>
              <a:ext cx="1440" cy="4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000160" y="2449440"/>
              <a:ext cx="211608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51520" y="2438280"/>
              <a:ext cx="22334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552920" y="2523960"/>
              <a:ext cx="144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0200" y="3819600"/>
              <a:ext cx="662040" cy="3412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05200" y="3852720"/>
              <a:ext cx="99072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43840" y="3840120"/>
              <a:ext cx="60624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26280" y="3819600"/>
              <a:ext cx="60660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600" y="2184480"/>
            <a:ext cx="7662600" cy="1996920"/>
            <a:chOff x="498600" y="2184480"/>
            <a:chExt cx="7662600" cy="1996920"/>
          </a:xfrm>
        </p:grpSpPr>
        <p:sp>
          <p:nvSpPr>
            <p:cNvPr id="172" name=""/>
            <p:cNvSpPr/>
            <p:nvPr/>
          </p:nvSpPr>
          <p:spPr>
            <a:xfrm>
              <a:off x="3760920" y="218448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79440" y="304164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600" y="376848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1440" y="375912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36880" y="299880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7240" y="380196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98840" y="381312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46960" y="301932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75480" y="3790800"/>
              <a:ext cx="371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99320" y="380196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90040" y="3789360"/>
              <a:ext cx="371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ADCE-D2A4-4217-9BEB-E75EAD2DC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fined path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36600" y="1454040"/>
            <a:ext cx="7772400" cy="3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 specific access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043640" y="1989000"/>
            <a:ext cx="559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invoices where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ld to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20600" y="3594240"/>
            <a:ext cx="66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invoices where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ught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Y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01520" y="5235480"/>
            <a:ext cx="81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invoices where a buyer bought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566720" y="2835360"/>
            <a:ext cx="1604880" cy="379440"/>
            <a:chOff x="1566720" y="2835360"/>
            <a:chExt cx="1604880" cy="379440"/>
          </a:xfrm>
        </p:grpSpPr>
        <p:sp>
          <p:nvSpPr>
            <p:cNvPr id="189" name=""/>
            <p:cNvSpPr/>
            <p:nvPr/>
          </p:nvSpPr>
          <p:spPr>
            <a:xfrm>
              <a:off x="1566720" y="2835360"/>
              <a:ext cx="16048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05040" y="28400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19200" y="283860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57520" y="2549520"/>
            <a:ext cx="4740480" cy="950400"/>
            <a:chOff x="3557520" y="2549520"/>
            <a:chExt cx="4740480" cy="950400"/>
          </a:xfrm>
        </p:grpSpPr>
        <p:grpSp>
          <p:nvGrpSpPr>
            <p:cNvPr id="193" name=""/>
            <p:cNvGrpSpPr/>
            <p:nvPr/>
          </p:nvGrpSpPr>
          <p:grpSpPr>
            <a:xfrm>
              <a:off x="5097600" y="2549520"/>
              <a:ext cx="3200400" cy="379440"/>
              <a:chOff x="5097600" y="2549520"/>
              <a:chExt cx="3200400" cy="379440"/>
            </a:xfrm>
          </p:grpSpPr>
          <p:sp>
            <p:nvSpPr>
              <p:cNvPr id="194" name=""/>
              <p:cNvSpPr/>
              <p:nvPr/>
            </p:nvSpPr>
            <p:spPr>
              <a:xfrm>
                <a:off x="5097600" y="2549520"/>
                <a:ext cx="3200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ABC Corp. Goods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35560" y="255420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99240" y="255276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097600" y="3121200"/>
              <a:ext cx="3200400" cy="378720"/>
              <a:chOff x="5097600" y="3121200"/>
              <a:chExt cx="3200400" cy="378720"/>
            </a:xfrm>
          </p:grpSpPr>
          <p:sp>
            <p:nvSpPr>
              <p:cNvPr id="198" name=""/>
              <p:cNvSpPr/>
              <p:nvPr/>
            </p:nvSpPr>
            <p:spPr>
              <a:xfrm>
                <a:off x="5097600" y="3121200"/>
                <a:ext cx="3200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XYZ Corp. Acme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35560" y="3125880"/>
                <a:ext cx="0" cy="37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99240" y="312408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557520" y="3025800"/>
              <a:ext cx="11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97200" y="4154400"/>
            <a:ext cx="4924080" cy="951120"/>
            <a:chOff x="3697200" y="4154400"/>
            <a:chExt cx="4924080" cy="951120"/>
          </a:xfrm>
        </p:grpSpPr>
        <p:grpSp>
          <p:nvGrpSpPr>
            <p:cNvPr id="203" name=""/>
            <p:cNvGrpSpPr/>
            <p:nvPr/>
          </p:nvGrpSpPr>
          <p:grpSpPr>
            <a:xfrm>
              <a:off x="4755960" y="4154400"/>
              <a:ext cx="3865320" cy="381240"/>
              <a:chOff x="4755960" y="4154400"/>
              <a:chExt cx="3865320" cy="381240"/>
            </a:xfrm>
          </p:grpSpPr>
          <p:sp>
            <p:nvSpPr>
              <p:cNvPr id="204" name=""/>
              <p:cNvSpPr/>
              <p:nvPr/>
            </p:nvSpPr>
            <p:spPr>
              <a:xfrm>
                <a:off x="4755960" y="4154400"/>
                <a:ext cx="386532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ABC Corp. jobber  widg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57640" y="41590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57600" y="415764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24640" y="41608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755960" y="4726080"/>
              <a:ext cx="3865320" cy="379440"/>
              <a:chOff x="4755960" y="4726080"/>
              <a:chExt cx="3865320" cy="379440"/>
            </a:xfrm>
          </p:grpSpPr>
          <p:sp>
            <p:nvSpPr>
              <p:cNvPr id="209" name=""/>
              <p:cNvSpPr/>
              <p:nvPr/>
            </p:nvSpPr>
            <p:spPr>
              <a:xfrm>
                <a:off x="4755960" y="4726080"/>
                <a:ext cx="386532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XYZ Corp. drill   ham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57640" y="473076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57600" y="472932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91160" y="473076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697200" y="467208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452600" y="4448160"/>
            <a:ext cx="2054160" cy="376200"/>
            <a:chOff x="1452600" y="4448160"/>
            <a:chExt cx="2054160" cy="376200"/>
          </a:xfrm>
        </p:grpSpPr>
        <p:sp>
          <p:nvSpPr>
            <p:cNvPr id="215" name=""/>
            <p:cNvSpPr/>
            <p:nvPr/>
          </p:nvSpPr>
          <p:spPr>
            <a:xfrm>
              <a:off x="1452600" y="4451400"/>
              <a:ext cx="2054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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Y      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38440" y="44496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5000" y="44481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39960" y="44481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538280" y="5981760"/>
            <a:ext cx="2054160" cy="376200"/>
            <a:chOff x="1538280" y="5981760"/>
            <a:chExt cx="2054160" cy="376200"/>
          </a:xfrm>
        </p:grpSpPr>
        <p:sp>
          <p:nvSpPr>
            <p:cNvPr id="220" name=""/>
            <p:cNvSpPr/>
            <p:nvPr/>
          </p:nvSpPr>
          <p:spPr>
            <a:xfrm>
              <a:off x="1538280" y="5985000"/>
              <a:ext cx="2054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Y      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4120" y="59832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90680" y="59817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25640" y="59817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757680" y="5784840"/>
            <a:ext cx="4013280" cy="957240"/>
            <a:chOff x="3757680" y="5784840"/>
            <a:chExt cx="4013280" cy="957240"/>
          </a:xfrm>
        </p:grpSpPr>
        <p:grpSp>
          <p:nvGrpSpPr>
            <p:cNvPr id="225" name=""/>
            <p:cNvGrpSpPr/>
            <p:nvPr/>
          </p:nvGrpSpPr>
          <p:grpSpPr>
            <a:xfrm>
              <a:off x="4570560" y="5784840"/>
              <a:ext cx="3200400" cy="649080"/>
              <a:chOff x="4570560" y="5784840"/>
              <a:chExt cx="3200400" cy="649080"/>
            </a:xfrm>
          </p:grpSpPr>
          <p:sp>
            <p:nvSpPr>
              <p:cNvPr id="226" name=""/>
              <p:cNvSpPr/>
              <p:nvPr/>
            </p:nvSpPr>
            <p:spPr>
              <a:xfrm>
                <a:off x="4570560" y="5791320"/>
                <a:ext cx="320040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jobber thingy widget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53160" y="578484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27680" y="579456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80240" y="579132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570560" y="6362640"/>
              <a:ext cx="3200400" cy="379440"/>
              <a:chOff x="4570560" y="6362640"/>
              <a:chExt cx="3200400" cy="379440"/>
            </a:xfrm>
          </p:grpSpPr>
          <p:sp>
            <p:nvSpPr>
              <p:cNvPr id="231" name=""/>
              <p:cNvSpPr/>
              <p:nvPr/>
            </p:nvSpPr>
            <p:spPr>
              <a:xfrm>
                <a:off x="4570560" y="6362640"/>
                <a:ext cx="3200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drill hammer na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53160" y="636768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699160" y="63658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677280" y="636444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757680" y="618480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6DFC-D396-470C-8459-A12228889F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dex Fabric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ndex structure for long st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fast look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s long st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substrate for designated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Patricia 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compressed string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in index independent of string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, need to bal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23C0-9FF2-46B2-84FE-3F73BE2AF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92480" y="166860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es first point of difference between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70040" y="2616120"/>
            <a:ext cx="200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6400" y="3375000"/>
            <a:ext cx="164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579760" y="2690640"/>
            <a:ext cx="2112840" cy="1738440"/>
            <a:chOff x="2579760" y="2690640"/>
            <a:chExt cx="2112840" cy="1738440"/>
          </a:xfrm>
        </p:grpSpPr>
        <p:sp>
          <p:nvSpPr>
            <p:cNvPr id="243" name=""/>
            <p:cNvSpPr/>
            <p:nvPr/>
          </p:nvSpPr>
          <p:spPr>
            <a:xfrm>
              <a:off x="2579760" y="3430440"/>
              <a:ext cx="296640" cy="319320"/>
            </a:xfrm>
            <a:prstGeom prst="ellipse">
              <a:avLst/>
            </a:pr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44640" y="3000240"/>
              <a:ext cx="0" cy="4194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4360" y="3205080"/>
              <a:ext cx="1938240" cy="1224000"/>
            </a:xfrm>
            <a:custGeom>
              <a:avLst/>
              <a:gdLst/>
              <a:ahLst/>
              <a:rect l="l" t="t" r="r" b="b"/>
              <a:pathLst>
                <a:path w="1221" h="771">
                  <a:moveTo>
                    <a:pt x="0" y="0"/>
                  </a:moveTo>
                  <a:cubicBezTo>
                    <a:pt x="142" y="39"/>
                    <a:pt x="651" y="108"/>
                    <a:pt x="854" y="236"/>
                  </a:cubicBezTo>
                  <a:cubicBezTo>
                    <a:pt x="1057" y="364"/>
                    <a:pt x="1145" y="660"/>
                    <a:pt x="1221" y="771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00280" y="2690640"/>
              <a:ext cx="297000" cy="319320"/>
            </a:xfrm>
            <a:prstGeom prst="ellipse">
              <a:avLst/>
            </a:pr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248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265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268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277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282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288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292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17360" y="4564080"/>
            <a:ext cx="415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 R. Morrison. “PATRICIA – Practical algorithm to retrieve information coded in alphanumeric.” J. ACM, 15 (1968) pp. 514-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2ED6-8BB6-4074-B057-AFC346BF5A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Multiple Hierarchical View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2200" y="1453680"/>
            <a:ext cx="86868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ore multiple permulations of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nimals and the plants they 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plants and the animals that ea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 as a new set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data once using “permutation record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935440" y="3606840"/>
            <a:ext cx="2271600" cy="461160"/>
            <a:chOff x="2935440" y="3606840"/>
            <a:chExt cx="2271600" cy="461160"/>
          </a:xfrm>
        </p:grpSpPr>
        <p:grpSp>
          <p:nvGrpSpPr>
            <p:cNvPr id="301" name=""/>
            <p:cNvGrpSpPr/>
            <p:nvPr/>
          </p:nvGrpSpPr>
          <p:grpSpPr>
            <a:xfrm>
              <a:off x="4050720" y="3608280"/>
              <a:ext cx="1156320" cy="459720"/>
              <a:chOff x="4050720" y="3608280"/>
              <a:chExt cx="1156320" cy="459720"/>
            </a:xfrm>
          </p:grpSpPr>
          <p:sp>
            <p:nvSpPr>
              <p:cNvPr id="302" name=""/>
              <p:cNvSpPr/>
              <p:nvPr/>
            </p:nvSpPr>
            <p:spPr>
              <a:xfrm>
                <a:off x="4050720" y="3608280"/>
                <a:ext cx="34848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80120" y="3608280"/>
                <a:ext cx="82692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935440" y="3606840"/>
              <a:ext cx="1119960" cy="459720"/>
              <a:chOff x="2935440" y="3606840"/>
              <a:chExt cx="1119960" cy="459720"/>
            </a:xfrm>
          </p:grpSpPr>
          <p:sp>
            <p:nvSpPr>
              <p:cNvPr id="305" name=""/>
              <p:cNvSpPr/>
              <p:nvPr/>
            </p:nvSpPr>
            <p:spPr>
              <a:xfrm>
                <a:off x="2935440" y="3606840"/>
                <a:ext cx="372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04800" y="3606840"/>
                <a:ext cx="750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2934720" y="4381560"/>
            <a:ext cx="2258640" cy="461520"/>
            <a:chOff x="2934720" y="4381560"/>
            <a:chExt cx="2258640" cy="461520"/>
          </a:xfrm>
        </p:grpSpPr>
        <p:grpSp>
          <p:nvGrpSpPr>
            <p:cNvPr id="308" name=""/>
            <p:cNvGrpSpPr/>
            <p:nvPr/>
          </p:nvGrpSpPr>
          <p:grpSpPr>
            <a:xfrm>
              <a:off x="2934720" y="4381560"/>
              <a:ext cx="1155960" cy="459720"/>
              <a:chOff x="2934720" y="4381560"/>
              <a:chExt cx="1155960" cy="459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934720" y="4381560"/>
                <a:ext cx="34848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263760" y="4381560"/>
                <a:ext cx="82692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073400" y="4383360"/>
              <a:ext cx="1119960" cy="459720"/>
              <a:chOff x="4073400" y="4383360"/>
              <a:chExt cx="1119960" cy="459720"/>
            </a:xfrm>
          </p:grpSpPr>
          <p:sp>
            <p:nvSpPr>
              <p:cNvPr id="312" name=""/>
              <p:cNvSpPr/>
              <p:nvPr/>
            </p:nvSpPr>
            <p:spPr>
              <a:xfrm>
                <a:off x="4073400" y="4383360"/>
                <a:ext cx="372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42760" y="4383360"/>
                <a:ext cx="750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0C72-0A61-4D96-B268-F0AFEC17D9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768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3837240" y="1341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16320" y="1187280"/>
            <a:ext cx="381240" cy="459720"/>
            <a:chOff x="4216320" y="1187280"/>
            <a:chExt cx="381240" cy="459720"/>
          </a:xfrm>
        </p:grpSpPr>
        <p:sp>
          <p:nvSpPr>
            <p:cNvPr id="317" name=""/>
            <p:cNvSpPr/>
            <p:nvPr/>
          </p:nvSpPr>
          <p:spPr>
            <a:xfrm>
              <a:off x="4216320" y="124596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33600" y="118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3530160" y="156852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225960" y="2178000"/>
            <a:ext cx="380880" cy="459720"/>
            <a:chOff x="3225960" y="2178000"/>
            <a:chExt cx="380880" cy="459720"/>
          </a:xfrm>
        </p:grpSpPr>
        <p:sp>
          <p:nvSpPr>
            <p:cNvPr id="321" name=""/>
            <p:cNvSpPr/>
            <p:nvPr/>
          </p:nvSpPr>
          <p:spPr>
            <a:xfrm>
              <a:off x="3225960" y="222876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34960" y="2178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06680" y="2568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33320" y="254160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76400" y="2357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5680" y="3645000"/>
            <a:ext cx="983160" cy="459720"/>
            <a:chOff x="1525680" y="3645000"/>
            <a:chExt cx="983160" cy="459720"/>
          </a:xfrm>
        </p:grpSpPr>
        <p:sp>
          <p:nvSpPr>
            <p:cNvPr id="327" name=""/>
            <p:cNvSpPr/>
            <p:nvPr/>
          </p:nvSpPr>
          <p:spPr>
            <a:xfrm>
              <a:off x="1525680" y="364500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1520" y="3645000"/>
              <a:ext cx="6073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38480" y="3184560"/>
            <a:ext cx="380880" cy="457200"/>
            <a:chOff x="2238480" y="3184560"/>
            <a:chExt cx="380880" cy="457200"/>
          </a:xfrm>
        </p:grpSpPr>
        <p:sp>
          <p:nvSpPr>
            <p:cNvPr id="330" name=""/>
            <p:cNvSpPr/>
            <p:nvPr/>
          </p:nvSpPr>
          <p:spPr>
            <a:xfrm>
              <a:off x="2238480" y="32353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9280" y="31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08320" y="3243240"/>
            <a:ext cx="380880" cy="459720"/>
            <a:chOff x="3208320" y="3243240"/>
            <a:chExt cx="380880" cy="459720"/>
          </a:xfrm>
        </p:grpSpPr>
        <p:sp>
          <p:nvSpPr>
            <p:cNvPr id="333" name=""/>
            <p:cNvSpPr/>
            <p:nvPr/>
          </p:nvSpPr>
          <p:spPr>
            <a:xfrm>
              <a:off x="3208320" y="32940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17320" y="3243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 flipH="1">
            <a:off x="2490840" y="361152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8800" y="3432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184480" y="4260960"/>
            <a:ext cx="380880" cy="459720"/>
            <a:chOff x="2184480" y="4260960"/>
            <a:chExt cx="380880" cy="459720"/>
          </a:xfrm>
        </p:grpSpPr>
        <p:sp>
          <p:nvSpPr>
            <p:cNvPr id="338" name=""/>
            <p:cNvSpPr/>
            <p:nvPr/>
          </p:nvSpPr>
          <p:spPr>
            <a:xfrm>
              <a:off x="2184480" y="43117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93480" y="4260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370240" y="4681440"/>
            <a:ext cx="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216160" y="5780160"/>
            <a:ext cx="380880" cy="457200"/>
            <a:chOff x="2216160" y="5780160"/>
            <a:chExt cx="380880" cy="457200"/>
          </a:xfrm>
        </p:grpSpPr>
        <p:sp>
          <p:nvSpPr>
            <p:cNvPr id="342" name=""/>
            <p:cNvSpPr/>
            <p:nvPr/>
          </p:nvSpPr>
          <p:spPr>
            <a:xfrm>
              <a:off x="2216160" y="58309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26960" y="5780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088360" y="462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68520" y="3675240"/>
            <a:ext cx="504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738520" y="4807080"/>
            <a:ext cx="1119960" cy="459720"/>
            <a:chOff x="2738520" y="4807080"/>
            <a:chExt cx="1119960" cy="459720"/>
          </a:xfrm>
        </p:grpSpPr>
        <p:sp>
          <p:nvSpPr>
            <p:cNvPr id="347" name=""/>
            <p:cNvSpPr/>
            <p:nvPr/>
          </p:nvSpPr>
          <p:spPr>
            <a:xfrm>
              <a:off x="2738520" y="480708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7880" y="4807080"/>
              <a:ext cx="750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753560" y="6186600"/>
            <a:ext cx="1156320" cy="459720"/>
            <a:chOff x="1753560" y="6186600"/>
            <a:chExt cx="1156320" cy="459720"/>
          </a:xfrm>
        </p:grpSpPr>
        <p:sp>
          <p:nvSpPr>
            <p:cNvPr id="350" name=""/>
            <p:cNvSpPr/>
            <p:nvPr/>
          </p:nvSpPr>
          <p:spPr>
            <a:xfrm>
              <a:off x="1753560" y="618660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82960" y="6186600"/>
              <a:ext cx="8269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186000" y="4267080"/>
            <a:ext cx="381240" cy="457200"/>
            <a:chOff x="3186000" y="4267080"/>
            <a:chExt cx="381240" cy="457200"/>
          </a:xfrm>
        </p:grpSpPr>
        <p:sp>
          <p:nvSpPr>
            <p:cNvPr id="353" name=""/>
            <p:cNvSpPr/>
            <p:nvPr/>
          </p:nvSpPr>
          <p:spPr>
            <a:xfrm>
              <a:off x="3186000" y="43178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97160" y="426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64080" y="154152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234040" y="2195640"/>
            <a:ext cx="380880" cy="459720"/>
            <a:chOff x="5234040" y="2195640"/>
            <a:chExt cx="380880" cy="459720"/>
          </a:xfrm>
        </p:grpSpPr>
        <p:sp>
          <p:nvSpPr>
            <p:cNvPr id="357" name=""/>
            <p:cNvSpPr/>
            <p:nvPr/>
          </p:nvSpPr>
          <p:spPr>
            <a:xfrm>
              <a:off x="5234040" y="22464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43040" y="2195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768200" y="13809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16560" y="262584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7920" y="254484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01320" y="237960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232240" y="3262320"/>
            <a:ext cx="381240" cy="459720"/>
            <a:chOff x="5232240" y="3262320"/>
            <a:chExt cx="381240" cy="459720"/>
          </a:xfrm>
        </p:grpSpPr>
        <p:sp>
          <p:nvSpPr>
            <p:cNvPr id="364" name=""/>
            <p:cNvSpPr/>
            <p:nvPr/>
          </p:nvSpPr>
          <p:spPr>
            <a:xfrm>
              <a:off x="5232240" y="33130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41600" y="326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064840" y="2664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235560" y="3238560"/>
            <a:ext cx="381240" cy="457200"/>
            <a:chOff x="6235560" y="3238560"/>
            <a:chExt cx="381240" cy="457200"/>
          </a:xfrm>
        </p:grpSpPr>
        <p:sp>
          <p:nvSpPr>
            <p:cNvPr id="368" name=""/>
            <p:cNvSpPr/>
            <p:nvPr/>
          </p:nvSpPr>
          <p:spPr>
            <a:xfrm>
              <a:off x="6235560" y="328932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6720" y="3238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368400" y="3718080"/>
            <a:ext cx="1390320" cy="459720"/>
            <a:chOff x="6368400" y="3718080"/>
            <a:chExt cx="1390320" cy="459720"/>
          </a:xfrm>
        </p:grpSpPr>
        <p:sp>
          <p:nvSpPr>
            <p:cNvPr id="371" name=""/>
            <p:cNvSpPr/>
            <p:nvPr/>
          </p:nvSpPr>
          <p:spPr>
            <a:xfrm>
              <a:off x="6368400" y="371808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7080" y="3718080"/>
              <a:ext cx="106164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he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7720" y="370692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500000" y="4816440"/>
            <a:ext cx="1156320" cy="459720"/>
            <a:chOff x="4500000" y="4816440"/>
            <a:chExt cx="1156320" cy="459720"/>
          </a:xfrm>
        </p:grpSpPr>
        <p:sp>
          <p:nvSpPr>
            <p:cNvPr id="375" name=""/>
            <p:cNvSpPr/>
            <p:nvPr/>
          </p:nvSpPr>
          <p:spPr>
            <a:xfrm>
              <a:off x="4500000" y="481644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9400" y="4816440"/>
              <a:ext cx="8269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245200" y="4299120"/>
            <a:ext cx="380880" cy="457200"/>
            <a:chOff x="5245200" y="4299120"/>
            <a:chExt cx="380880" cy="457200"/>
          </a:xfrm>
        </p:grpSpPr>
        <p:sp>
          <p:nvSpPr>
            <p:cNvPr id="378" name=""/>
            <p:cNvSpPr/>
            <p:nvPr/>
          </p:nvSpPr>
          <p:spPr>
            <a:xfrm>
              <a:off x="5245200" y="43498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6000" y="4299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409920" y="2624040"/>
            <a:ext cx="468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363384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67600" y="4297320"/>
            <a:ext cx="380880" cy="459720"/>
            <a:chOff x="6267600" y="4297320"/>
            <a:chExt cx="380880" cy="459720"/>
          </a:xfrm>
        </p:grpSpPr>
        <p:sp>
          <p:nvSpPr>
            <p:cNvPr id="383" name=""/>
            <p:cNvSpPr/>
            <p:nvPr/>
          </p:nvSpPr>
          <p:spPr>
            <a:xfrm>
              <a:off x="6267600" y="43480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6600" y="4297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726160" y="3471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67400" y="4745160"/>
            <a:ext cx="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300720" y="5665680"/>
            <a:ext cx="381240" cy="457200"/>
            <a:chOff x="6300720" y="5665680"/>
            <a:chExt cx="381240" cy="457200"/>
          </a:xfrm>
        </p:grpSpPr>
        <p:sp>
          <p:nvSpPr>
            <p:cNvPr id="388" name=""/>
            <p:cNvSpPr/>
            <p:nvPr/>
          </p:nvSpPr>
          <p:spPr>
            <a:xfrm>
              <a:off x="6300720" y="57164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11880" y="5665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185880" y="462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942160" y="6156360"/>
            <a:ext cx="1119960" cy="459720"/>
            <a:chOff x="5942160" y="6156360"/>
            <a:chExt cx="1119960" cy="459720"/>
          </a:xfrm>
        </p:grpSpPr>
        <p:sp>
          <p:nvSpPr>
            <p:cNvPr id="392" name=""/>
            <p:cNvSpPr/>
            <p:nvPr/>
          </p:nvSpPr>
          <p:spPr>
            <a:xfrm>
              <a:off x="5942160" y="615636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11520" y="6156360"/>
              <a:ext cx="750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EC77-318E-4810-8C1D-741AFD4260E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3837240" y="135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216320" y="1198440"/>
            <a:ext cx="381240" cy="459720"/>
            <a:chOff x="4216320" y="1198440"/>
            <a:chExt cx="381240" cy="459720"/>
          </a:xfrm>
        </p:grpSpPr>
        <p:sp>
          <p:nvSpPr>
            <p:cNvPr id="397" name=""/>
            <p:cNvSpPr/>
            <p:nvPr/>
          </p:nvSpPr>
          <p:spPr>
            <a:xfrm>
              <a:off x="4216320" y="125712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33600" y="1198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3530160" y="157968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225960" y="2189160"/>
            <a:ext cx="380880" cy="459720"/>
            <a:chOff x="3225960" y="2189160"/>
            <a:chExt cx="380880" cy="459720"/>
          </a:xfrm>
        </p:grpSpPr>
        <p:sp>
          <p:nvSpPr>
            <p:cNvPr id="401" name=""/>
            <p:cNvSpPr/>
            <p:nvPr/>
          </p:nvSpPr>
          <p:spPr>
            <a:xfrm>
              <a:off x="3225960" y="22399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34960" y="2189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406680" y="25797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533320" y="255276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76400" y="2368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525680" y="3656160"/>
            <a:ext cx="983160" cy="459720"/>
            <a:chOff x="1525680" y="3656160"/>
            <a:chExt cx="983160" cy="459720"/>
          </a:xfrm>
        </p:grpSpPr>
        <p:sp>
          <p:nvSpPr>
            <p:cNvPr id="407" name=""/>
            <p:cNvSpPr/>
            <p:nvPr/>
          </p:nvSpPr>
          <p:spPr>
            <a:xfrm>
              <a:off x="1525680" y="365616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01520" y="3656160"/>
              <a:ext cx="6073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238480" y="3195720"/>
            <a:ext cx="380880" cy="457200"/>
            <a:chOff x="2238480" y="3195720"/>
            <a:chExt cx="380880" cy="457200"/>
          </a:xfrm>
        </p:grpSpPr>
        <p:sp>
          <p:nvSpPr>
            <p:cNvPr id="410" name=""/>
            <p:cNvSpPr/>
            <p:nvPr/>
          </p:nvSpPr>
          <p:spPr>
            <a:xfrm>
              <a:off x="2238480" y="3246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49280" y="319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208320" y="3254400"/>
            <a:ext cx="380880" cy="459720"/>
            <a:chOff x="3208320" y="3254400"/>
            <a:chExt cx="380880" cy="459720"/>
          </a:xfrm>
        </p:grpSpPr>
        <p:sp>
          <p:nvSpPr>
            <p:cNvPr id="413" name=""/>
            <p:cNvSpPr/>
            <p:nvPr/>
          </p:nvSpPr>
          <p:spPr>
            <a:xfrm>
              <a:off x="3208320" y="330516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17320" y="3254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 flipH="1">
            <a:off x="2490840" y="362268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18800" y="3443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84480" y="4272120"/>
            <a:ext cx="380880" cy="459720"/>
            <a:chOff x="2184480" y="4272120"/>
            <a:chExt cx="380880" cy="459720"/>
          </a:xfrm>
        </p:grpSpPr>
        <p:sp>
          <p:nvSpPr>
            <p:cNvPr id="418" name=""/>
            <p:cNvSpPr/>
            <p:nvPr/>
          </p:nvSpPr>
          <p:spPr>
            <a:xfrm>
              <a:off x="2184480" y="43228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3480" y="4272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368520" y="3686040"/>
            <a:ext cx="504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01600" y="6195960"/>
            <a:ext cx="1156320" cy="459720"/>
            <a:chOff x="5601600" y="6195960"/>
            <a:chExt cx="1156320" cy="459720"/>
          </a:xfrm>
        </p:grpSpPr>
        <p:sp>
          <p:nvSpPr>
            <p:cNvPr id="422" name=""/>
            <p:cNvSpPr/>
            <p:nvPr/>
          </p:nvSpPr>
          <p:spPr>
            <a:xfrm>
              <a:off x="5601600" y="619596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31000" y="6195960"/>
              <a:ext cx="8269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186000" y="4278240"/>
            <a:ext cx="381240" cy="457200"/>
            <a:chOff x="3186000" y="4278240"/>
            <a:chExt cx="381240" cy="457200"/>
          </a:xfrm>
        </p:grpSpPr>
        <p:sp>
          <p:nvSpPr>
            <p:cNvPr id="425" name=""/>
            <p:cNvSpPr/>
            <p:nvPr/>
          </p:nvSpPr>
          <p:spPr>
            <a:xfrm>
              <a:off x="3186000" y="432900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7160" y="4278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564080" y="155268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234040" y="2206800"/>
            <a:ext cx="380880" cy="459720"/>
            <a:chOff x="5234040" y="2206800"/>
            <a:chExt cx="380880" cy="459720"/>
          </a:xfrm>
        </p:grpSpPr>
        <p:sp>
          <p:nvSpPr>
            <p:cNvPr id="429" name=""/>
            <p:cNvSpPr/>
            <p:nvPr/>
          </p:nvSpPr>
          <p:spPr>
            <a:xfrm>
              <a:off x="5234040" y="225756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43040" y="2206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4768200" y="1392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6560" y="263700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7920" y="255600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01320" y="239076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232240" y="3273480"/>
            <a:ext cx="381240" cy="459720"/>
            <a:chOff x="5232240" y="3273480"/>
            <a:chExt cx="381240" cy="459720"/>
          </a:xfrm>
        </p:grpSpPr>
        <p:sp>
          <p:nvSpPr>
            <p:cNvPr id="436" name=""/>
            <p:cNvSpPr/>
            <p:nvPr/>
          </p:nvSpPr>
          <p:spPr>
            <a:xfrm>
              <a:off x="5232240" y="33242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41600" y="3273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064840" y="26748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235560" y="3249720"/>
            <a:ext cx="381240" cy="457200"/>
            <a:chOff x="6235560" y="3249720"/>
            <a:chExt cx="381240" cy="457200"/>
          </a:xfrm>
        </p:grpSpPr>
        <p:sp>
          <p:nvSpPr>
            <p:cNvPr id="440" name=""/>
            <p:cNvSpPr/>
            <p:nvPr/>
          </p:nvSpPr>
          <p:spPr>
            <a:xfrm>
              <a:off x="6235560" y="33004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6720" y="3249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368400" y="3728880"/>
            <a:ext cx="1390320" cy="459720"/>
            <a:chOff x="6368400" y="3728880"/>
            <a:chExt cx="1390320" cy="459720"/>
          </a:xfrm>
        </p:grpSpPr>
        <p:sp>
          <p:nvSpPr>
            <p:cNvPr id="443" name=""/>
            <p:cNvSpPr/>
            <p:nvPr/>
          </p:nvSpPr>
          <p:spPr>
            <a:xfrm>
              <a:off x="6368400" y="372888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97080" y="3728880"/>
              <a:ext cx="106164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he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427720" y="371808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245200" y="4309920"/>
            <a:ext cx="380880" cy="457200"/>
            <a:chOff x="5245200" y="4309920"/>
            <a:chExt cx="380880" cy="457200"/>
          </a:xfrm>
        </p:grpSpPr>
        <p:sp>
          <p:nvSpPr>
            <p:cNvPr id="447" name=""/>
            <p:cNvSpPr/>
            <p:nvPr/>
          </p:nvSpPr>
          <p:spPr>
            <a:xfrm>
              <a:off x="5245200" y="43606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56000" y="4309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409920" y="2635200"/>
            <a:ext cx="468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64160" y="364500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267600" y="4308480"/>
            <a:ext cx="380880" cy="459720"/>
            <a:chOff x="6267600" y="4308480"/>
            <a:chExt cx="380880" cy="459720"/>
          </a:xfrm>
        </p:grpSpPr>
        <p:sp>
          <p:nvSpPr>
            <p:cNvPr id="452" name=""/>
            <p:cNvSpPr/>
            <p:nvPr/>
          </p:nvSpPr>
          <p:spPr>
            <a:xfrm>
              <a:off x="6267600" y="4359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76600" y="430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726160" y="3483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88120" y="5375160"/>
            <a:ext cx="380880" cy="457200"/>
            <a:chOff x="6288120" y="5375160"/>
            <a:chExt cx="380880" cy="457200"/>
          </a:xfrm>
        </p:grpSpPr>
        <p:sp>
          <p:nvSpPr>
            <p:cNvPr id="456" name=""/>
            <p:cNvSpPr/>
            <p:nvPr/>
          </p:nvSpPr>
          <p:spPr>
            <a:xfrm>
              <a:off x="6288120" y="54259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98920" y="5375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246400" y="6246720"/>
            <a:ext cx="1119960" cy="459720"/>
            <a:chOff x="2246400" y="6246720"/>
            <a:chExt cx="1119960" cy="459720"/>
          </a:xfrm>
        </p:grpSpPr>
        <p:sp>
          <p:nvSpPr>
            <p:cNvPr id="459" name=""/>
            <p:cNvSpPr/>
            <p:nvPr/>
          </p:nvSpPr>
          <p:spPr>
            <a:xfrm>
              <a:off x="2246400" y="624672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15760" y="6246720"/>
              <a:ext cx="750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00600" y="5952960"/>
            <a:ext cx="1222200" cy="352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05400" y="595296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105000" y="6070680"/>
            <a:ext cx="78264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6560" y="6164280"/>
            <a:ext cx="47304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59240" y="4686480"/>
            <a:ext cx="858600" cy="12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649400" y="4664160"/>
            <a:ext cx="660600" cy="12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461280" y="4751280"/>
            <a:ext cx="468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089320" y="5765760"/>
            <a:ext cx="124452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198520" y="5330880"/>
            <a:ext cx="381240" cy="457200"/>
            <a:chOff x="2198520" y="5330880"/>
            <a:chExt cx="381240" cy="457200"/>
          </a:xfrm>
        </p:grpSpPr>
        <p:sp>
          <p:nvSpPr>
            <p:cNvPr id="470" name=""/>
            <p:cNvSpPr/>
            <p:nvPr/>
          </p:nvSpPr>
          <p:spPr>
            <a:xfrm>
              <a:off x="2198520" y="53816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09680" y="5330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371680" y="470700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22520" y="5699160"/>
            <a:ext cx="14320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56320" y="5826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58960" y="5856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88360" y="46371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5880" y="46371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1A39-BED7-4D9A-A3BC-161C20A97D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13:09Z</dcterms:created>
  <dc:creator>Valued Gateway Client</dc:creator>
  <dc:description/>
  <dc:language>en-US</dc:language>
  <cp:lastModifiedBy>James Hamilton</cp:lastModifiedBy>
  <dcterms:modified xsi:type="dcterms:W3CDTF">2001-11-02T03:25:34Z</dcterms:modified>
  <cp:revision>112</cp:revision>
  <dc:subject/>
  <dc:title>A Fast Index for Semistructured Data</dc:title>
</cp:coreProperties>
</file>