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213C-02E1-49EE-832B-3CD1985248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rate complexit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rate size data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fa3c"/>
                </a:solidFill>
                <a:latin typeface="Times New Roman"/>
                <a:ea typeface="Times New Roman (Hebrew)"/>
              </a:rPr>
              <a:t>Benchmark bas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Independently designed benchmark (DBL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Compares RDBMS to Index Server (on top of RDB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180,000 XML documents, 72 MB of data, low complexity (simulates ~ 10x the data 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Pentium 3, NT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Test query is a simple 2-attribute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6431-9386-487F-9DE1-51785099D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77724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36600" y="3859560"/>
            <a:ext cx="77724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159F-9C4F-48BF-8687-340C64178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3660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1928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5ECA-DA3A-4850-9E26-81B7AEBAA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4600" y="145368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92240" y="145368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36600" y="385956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4600" y="385956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92240" y="385956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08BC-5208-4C00-88BD-105E5409A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94B6D-5F43-47E4-91D1-7AB5F179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366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9AAA9-77A1-4396-9B0A-9158BDB8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C81CE-0E14-41D4-A55A-D5D196F5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7D007-6613-44C0-AB99-DB4B94BC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F780D-B47F-423A-80D9-29DBDFA3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8600" y="-360"/>
            <a:ext cx="8369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B4EE4-D44A-4352-A6FC-E7A0F468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3660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218B8-5BD2-4287-8320-E792B061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366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4176-5F83-490C-AAC4-B68234C1A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1928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2E97C-6172-49CE-BD0B-CA715B99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6600" y="3859560"/>
            <a:ext cx="77724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81D98-3190-4656-8662-0D45C849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77724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36600" y="3859560"/>
            <a:ext cx="77724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8079A-AAFB-4AC7-8343-3135D3B9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3660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1928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9B2F7-2680-4142-A752-56D9CF6A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64600" y="145368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92240" y="145368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36600" y="385956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64600" y="385956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92240" y="385956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552A0-3040-41DD-8753-3A8A361C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5EC5-073F-406E-B16C-7CB5C1990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95469-ED85-4036-B1C8-832A4AFB6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7BC3-5D1E-45CD-B8A1-A6D50EC70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8600" y="-360"/>
            <a:ext cx="8369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272F-80EF-46A8-8D91-06DB67F0B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3660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7C97-6AE4-47D9-84E1-34316F119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1928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5961-AEFD-45AD-A850-D90D024AB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36600" y="3859560"/>
            <a:ext cx="77724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2869-F787-4F7D-B7FD-CD3982CF8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362720" y="6315120"/>
            <a:ext cx="1737000" cy="43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366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5080" y="6334200"/>
            <a:ext cx="107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F745-9780-4459-A03B-D79ABACE2F9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06640" y="1206360"/>
            <a:ext cx="7478640" cy="77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0560" y="1206360"/>
            <a:ext cx="7478640" cy="77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800" y="968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3940-9DCA-481A-86B0-96F9CF8CF3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4040" y="2139840"/>
            <a:ext cx="7478640" cy="77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81360" y="2139840"/>
            <a:ext cx="7479000" cy="77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4600" y="6259680"/>
            <a:ext cx="1736640" cy="434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800" y="968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dexing Data Relationship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280" y="2459160"/>
            <a:ext cx="876312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hael J. Frankl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versity of California, Berkele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amp; RightOrder In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3297240" y="2403360"/>
            <a:ext cx="5845320" cy="3799800"/>
            <a:chOff x="3297240" y="2403360"/>
            <a:chExt cx="5845320" cy="3799800"/>
          </a:xfrm>
        </p:grpSpPr>
        <p:sp>
          <p:nvSpPr>
            <p:cNvPr id="480" name=""/>
            <p:cNvSpPr/>
            <p:nvPr/>
          </p:nvSpPr>
          <p:spPr>
            <a:xfrm>
              <a:off x="6164280" y="25560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800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933600" y="25560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377352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96680" y="362268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553080" y="2403360"/>
              <a:ext cx="381240" cy="459720"/>
              <a:chOff x="6553080" y="2403360"/>
              <a:chExt cx="381240" cy="459720"/>
            </a:xfrm>
          </p:grpSpPr>
          <p:sp>
            <p:nvSpPr>
              <p:cNvPr id="486" name=""/>
              <p:cNvSpPr/>
              <p:nvPr/>
            </p:nvSpPr>
            <p:spPr>
              <a:xfrm>
                <a:off x="6553080" y="2462040"/>
                <a:ext cx="38124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70360" y="2403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8534520" y="4384800"/>
              <a:ext cx="380880" cy="457200"/>
              <a:chOff x="8534520" y="4384800"/>
              <a:chExt cx="380880" cy="457200"/>
            </a:xfrm>
          </p:grpSpPr>
          <p:sp>
            <p:nvSpPr>
              <p:cNvPr id="489" name=""/>
              <p:cNvSpPr/>
              <p:nvPr/>
            </p:nvSpPr>
            <p:spPr>
              <a:xfrm>
                <a:off x="853452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54892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 flipH="1">
              <a:off x="586692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7543800" y="3394080"/>
              <a:ext cx="380880" cy="459720"/>
              <a:chOff x="7543800" y="3394080"/>
              <a:chExt cx="380880" cy="459720"/>
            </a:xfrm>
          </p:grpSpPr>
          <p:sp>
            <p:nvSpPr>
              <p:cNvPr id="493" name=""/>
              <p:cNvSpPr/>
              <p:nvPr/>
            </p:nvSpPr>
            <p:spPr>
              <a:xfrm>
                <a:off x="754380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55280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7848720" y="37749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5562720" y="3394080"/>
              <a:ext cx="380880" cy="459720"/>
              <a:chOff x="5562720" y="3394080"/>
              <a:chExt cx="380880" cy="459720"/>
            </a:xfrm>
          </p:grpSpPr>
          <p:sp>
            <p:nvSpPr>
              <p:cNvPr id="497" name=""/>
              <p:cNvSpPr/>
              <p:nvPr/>
            </p:nvSpPr>
            <p:spPr>
              <a:xfrm>
                <a:off x="556272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57172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7543800" y="4384800"/>
              <a:ext cx="380880" cy="457200"/>
              <a:chOff x="7543800" y="4384800"/>
              <a:chExt cx="380880" cy="457200"/>
            </a:xfrm>
          </p:grpSpPr>
          <p:sp>
            <p:nvSpPr>
              <p:cNvPr id="500" name=""/>
              <p:cNvSpPr/>
              <p:nvPr/>
            </p:nvSpPr>
            <p:spPr>
              <a:xfrm>
                <a:off x="754380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55820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740720" y="3819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73440" y="4746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413200" y="4762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99320" y="37623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13440" y="3597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72160" y="439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6564240" y="4392720"/>
              <a:ext cx="381240" cy="457200"/>
              <a:chOff x="6564240" y="4392720"/>
              <a:chExt cx="381240" cy="457200"/>
            </a:xfrm>
          </p:grpSpPr>
          <p:sp>
            <p:nvSpPr>
              <p:cNvPr id="509" name=""/>
              <p:cNvSpPr/>
              <p:nvPr/>
            </p:nvSpPr>
            <p:spPr>
              <a:xfrm>
                <a:off x="6564240" y="4441680"/>
                <a:ext cx="38124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580080" y="43927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6138000" y="4700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4870080" y="375768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4599000" y="4400640"/>
              <a:ext cx="380880" cy="459720"/>
              <a:chOff x="4599000" y="4400640"/>
              <a:chExt cx="380880" cy="459720"/>
            </a:xfrm>
          </p:grpSpPr>
          <p:sp>
            <p:nvSpPr>
              <p:cNvPr id="514" name=""/>
              <p:cNvSpPr/>
              <p:nvPr/>
            </p:nvSpPr>
            <p:spPr>
              <a:xfrm>
                <a:off x="4599000" y="4451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08000" y="4400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5212440" y="3573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14040" y="4770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46120" y="4619520"/>
              <a:ext cx="2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581800" y="5381640"/>
              <a:ext cx="380880" cy="457200"/>
              <a:chOff x="5581800" y="5381640"/>
              <a:chExt cx="380880" cy="457200"/>
            </a:xfrm>
          </p:grpSpPr>
          <p:sp>
            <p:nvSpPr>
              <p:cNvPr id="520" name=""/>
              <p:cNvSpPr/>
              <p:nvPr/>
            </p:nvSpPr>
            <p:spPr>
              <a:xfrm>
                <a:off x="558180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59620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4896000" y="47721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4591080" y="5381640"/>
              <a:ext cx="380880" cy="457200"/>
              <a:chOff x="4591080" y="5381640"/>
              <a:chExt cx="380880" cy="457200"/>
            </a:xfrm>
          </p:grpSpPr>
          <p:sp>
            <p:nvSpPr>
              <p:cNvPr id="524" name=""/>
              <p:cNvSpPr/>
              <p:nvPr/>
            </p:nvSpPr>
            <p:spPr>
              <a:xfrm>
                <a:off x="459108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60548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4788000" y="4816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97240" y="57434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be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2680" y="57434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B7BE-1D7E-4BA7-BE4D-C6440FCE09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2347200" y="1895400"/>
            <a:ext cx="42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1: divide trie into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14800" y="2362320"/>
            <a:ext cx="4952880" cy="3886200"/>
          </a:xfrm>
          <a:custGeom>
            <a:avLst/>
            <a:gdLst/>
            <a:ahLst/>
            <a:rect l="l" t="t" r="r" b="b"/>
            <a:pathLst>
              <a:path w="3120" h="2448">
                <a:moveTo>
                  <a:pt x="96" y="2448"/>
                </a:moveTo>
                <a:lnTo>
                  <a:pt x="1296" y="2448"/>
                </a:lnTo>
                <a:lnTo>
                  <a:pt x="1296" y="1824"/>
                </a:lnTo>
                <a:lnTo>
                  <a:pt x="3120" y="1824"/>
                </a:lnTo>
                <a:lnTo>
                  <a:pt x="3120" y="1152"/>
                </a:lnTo>
                <a:lnTo>
                  <a:pt x="1968" y="0"/>
                </a:lnTo>
                <a:lnTo>
                  <a:pt x="1296" y="0"/>
                </a:lnTo>
                <a:lnTo>
                  <a:pt x="0" y="1296"/>
                </a:lnTo>
                <a:lnTo>
                  <a:pt x="0" y="2448"/>
                </a:lnTo>
                <a:lnTo>
                  <a:pt x="240" y="2448"/>
                </a:lnTo>
                <a:lnTo>
                  <a:pt x="96" y="244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724280" y="38098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715000" y="2743200"/>
            <a:ext cx="144792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912" y="1584"/>
                </a:moveTo>
                <a:lnTo>
                  <a:pt x="912" y="9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3297240" y="2403360"/>
            <a:ext cx="5845320" cy="3799800"/>
            <a:chOff x="3297240" y="2403360"/>
            <a:chExt cx="5845320" cy="3799800"/>
          </a:xfrm>
        </p:grpSpPr>
        <p:sp>
          <p:nvSpPr>
            <p:cNvPr id="535" name=""/>
            <p:cNvSpPr/>
            <p:nvPr/>
          </p:nvSpPr>
          <p:spPr>
            <a:xfrm>
              <a:off x="6164280" y="25560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5800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33600" y="25560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67480" y="377352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96680" y="362268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6553080" y="2403360"/>
              <a:ext cx="381240" cy="459720"/>
              <a:chOff x="6553080" y="2403360"/>
              <a:chExt cx="381240" cy="459720"/>
            </a:xfrm>
          </p:grpSpPr>
          <p:sp>
            <p:nvSpPr>
              <p:cNvPr id="541" name=""/>
              <p:cNvSpPr/>
              <p:nvPr/>
            </p:nvSpPr>
            <p:spPr>
              <a:xfrm>
                <a:off x="6553080" y="2462040"/>
                <a:ext cx="38124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570360" y="2403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8534520" y="4384800"/>
              <a:ext cx="380880" cy="457200"/>
              <a:chOff x="8534520" y="4384800"/>
              <a:chExt cx="380880" cy="457200"/>
            </a:xfrm>
          </p:grpSpPr>
          <p:sp>
            <p:nvSpPr>
              <p:cNvPr id="544" name=""/>
              <p:cNvSpPr/>
              <p:nvPr/>
            </p:nvSpPr>
            <p:spPr>
              <a:xfrm>
                <a:off x="853452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4892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 flipH="1">
              <a:off x="586692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7543800" y="3394080"/>
              <a:ext cx="380880" cy="459720"/>
              <a:chOff x="7543800" y="3394080"/>
              <a:chExt cx="380880" cy="459720"/>
            </a:xfrm>
          </p:grpSpPr>
          <p:sp>
            <p:nvSpPr>
              <p:cNvPr id="548" name=""/>
              <p:cNvSpPr/>
              <p:nvPr/>
            </p:nvSpPr>
            <p:spPr>
              <a:xfrm>
                <a:off x="754380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5280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7848720" y="37749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5562720" y="3394080"/>
              <a:ext cx="380880" cy="459720"/>
              <a:chOff x="5562720" y="3394080"/>
              <a:chExt cx="380880" cy="459720"/>
            </a:xfrm>
          </p:grpSpPr>
          <p:sp>
            <p:nvSpPr>
              <p:cNvPr id="552" name=""/>
              <p:cNvSpPr/>
              <p:nvPr/>
            </p:nvSpPr>
            <p:spPr>
              <a:xfrm>
                <a:off x="556272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57172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7543800" y="4384800"/>
              <a:ext cx="380880" cy="457200"/>
              <a:chOff x="7543800" y="4384800"/>
              <a:chExt cx="380880" cy="457200"/>
            </a:xfrm>
          </p:grpSpPr>
          <p:sp>
            <p:nvSpPr>
              <p:cNvPr id="555" name=""/>
              <p:cNvSpPr/>
              <p:nvPr/>
            </p:nvSpPr>
            <p:spPr>
              <a:xfrm>
                <a:off x="754380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55820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7740720" y="3819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73440" y="4746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413200" y="4762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899320" y="37623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3440" y="3597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572160" y="439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6564240" y="4392720"/>
              <a:ext cx="381240" cy="457200"/>
              <a:chOff x="6564240" y="4392720"/>
              <a:chExt cx="381240" cy="457200"/>
            </a:xfrm>
          </p:grpSpPr>
          <p:sp>
            <p:nvSpPr>
              <p:cNvPr id="564" name=""/>
              <p:cNvSpPr/>
              <p:nvPr/>
            </p:nvSpPr>
            <p:spPr>
              <a:xfrm>
                <a:off x="6564240" y="4441680"/>
                <a:ext cx="38124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80080" y="43927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138000" y="4700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4870080" y="375768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4599000" y="4400640"/>
              <a:ext cx="380880" cy="459720"/>
              <a:chOff x="4599000" y="4400640"/>
              <a:chExt cx="380880" cy="459720"/>
            </a:xfrm>
          </p:grpSpPr>
          <p:sp>
            <p:nvSpPr>
              <p:cNvPr id="569" name=""/>
              <p:cNvSpPr/>
              <p:nvPr/>
            </p:nvSpPr>
            <p:spPr>
              <a:xfrm>
                <a:off x="4599000" y="4451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608000" y="4400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5212440" y="3573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14040" y="4770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46120" y="4619520"/>
              <a:ext cx="2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5581800" y="5381640"/>
              <a:ext cx="380880" cy="457200"/>
              <a:chOff x="5581800" y="5381640"/>
              <a:chExt cx="380880" cy="457200"/>
            </a:xfrm>
          </p:grpSpPr>
          <p:sp>
            <p:nvSpPr>
              <p:cNvPr id="575" name=""/>
              <p:cNvSpPr/>
              <p:nvPr/>
            </p:nvSpPr>
            <p:spPr>
              <a:xfrm>
                <a:off x="558180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59620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>
              <a:off x="4896000" y="47721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4591080" y="5381640"/>
              <a:ext cx="380880" cy="457200"/>
              <a:chOff x="4591080" y="5381640"/>
              <a:chExt cx="380880" cy="457200"/>
            </a:xfrm>
          </p:grpSpPr>
          <p:sp>
            <p:nvSpPr>
              <p:cNvPr id="579" name=""/>
              <p:cNvSpPr/>
              <p:nvPr/>
            </p:nvSpPr>
            <p:spPr>
              <a:xfrm>
                <a:off x="459108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60548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788000" y="4816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297240" y="57434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be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32680" y="57434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FCCA-A948-45B0-BDDF-1BF21C3354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2346840" y="1895400"/>
            <a:ext cx="39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2: build another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2362320"/>
            <a:ext cx="4952880" cy="3886200"/>
          </a:xfrm>
          <a:custGeom>
            <a:avLst/>
            <a:gdLst/>
            <a:ahLst/>
            <a:rect l="l" t="t" r="r" b="b"/>
            <a:pathLst>
              <a:path w="3120" h="2448">
                <a:moveTo>
                  <a:pt x="96" y="2448"/>
                </a:moveTo>
                <a:lnTo>
                  <a:pt x="1296" y="2448"/>
                </a:lnTo>
                <a:lnTo>
                  <a:pt x="1296" y="1824"/>
                </a:lnTo>
                <a:lnTo>
                  <a:pt x="3120" y="1824"/>
                </a:lnTo>
                <a:lnTo>
                  <a:pt x="3120" y="1152"/>
                </a:lnTo>
                <a:lnTo>
                  <a:pt x="1968" y="0"/>
                </a:lnTo>
                <a:lnTo>
                  <a:pt x="1296" y="0"/>
                </a:lnTo>
                <a:lnTo>
                  <a:pt x="0" y="1296"/>
                </a:lnTo>
                <a:lnTo>
                  <a:pt x="0" y="2448"/>
                </a:lnTo>
                <a:lnTo>
                  <a:pt x="240" y="2448"/>
                </a:lnTo>
                <a:lnTo>
                  <a:pt x="96" y="244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4724280" y="38098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715000" y="2743200"/>
            <a:ext cx="144792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912" y="1584"/>
                </a:moveTo>
                <a:lnTo>
                  <a:pt x="912" y="9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171440" y="29829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1263600" y="2682720"/>
            <a:ext cx="380880" cy="459720"/>
            <a:chOff x="1263600" y="2682720"/>
            <a:chExt cx="380880" cy="459720"/>
          </a:xfrm>
        </p:grpSpPr>
        <p:sp>
          <p:nvSpPr>
            <p:cNvPr id="591" name=""/>
            <p:cNvSpPr/>
            <p:nvPr/>
          </p:nvSpPr>
          <p:spPr>
            <a:xfrm>
              <a:off x="1263600" y="27414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280520" y="2682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260360" y="3657600"/>
            <a:ext cx="381240" cy="459720"/>
            <a:chOff x="1260360" y="3657600"/>
            <a:chExt cx="381240" cy="459720"/>
          </a:xfrm>
        </p:grpSpPr>
        <p:sp>
          <p:nvSpPr>
            <p:cNvPr id="594" name=""/>
            <p:cNvSpPr/>
            <p:nvPr/>
          </p:nvSpPr>
          <p:spPr>
            <a:xfrm>
              <a:off x="1260360" y="370836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69720" y="3657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14479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3152880" y="2462040"/>
            <a:ext cx="0" cy="4105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80200" y="620244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1     Laye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609560" y="2593440"/>
            <a:ext cx="4335480" cy="328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609560" y="3611160"/>
            <a:ext cx="3349800" cy="297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542960" y="4038480"/>
            <a:ext cx="2562480" cy="1084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21440" y="40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89040" y="2467080"/>
            <a:ext cx="1479600" cy="1920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3297240" y="2403360"/>
            <a:ext cx="5845320" cy="3799800"/>
            <a:chOff x="3297240" y="2403360"/>
            <a:chExt cx="5845320" cy="3799800"/>
          </a:xfrm>
        </p:grpSpPr>
        <p:sp>
          <p:nvSpPr>
            <p:cNvPr id="605" name=""/>
            <p:cNvSpPr/>
            <p:nvPr/>
          </p:nvSpPr>
          <p:spPr>
            <a:xfrm>
              <a:off x="6164280" y="25560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5800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33600" y="25560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67480" y="377352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996680" y="362268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553080" y="2403360"/>
              <a:ext cx="381240" cy="459720"/>
              <a:chOff x="6553080" y="2403360"/>
              <a:chExt cx="381240" cy="459720"/>
            </a:xfrm>
          </p:grpSpPr>
          <p:sp>
            <p:nvSpPr>
              <p:cNvPr id="611" name=""/>
              <p:cNvSpPr/>
              <p:nvPr/>
            </p:nvSpPr>
            <p:spPr>
              <a:xfrm>
                <a:off x="6553080" y="2462040"/>
                <a:ext cx="38124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570360" y="2403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8534520" y="4384800"/>
              <a:ext cx="380880" cy="457200"/>
              <a:chOff x="8534520" y="4384800"/>
              <a:chExt cx="380880" cy="457200"/>
            </a:xfrm>
          </p:grpSpPr>
          <p:sp>
            <p:nvSpPr>
              <p:cNvPr id="614" name=""/>
              <p:cNvSpPr/>
              <p:nvPr/>
            </p:nvSpPr>
            <p:spPr>
              <a:xfrm>
                <a:off x="853452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54892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 flipH="1">
              <a:off x="586692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7543800" y="3394080"/>
              <a:ext cx="380880" cy="459720"/>
              <a:chOff x="7543800" y="3394080"/>
              <a:chExt cx="380880" cy="459720"/>
            </a:xfrm>
          </p:grpSpPr>
          <p:sp>
            <p:nvSpPr>
              <p:cNvPr id="618" name=""/>
              <p:cNvSpPr/>
              <p:nvPr/>
            </p:nvSpPr>
            <p:spPr>
              <a:xfrm>
                <a:off x="754380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55280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7848720" y="37749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5562720" y="3394080"/>
              <a:ext cx="380880" cy="459720"/>
              <a:chOff x="5562720" y="3394080"/>
              <a:chExt cx="380880" cy="459720"/>
            </a:xfrm>
          </p:grpSpPr>
          <p:sp>
            <p:nvSpPr>
              <p:cNvPr id="622" name=""/>
              <p:cNvSpPr/>
              <p:nvPr/>
            </p:nvSpPr>
            <p:spPr>
              <a:xfrm>
                <a:off x="556272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57172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7543800" y="4384800"/>
              <a:ext cx="380880" cy="457200"/>
              <a:chOff x="7543800" y="4384800"/>
              <a:chExt cx="380880" cy="457200"/>
            </a:xfrm>
          </p:grpSpPr>
          <p:sp>
            <p:nvSpPr>
              <p:cNvPr id="625" name=""/>
              <p:cNvSpPr/>
              <p:nvPr/>
            </p:nvSpPr>
            <p:spPr>
              <a:xfrm>
                <a:off x="754380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55820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7740720" y="3819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73440" y="4746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413200" y="4762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37623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013440" y="3597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72160" y="439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6564240" y="4392720"/>
              <a:ext cx="381240" cy="457200"/>
              <a:chOff x="6564240" y="4392720"/>
              <a:chExt cx="381240" cy="457200"/>
            </a:xfrm>
          </p:grpSpPr>
          <p:sp>
            <p:nvSpPr>
              <p:cNvPr id="634" name=""/>
              <p:cNvSpPr/>
              <p:nvPr/>
            </p:nvSpPr>
            <p:spPr>
              <a:xfrm>
                <a:off x="6564240" y="4441680"/>
                <a:ext cx="38124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80080" y="43927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6138000" y="4700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4870080" y="375768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4599000" y="4400640"/>
              <a:ext cx="380880" cy="459720"/>
              <a:chOff x="4599000" y="4400640"/>
              <a:chExt cx="380880" cy="459720"/>
            </a:xfrm>
          </p:grpSpPr>
          <p:sp>
            <p:nvSpPr>
              <p:cNvPr id="639" name=""/>
              <p:cNvSpPr/>
              <p:nvPr/>
            </p:nvSpPr>
            <p:spPr>
              <a:xfrm>
                <a:off x="4599000" y="4451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608000" y="4400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5212440" y="3573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14040" y="4770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46120" y="4619520"/>
              <a:ext cx="2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5581800" y="5381640"/>
              <a:ext cx="380880" cy="457200"/>
              <a:chOff x="5581800" y="5381640"/>
              <a:chExt cx="380880" cy="457200"/>
            </a:xfrm>
          </p:grpSpPr>
          <p:sp>
            <p:nvSpPr>
              <p:cNvPr id="645" name=""/>
              <p:cNvSpPr/>
              <p:nvPr/>
            </p:nvSpPr>
            <p:spPr>
              <a:xfrm>
                <a:off x="558180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59620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4896000" y="47721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4591080" y="5381640"/>
              <a:ext cx="380880" cy="457200"/>
              <a:chOff x="4591080" y="5381640"/>
              <a:chExt cx="380880" cy="457200"/>
            </a:xfrm>
          </p:grpSpPr>
          <p:sp>
            <p:nvSpPr>
              <p:cNvPr id="649" name=""/>
              <p:cNvSpPr/>
              <p:nvPr/>
            </p:nvSpPr>
            <p:spPr>
              <a:xfrm>
                <a:off x="459108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60548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4788000" y="4816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297240" y="57434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be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332680" y="57434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6F9D-2C12-4B95-9726-3958A928F9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2438280" y="189540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 “cas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114800" y="2362320"/>
            <a:ext cx="4952880" cy="3886200"/>
          </a:xfrm>
          <a:custGeom>
            <a:avLst/>
            <a:gdLst/>
            <a:ahLst/>
            <a:rect l="l" t="t" r="r" b="b"/>
            <a:pathLst>
              <a:path w="3120" h="2448">
                <a:moveTo>
                  <a:pt x="96" y="2448"/>
                </a:moveTo>
                <a:lnTo>
                  <a:pt x="1296" y="2448"/>
                </a:lnTo>
                <a:lnTo>
                  <a:pt x="1296" y="1824"/>
                </a:lnTo>
                <a:lnTo>
                  <a:pt x="3120" y="1824"/>
                </a:lnTo>
                <a:lnTo>
                  <a:pt x="3120" y="1152"/>
                </a:lnTo>
                <a:lnTo>
                  <a:pt x="1968" y="0"/>
                </a:lnTo>
                <a:lnTo>
                  <a:pt x="1296" y="0"/>
                </a:lnTo>
                <a:lnTo>
                  <a:pt x="0" y="1296"/>
                </a:lnTo>
                <a:lnTo>
                  <a:pt x="0" y="2448"/>
                </a:lnTo>
                <a:lnTo>
                  <a:pt x="240" y="2448"/>
                </a:lnTo>
                <a:lnTo>
                  <a:pt x="96" y="244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4724280" y="38098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715000" y="2743200"/>
            <a:ext cx="144792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912" y="1584"/>
                </a:moveTo>
                <a:lnTo>
                  <a:pt x="912" y="9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171440" y="29829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263600" y="2682720"/>
            <a:ext cx="380880" cy="459720"/>
            <a:chOff x="1263600" y="2682720"/>
            <a:chExt cx="380880" cy="459720"/>
          </a:xfrm>
        </p:grpSpPr>
        <p:sp>
          <p:nvSpPr>
            <p:cNvPr id="661" name=""/>
            <p:cNvSpPr/>
            <p:nvPr/>
          </p:nvSpPr>
          <p:spPr>
            <a:xfrm>
              <a:off x="1263600" y="27414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280520" y="2682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1260360" y="3657600"/>
            <a:ext cx="381240" cy="459720"/>
            <a:chOff x="1260360" y="3657600"/>
            <a:chExt cx="381240" cy="459720"/>
          </a:xfrm>
        </p:grpSpPr>
        <p:sp>
          <p:nvSpPr>
            <p:cNvPr id="664" name=""/>
            <p:cNvSpPr/>
            <p:nvPr/>
          </p:nvSpPr>
          <p:spPr>
            <a:xfrm>
              <a:off x="1260360" y="370836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269720" y="3657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47920" y="31240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3152880" y="2462040"/>
            <a:ext cx="0" cy="4105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780200" y="620244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1     Laye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1609560" y="2593440"/>
            <a:ext cx="4335480" cy="328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1609560" y="3611160"/>
            <a:ext cx="3349800" cy="297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542960" y="4038480"/>
            <a:ext cx="2562480" cy="1084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21440" y="40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9040" y="2467080"/>
            <a:ext cx="1479600" cy="1920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51200" y="1935000"/>
            <a:ext cx="174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enb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979560" y="2347920"/>
            <a:ext cx="233280" cy="5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3297240" y="2403360"/>
            <a:ext cx="5845320" cy="3799800"/>
            <a:chOff x="3297240" y="2403360"/>
            <a:chExt cx="5845320" cy="3799800"/>
          </a:xfrm>
        </p:grpSpPr>
        <p:sp>
          <p:nvSpPr>
            <p:cNvPr id="677" name=""/>
            <p:cNvSpPr/>
            <p:nvPr/>
          </p:nvSpPr>
          <p:spPr>
            <a:xfrm>
              <a:off x="6164280" y="25560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5800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933600" y="25560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467480" y="377352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96680" y="362268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6553080" y="2403360"/>
              <a:ext cx="381240" cy="459720"/>
              <a:chOff x="6553080" y="2403360"/>
              <a:chExt cx="381240" cy="459720"/>
            </a:xfrm>
          </p:grpSpPr>
          <p:sp>
            <p:nvSpPr>
              <p:cNvPr id="683" name=""/>
              <p:cNvSpPr/>
              <p:nvPr/>
            </p:nvSpPr>
            <p:spPr>
              <a:xfrm>
                <a:off x="6553080" y="2462040"/>
                <a:ext cx="38124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570360" y="2403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8534520" y="4384800"/>
              <a:ext cx="380880" cy="457200"/>
              <a:chOff x="8534520" y="4384800"/>
              <a:chExt cx="380880" cy="457200"/>
            </a:xfrm>
          </p:grpSpPr>
          <p:sp>
            <p:nvSpPr>
              <p:cNvPr id="686" name=""/>
              <p:cNvSpPr/>
              <p:nvPr/>
            </p:nvSpPr>
            <p:spPr>
              <a:xfrm>
                <a:off x="853452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54892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 flipH="1">
              <a:off x="586692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7543800" y="3394080"/>
              <a:ext cx="380880" cy="459720"/>
              <a:chOff x="7543800" y="3394080"/>
              <a:chExt cx="380880" cy="459720"/>
            </a:xfrm>
          </p:grpSpPr>
          <p:sp>
            <p:nvSpPr>
              <p:cNvPr id="690" name=""/>
              <p:cNvSpPr/>
              <p:nvPr/>
            </p:nvSpPr>
            <p:spPr>
              <a:xfrm>
                <a:off x="754380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55280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7848720" y="37749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5562720" y="3394080"/>
              <a:ext cx="380880" cy="459720"/>
              <a:chOff x="5562720" y="3394080"/>
              <a:chExt cx="380880" cy="459720"/>
            </a:xfrm>
          </p:grpSpPr>
          <p:sp>
            <p:nvSpPr>
              <p:cNvPr id="694" name=""/>
              <p:cNvSpPr/>
              <p:nvPr/>
            </p:nvSpPr>
            <p:spPr>
              <a:xfrm>
                <a:off x="556272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7172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7543800" y="4384800"/>
              <a:ext cx="380880" cy="457200"/>
              <a:chOff x="7543800" y="4384800"/>
              <a:chExt cx="380880" cy="457200"/>
            </a:xfrm>
          </p:grpSpPr>
          <p:sp>
            <p:nvSpPr>
              <p:cNvPr id="697" name=""/>
              <p:cNvSpPr/>
              <p:nvPr/>
            </p:nvSpPr>
            <p:spPr>
              <a:xfrm>
                <a:off x="754380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55820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7740720" y="3819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273440" y="4746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13200" y="4762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899320" y="37623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3440" y="3597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2160" y="439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564240" y="4392720"/>
              <a:ext cx="381240" cy="457200"/>
              <a:chOff x="6564240" y="4392720"/>
              <a:chExt cx="381240" cy="457200"/>
            </a:xfrm>
          </p:grpSpPr>
          <p:sp>
            <p:nvSpPr>
              <p:cNvPr id="706" name=""/>
              <p:cNvSpPr/>
              <p:nvPr/>
            </p:nvSpPr>
            <p:spPr>
              <a:xfrm>
                <a:off x="6564240" y="4441680"/>
                <a:ext cx="38124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580080" y="43927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6138000" y="4700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4870080" y="375768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4599000" y="4400640"/>
              <a:ext cx="380880" cy="459720"/>
              <a:chOff x="4599000" y="4400640"/>
              <a:chExt cx="380880" cy="459720"/>
            </a:xfrm>
          </p:grpSpPr>
          <p:sp>
            <p:nvSpPr>
              <p:cNvPr id="711" name=""/>
              <p:cNvSpPr/>
              <p:nvPr/>
            </p:nvSpPr>
            <p:spPr>
              <a:xfrm>
                <a:off x="4599000" y="4451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608000" y="4400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>
              <a:off x="5212440" y="3573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14040" y="4770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46120" y="4619520"/>
              <a:ext cx="2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5581800" y="5381640"/>
              <a:ext cx="380880" cy="457200"/>
              <a:chOff x="5581800" y="5381640"/>
              <a:chExt cx="380880" cy="457200"/>
            </a:xfrm>
          </p:grpSpPr>
          <p:sp>
            <p:nvSpPr>
              <p:cNvPr id="717" name=""/>
              <p:cNvSpPr/>
              <p:nvPr/>
            </p:nvSpPr>
            <p:spPr>
              <a:xfrm>
                <a:off x="558180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9620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4896000" y="47721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4591080" y="5381640"/>
              <a:ext cx="380880" cy="457200"/>
              <a:chOff x="4591080" y="5381640"/>
              <a:chExt cx="380880" cy="457200"/>
            </a:xfrm>
          </p:grpSpPr>
          <p:sp>
            <p:nvSpPr>
              <p:cNvPr id="721" name=""/>
              <p:cNvSpPr/>
              <p:nvPr/>
            </p:nvSpPr>
            <p:spPr>
              <a:xfrm>
                <a:off x="459108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60548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4788000" y="4816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97240" y="57434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be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32680" y="57434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1D26-5568-417F-BF39-FBC591D463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2438280" y="189540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 “cas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2362320"/>
            <a:ext cx="4952880" cy="3886200"/>
          </a:xfrm>
          <a:custGeom>
            <a:avLst/>
            <a:gdLst/>
            <a:ahLst/>
            <a:rect l="l" t="t" r="r" b="b"/>
            <a:pathLst>
              <a:path w="3120" h="2448">
                <a:moveTo>
                  <a:pt x="96" y="2448"/>
                </a:moveTo>
                <a:lnTo>
                  <a:pt x="1296" y="2448"/>
                </a:lnTo>
                <a:lnTo>
                  <a:pt x="1296" y="1824"/>
                </a:lnTo>
                <a:lnTo>
                  <a:pt x="3120" y="1824"/>
                </a:lnTo>
                <a:lnTo>
                  <a:pt x="3120" y="1152"/>
                </a:lnTo>
                <a:lnTo>
                  <a:pt x="1968" y="0"/>
                </a:lnTo>
                <a:lnTo>
                  <a:pt x="1296" y="0"/>
                </a:lnTo>
                <a:lnTo>
                  <a:pt x="0" y="1296"/>
                </a:lnTo>
                <a:lnTo>
                  <a:pt x="0" y="2448"/>
                </a:lnTo>
                <a:lnTo>
                  <a:pt x="240" y="2448"/>
                </a:lnTo>
                <a:lnTo>
                  <a:pt x="96" y="244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724280" y="38098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715000" y="2743200"/>
            <a:ext cx="144792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912" y="1584"/>
                </a:moveTo>
                <a:lnTo>
                  <a:pt x="912" y="9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171440" y="29829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1263600" y="2682720"/>
            <a:ext cx="380880" cy="459720"/>
            <a:chOff x="1263600" y="2682720"/>
            <a:chExt cx="380880" cy="459720"/>
          </a:xfrm>
        </p:grpSpPr>
        <p:sp>
          <p:nvSpPr>
            <p:cNvPr id="733" name=""/>
            <p:cNvSpPr/>
            <p:nvPr/>
          </p:nvSpPr>
          <p:spPr>
            <a:xfrm>
              <a:off x="1263600" y="27414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80520" y="2682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260360" y="3657600"/>
            <a:ext cx="381240" cy="459720"/>
            <a:chOff x="1260360" y="3657600"/>
            <a:chExt cx="381240" cy="459720"/>
          </a:xfrm>
        </p:grpSpPr>
        <p:sp>
          <p:nvSpPr>
            <p:cNvPr id="736" name=""/>
            <p:cNvSpPr/>
            <p:nvPr/>
          </p:nvSpPr>
          <p:spPr>
            <a:xfrm>
              <a:off x="1260360" y="370836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69720" y="3657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1447920" y="3124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152880" y="2462040"/>
            <a:ext cx="0" cy="4105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780200" y="620244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1     Laye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609560" y="2593440"/>
            <a:ext cx="4335480" cy="328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1609560" y="3611160"/>
            <a:ext cx="3349800" cy="297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542960" y="4038480"/>
            <a:ext cx="2562480" cy="1084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621440" y="40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9040" y="2467080"/>
            <a:ext cx="1479600" cy="1920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68440" y="4865760"/>
            <a:ext cx="174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b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1200240" y="4138200"/>
            <a:ext cx="19836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164280" y="2556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0" y="2784600"/>
            <a:ext cx="75420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933600" y="2556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467480" y="377352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996680" y="3622680"/>
            <a:ext cx="4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553080" y="2462040"/>
            <a:ext cx="381240" cy="381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570360" y="240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534520" y="442440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8548560" y="438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5866920" y="2784600"/>
            <a:ext cx="75420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344484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553160" y="3394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48720" y="3774960"/>
            <a:ext cx="75384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62720" y="344484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572080" y="3394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442440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55820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740720" y="3819600"/>
            <a:ext cx="0" cy="609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73440" y="4746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Courier New"/>
              </a:rPr>
              <a:t>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8413200" y="4762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Courier New"/>
              </a:rPr>
              <a:t>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899320" y="3762360"/>
            <a:ext cx="75384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13440" y="35971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572160" y="4394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564240" y="4441680"/>
            <a:ext cx="381240" cy="381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80080" y="439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138000" y="4700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Courier New"/>
              </a:rPr>
              <a:t>g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4870080" y="3757680"/>
            <a:ext cx="75420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4599000" y="4400640"/>
            <a:ext cx="380880" cy="459720"/>
            <a:chOff x="4599000" y="4400640"/>
            <a:chExt cx="380880" cy="459720"/>
          </a:xfrm>
        </p:grpSpPr>
        <p:sp>
          <p:nvSpPr>
            <p:cNvPr id="776" name=""/>
            <p:cNvSpPr/>
            <p:nvPr/>
          </p:nvSpPr>
          <p:spPr>
            <a:xfrm>
              <a:off x="4599000" y="445140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608000" y="440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5212440" y="3573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514040" y="47703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046120" y="4619520"/>
            <a:ext cx="2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581800" y="5381640"/>
            <a:ext cx="380880" cy="457200"/>
            <a:chOff x="5581800" y="5381640"/>
            <a:chExt cx="380880" cy="457200"/>
          </a:xfrm>
        </p:grpSpPr>
        <p:sp>
          <p:nvSpPr>
            <p:cNvPr id="782" name=""/>
            <p:cNvSpPr/>
            <p:nvPr/>
          </p:nvSpPr>
          <p:spPr>
            <a:xfrm>
              <a:off x="5581800" y="542124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96200" y="5381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4896000" y="4772160"/>
            <a:ext cx="75384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4591080" y="5381640"/>
            <a:ext cx="380880" cy="457200"/>
            <a:chOff x="4591080" y="5381640"/>
            <a:chExt cx="380880" cy="457200"/>
          </a:xfrm>
        </p:grpSpPr>
        <p:sp>
          <p:nvSpPr>
            <p:cNvPr id="786" name=""/>
            <p:cNvSpPr/>
            <p:nvPr/>
          </p:nvSpPr>
          <p:spPr>
            <a:xfrm>
              <a:off x="4591080" y="542124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605480" y="5381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4788000" y="4816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297240" y="57434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332680" y="57434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94A7-115D-4F64-8DEA-584CE62857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92" name=""/>
          <p:cNvSpPr/>
          <p:nvPr/>
        </p:nvSpPr>
        <p:spPr>
          <a:xfrm>
            <a:off x="2438280" y="189540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 “cas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114800" y="2362320"/>
            <a:ext cx="4952880" cy="3886200"/>
          </a:xfrm>
          <a:custGeom>
            <a:avLst/>
            <a:gdLst/>
            <a:ahLst/>
            <a:rect l="l" t="t" r="r" b="b"/>
            <a:pathLst>
              <a:path w="3120" h="2448">
                <a:moveTo>
                  <a:pt x="96" y="2448"/>
                </a:moveTo>
                <a:lnTo>
                  <a:pt x="1296" y="2448"/>
                </a:lnTo>
                <a:lnTo>
                  <a:pt x="1296" y="1824"/>
                </a:lnTo>
                <a:lnTo>
                  <a:pt x="3120" y="1824"/>
                </a:lnTo>
                <a:lnTo>
                  <a:pt x="3120" y="1152"/>
                </a:lnTo>
                <a:lnTo>
                  <a:pt x="1968" y="0"/>
                </a:lnTo>
                <a:lnTo>
                  <a:pt x="1296" y="0"/>
                </a:lnTo>
                <a:lnTo>
                  <a:pt x="0" y="1296"/>
                </a:lnTo>
                <a:lnTo>
                  <a:pt x="0" y="2448"/>
                </a:lnTo>
                <a:lnTo>
                  <a:pt x="240" y="2448"/>
                </a:lnTo>
                <a:lnTo>
                  <a:pt x="96" y="244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 flipV="1">
            <a:off x="4724280" y="38098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2743200"/>
            <a:ext cx="144792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912" y="1584"/>
                </a:moveTo>
                <a:lnTo>
                  <a:pt x="912" y="9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171440" y="29829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263600" y="2682720"/>
            <a:ext cx="380880" cy="459720"/>
            <a:chOff x="1263600" y="2682720"/>
            <a:chExt cx="380880" cy="459720"/>
          </a:xfrm>
        </p:grpSpPr>
        <p:sp>
          <p:nvSpPr>
            <p:cNvPr id="798" name=""/>
            <p:cNvSpPr/>
            <p:nvPr/>
          </p:nvSpPr>
          <p:spPr>
            <a:xfrm>
              <a:off x="1263600" y="27414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280520" y="2682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260360" y="3657600"/>
            <a:ext cx="381240" cy="459720"/>
            <a:chOff x="1260360" y="3657600"/>
            <a:chExt cx="381240" cy="459720"/>
          </a:xfrm>
        </p:grpSpPr>
        <p:sp>
          <p:nvSpPr>
            <p:cNvPr id="801" name=""/>
            <p:cNvSpPr/>
            <p:nvPr/>
          </p:nvSpPr>
          <p:spPr>
            <a:xfrm>
              <a:off x="1260360" y="370836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269720" y="3657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1447920" y="3124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3152880" y="2462040"/>
            <a:ext cx="0" cy="4105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780200" y="620244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1     Laye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1609560" y="2593440"/>
            <a:ext cx="4335480" cy="328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1609560" y="3611160"/>
            <a:ext cx="3349800" cy="297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542960" y="4038480"/>
            <a:ext cx="2562480" cy="1084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621440" y="40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89040" y="2467080"/>
            <a:ext cx="1479600" cy="1920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069000" y="3940200"/>
            <a:ext cx="174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een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010040" y="4352760"/>
            <a:ext cx="51768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164280" y="2556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858000" y="2784600"/>
            <a:ext cx="75420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933600" y="2556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467480" y="377352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996680" y="3622680"/>
            <a:ext cx="4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53080" y="2462040"/>
            <a:ext cx="381240" cy="381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570360" y="240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8534520" y="442440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8548560" y="438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5866920" y="2784600"/>
            <a:ext cx="75420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543800" y="344484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553160" y="3394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848720" y="3774960"/>
            <a:ext cx="75384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562720" y="344484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572080" y="3394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543800" y="442440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55820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740720" y="3819600"/>
            <a:ext cx="0" cy="609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273440" y="4746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Courier New"/>
              </a:rPr>
              <a:t>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8413200" y="4762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Courier New"/>
              </a:rPr>
              <a:t>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899320" y="3762360"/>
            <a:ext cx="75384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013440" y="35971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572160" y="4394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64240" y="4441680"/>
            <a:ext cx="381240" cy="381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580080" y="439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138000" y="4700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Courier New"/>
              </a:rPr>
              <a:t>g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4870080" y="3757680"/>
            <a:ext cx="75420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599000" y="4400640"/>
            <a:ext cx="380880" cy="459720"/>
            <a:chOff x="4599000" y="4400640"/>
            <a:chExt cx="380880" cy="459720"/>
          </a:xfrm>
        </p:grpSpPr>
        <p:sp>
          <p:nvSpPr>
            <p:cNvPr id="841" name=""/>
            <p:cNvSpPr/>
            <p:nvPr/>
          </p:nvSpPr>
          <p:spPr>
            <a:xfrm>
              <a:off x="4599000" y="445140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608000" y="440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5212440" y="3573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514040" y="47703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046120" y="4619520"/>
            <a:ext cx="2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5581800" y="5381640"/>
            <a:ext cx="380880" cy="457200"/>
            <a:chOff x="5581800" y="5381640"/>
            <a:chExt cx="380880" cy="457200"/>
          </a:xfrm>
        </p:grpSpPr>
        <p:sp>
          <p:nvSpPr>
            <p:cNvPr id="847" name=""/>
            <p:cNvSpPr/>
            <p:nvPr/>
          </p:nvSpPr>
          <p:spPr>
            <a:xfrm>
              <a:off x="5581800" y="542124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596200" y="5381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4896000" y="4772160"/>
            <a:ext cx="75384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4591080" y="5381640"/>
            <a:ext cx="380880" cy="457200"/>
            <a:chOff x="4591080" y="5381640"/>
            <a:chExt cx="380880" cy="457200"/>
          </a:xfrm>
        </p:grpSpPr>
        <p:sp>
          <p:nvSpPr>
            <p:cNvPr id="851" name=""/>
            <p:cNvSpPr/>
            <p:nvPr/>
          </p:nvSpPr>
          <p:spPr>
            <a:xfrm>
              <a:off x="4591080" y="542124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605480" y="5381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4788000" y="481644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97240" y="57434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332680" y="57434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0EDD-1882-4EC0-BB0F-17421093FF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5575320" y="2075040"/>
            <a:ext cx="1783800" cy="4703760"/>
            <a:chOff x="5575320" y="2075040"/>
            <a:chExt cx="1783800" cy="4703760"/>
          </a:xfrm>
        </p:grpSpPr>
        <p:grpSp>
          <p:nvGrpSpPr>
            <p:cNvPr id="858" name=""/>
            <p:cNvGrpSpPr/>
            <p:nvPr/>
          </p:nvGrpSpPr>
          <p:grpSpPr>
            <a:xfrm>
              <a:off x="5575320" y="2075040"/>
              <a:ext cx="473040" cy="4703760"/>
              <a:chOff x="5575320" y="2075040"/>
              <a:chExt cx="473040" cy="4703760"/>
            </a:xfrm>
          </p:grpSpPr>
          <p:sp>
            <p:nvSpPr>
              <p:cNvPr id="859" name=""/>
              <p:cNvSpPr/>
              <p:nvPr/>
            </p:nvSpPr>
            <p:spPr>
              <a:xfrm>
                <a:off x="5575320" y="2075040"/>
                <a:ext cx="473040" cy="4703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3512880" y="4194000"/>
                <a:ext cx="459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Layer 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rot="16200000">
              <a:off x="5469480" y="4053600"/>
              <a:ext cx="33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048360" y="3882600"/>
              <a:ext cx="8859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046920" y="4375080"/>
              <a:ext cx="91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54840" y="4527720"/>
              <a:ext cx="8856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045120" y="4714920"/>
              <a:ext cx="91908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6051600" y="3389400"/>
              <a:ext cx="91908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6040440" y="2919240"/>
              <a:ext cx="920880" cy="78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046920" y="4979880"/>
              <a:ext cx="920520" cy="78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1066680" y="1709640"/>
            <a:ext cx="5518440" cy="1795680"/>
            <a:chOff x="1066680" y="1709640"/>
            <a:chExt cx="5518440" cy="1795680"/>
          </a:xfrm>
        </p:grpSpPr>
        <p:sp>
          <p:nvSpPr>
            <p:cNvPr id="870" name=""/>
            <p:cNvSpPr/>
            <p:nvPr/>
          </p:nvSpPr>
          <p:spPr>
            <a:xfrm flipV="1">
              <a:off x="1066680" y="1709640"/>
              <a:ext cx="5518440" cy="1795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20410800">
              <a:off x="1668600" y="270144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5573880" y="2070000"/>
            <a:ext cx="474480" cy="4709880"/>
            <a:chOff x="5573880" y="2070000"/>
            <a:chExt cx="474480" cy="4709880"/>
          </a:xfrm>
        </p:grpSpPr>
        <p:grpSp>
          <p:nvGrpSpPr>
            <p:cNvPr id="873" name=""/>
            <p:cNvGrpSpPr/>
            <p:nvPr/>
          </p:nvGrpSpPr>
          <p:grpSpPr>
            <a:xfrm>
              <a:off x="5573880" y="2070000"/>
              <a:ext cx="474480" cy="4709880"/>
              <a:chOff x="5573880" y="2070000"/>
              <a:chExt cx="474480" cy="4709880"/>
            </a:xfrm>
          </p:grpSpPr>
          <p:sp>
            <p:nvSpPr>
              <p:cNvPr id="874" name=""/>
              <p:cNvSpPr/>
              <p:nvPr/>
            </p:nvSpPr>
            <p:spPr>
              <a:xfrm>
                <a:off x="5575320" y="207000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575320" y="249840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575320" y="292716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575320" y="335592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575320" y="378612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575320" y="421452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575320" y="464328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575320" y="507204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573880" y="549252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573880" y="592128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573880" y="634968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 rot="16200000">
              <a:off x="3514320" y="4195800"/>
              <a:ext cx="45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yer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4156200" y="2092320"/>
            <a:ext cx="1414440" cy="4590720"/>
            <a:chOff x="4156200" y="2092320"/>
            <a:chExt cx="1414440" cy="4590720"/>
          </a:xfrm>
        </p:grpSpPr>
        <p:sp>
          <p:nvSpPr>
            <p:cNvPr id="887" name=""/>
            <p:cNvSpPr/>
            <p:nvPr/>
          </p:nvSpPr>
          <p:spPr>
            <a:xfrm flipV="1">
              <a:off x="4648320" y="4060440"/>
              <a:ext cx="8856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46520" y="4552920"/>
              <a:ext cx="91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54440" y="4705200"/>
              <a:ext cx="8859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645080" y="4892400"/>
              <a:ext cx="91908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651200" y="3566520"/>
              <a:ext cx="91944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640400" y="3097080"/>
              <a:ext cx="920520" cy="78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46520" y="5157720"/>
              <a:ext cx="920880" cy="78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4156200" y="2092320"/>
              <a:ext cx="489960" cy="4590720"/>
              <a:chOff x="4156200" y="2092320"/>
              <a:chExt cx="489960" cy="4590720"/>
            </a:xfrm>
          </p:grpSpPr>
          <p:sp>
            <p:nvSpPr>
              <p:cNvPr id="895" name=""/>
              <p:cNvSpPr/>
              <p:nvPr/>
            </p:nvSpPr>
            <p:spPr>
              <a:xfrm>
                <a:off x="4171680" y="2898720"/>
                <a:ext cx="474480" cy="2997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6200000">
                <a:off x="2090520" y="4157640"/>
                <a:ext cx="45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Layer 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7" name=""/>
          <p:cNvGrpSpPr/>
          <p:nvPr/>
        </p:nvGrpSpPr>
        <p:grpSpPr>
          <a:xfrm>
            <a:off x="4157640" y="2091960"/>
            <a:ext cx="488880" cy="4591080"/>
            <a:chOff x="4157640" y="2091960"/>
            <a:chExt cx="488880" cy="4591080"/>
          </a:xfrm>
        </p:grpSpPr>
        <p:grpSp>
          <p:nvGrpSpPr>
            <p:cNvPr id="898" name=""/>
            <p:cNvGrpSpPr/>
            <p:nvPr/>
          </p:nvGrpSpPr>
          <p:grpSpPr>
            <a:xfrm>
              <a:off x="4171680" y="2900160"/>
              <a:ext cx="474840" cy="2995920"/>
              <a:chOff x="4171680" y="2900160"/>
              <a:chExt cx="474840" cy="2995920"/>
            </a:xfrm>
          </p:grpSpPr>
          <p:sp>
            <p:nvSpPr>
              <p:cNvPr id="899" name=""/>
              <p:cNvSpPr/>
              <p:nvPr/>
            </p:nvSpPr>
            <p:spPr>
              <a:xfrm>
                <a:off x="4173480" y="2900160"/>
                <a:ext cx="473040" cy="430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173480" y="332892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173480" y="375912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173480" y="418788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173480" y="461628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173480" y="504504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171680" y="5465880"/>
                <a:ext cx="47340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 rot="16200000">
              <a:off x="2091960" y="4157640"/>
              <a:ext cx="45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yer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763720" y="2103120"/>
            <a:ext cx="1438560" cy="4591080"/>
            <a:chOff x="2763720" y="2103120"/>
            <a:chExt cx="1438560" cy="4591080"/>
          </a:xfrm>
        </p:grpSpPr>
        <p:sp>
          <p:nvSpPr>
            <p:cNvPr id="908" name=""/>
            <p:cNvSpPr/>
            <p:nvPr/>
          </p:nvSpPr>
          <p:spPr>
            <a:xfrm flipV="1">
              <a:off x="3263760" y="3960720"/>
              <a:ext cx="8859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262320" y="4453200"/>
              <a:ext cx="91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86080" y="4605480"/>
              <a:ext cx="8859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260880" y="4792680"/>
              <a:ext cx="91908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3282840" y="3466800"/>
              <a:ext cx="91944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2763720" y="2103120"/>
              <a:ext cx="496800" cy="4591080"/>
              <a:chOff x="2763720" y="2103120"/>
              <a:chExt cx="496800" cy="4591080"/>
            </a:xfrm>
          </p:grpSpPr>
          <p:sp>
            <p:nvSpPr>
              <p:cNvPr id="914" name=""/>
              <p:cNvSpPr/>
              <p:nvPr/>
            </p:nvSpPr>
            <p:spPr>
              <a:xfrm>
                <a:off x="2786040" y="3778200"/>
                <a:ext cx="474480" cy="12891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6200000">
                <a:off x="698040" y="4168800"/>
                <a:ext cx="459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Layer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"/>
          <p:cNvGrpSpPr/>
          <p:nvPr/>
        </p:nvGrpSpPr>
        <p:grpSpPr>
          <a:xfrm>
            <a:off x="2763720" y="2104560"/>
            <a:ext cx="492120" cy="4591080"/>
            <a:chOff x="2763720" y="2104560"/>
            <a:chExt cx="492120" cy="4591080"/>
          </a:xfrm>
        </p:grpSpPr>
        <p:sp>
          <p:nvSpPr>
            <p:cNvPr id="917" name=""/>
            <p:cNvSpPr/>
            <p:nvPr/>
          </p:nvSpPr>
          <p:spPr>
            <a:xfrm>
              <a:off x="2782800" y="3778200"/>
              <a:ext cx="473040" cy="430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82800" y="4206600"/>
              <a:ext cx="473040" cy="430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82800" y="4635360"/>
              <a:ext cx="473040" cy="430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16200000">
              <a:off x="698040" y="4170240"/>
              <a:ext cx="45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yer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1415880" y="2075040"/>
            <a:ext cx="1397160" cy="4590720"/>
            <a:chOff x="1415880" y="2075040"/>
            <a:chExt cx="1397160" cy="4590720"/>
          </a:xfrm>
        </p:grpSpPr>
        <p:sp>
          <p:nvSpPr>
            <p:cNvPr id="922" name=""/>
            <p:cNvSpPr/>
            <p:nvPr/>
          </p:nvSpPr>
          <p:spPr>
            <a:xfrm flipV="1">
              <a:off x="1895400" y="3916080"/>
              <a:ext cx="8859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93960" y="4408200"/>
              <a:ext cx="91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917720" y="4560840"/>
              <a:ext cx="8859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1415880" y="2075040"/>
              <a:ext cx="495360" cy="4590720"/>
              <a:chOff x="1415880" y="2075040"/>
              <a:chExt cx="495360" cy="4590720"/>
            </a:xfrm>
          </p:grpSpPr>
          <p:sp>
            <p:nvSpPr>
              <p:cNvPr id="926" name=""/>
              <p:cNvSpPr/>
              <p:nvPr/>
            </p:nvSpPr>
            <p:spPr>
              <a:xfrm>
                <a:off x="1438200" y="4203720"/>
                <a:ext cx="473040" cy="429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16200000">
                <a:off x="-649440" y="4140360"/>
                <a:ext cx="45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Layer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8" name=""/>
          <p:cNvSpPr/>
          <p:nvPr/>
        </p:nvSpPr>
        <p:spPr>
          <a:xfrm>
            <a:off x="1442880" y="4202280"/>
            <a:ext cx="473400" cy="4302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774880" y="4632480"/>
            <a:ext cx="473040" cy="4302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168800" y="5040360"/>
            <a:ext cx="473040" cy="4302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576760" y="5065560"/>
            <a:ext cx="473040" cy="4302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26EC-F2AF-448F-A20F-4EB90F3D1F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8885160" y="1600200"/>
            <a:ext cx="176400" cy="1706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erformance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236600" y="145404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layers is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(small) space pe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ranching factor per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hy, shallow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KB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2 bit pointers + 2 bytes for keys/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1000+ pointers per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3 layers for 1 billion pointers to data (1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layers are tiny (10 megabytes), in 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layer 0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5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Usually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n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index I/O per key look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7380360" y="2424240"/>
            <a:ext cx="14292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524720" y="2533680"/>
            <a:ext cx="2905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542360" y="2500200"/>
            <a:ext cx="28872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7524720" y="2390400"/>
            <a:ext cx="308160" cy="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7542360" y="2226960"/>
            <a:ext cx="29844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808760" y="2189160"/>
            <a:ext cx="154080" cy="573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962840" y="2541600"/>
            <a:ext cx="40788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983360" y="2508120"/>
            <a:ext cx="378000" cy="5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7962840" y="2398320"/>
            <a:ext cx="374760" cy="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983360" y="2224080"/>
            <a:ext cx="3574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7986600" y="2136240"/>
            <a:ext cx="36216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966080" y="2611440"/>
            <a:ext cx="38736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966080" y="2687760"/>
            <a:ext cx="39060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7966080" y="2004480"/>
            <a:ext cx="378000" cy="26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8346960" y="1967040"/>
            <a:ext cx="154080" cy="106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rot="16200000">
            <a:off x="8693640" y="232524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501040" y="2540160"/>
            <a:ext cx="40788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8521560" y="2506680"/>
            <a:ext cx="378000" cy="5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8501040" y="2396880"/>
            <a:ext cx="374760" cy="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8521560" y="2222280"/>
            <a:ext cx="357480" cy="20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8524800" y="2134800"/>
            <a:ext cx="36216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8504280" y="2610000"/>
            <a:ext cx="38736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8504280" y="2685960"/>
            <a:ext cx="390600" cy="27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8504280" y="2003400"/>
            <a:ext cx="377640" cy="26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8504280" y="1806480"/>
            <a:ext cx="34272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504280" y="2852640"/>
            <a:ext cx="353880" cy="32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E41A-78A6-4E37-BEE9-234AEA4E0A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752040" y="99720"/>
            <a:ext cx="800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Find publications by co-author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203040" y="1754280"/>
          <a:ext cx="874080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1754280"/>
                    <a:ext cx="874080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4" name=""/>
          <p:cNvSpPr/>
          <p:nvPr/>
        </p:nvSpPr>
        <p:spPr>
          <a:xfrm>
            <a:off x="1773360" y="5181480"/>
            <a:ext cx="6939000" cy="10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57720" y="3762360"/>
            <a:ext cx="1917720" cy="1978560"/>
            <a:chOff x="5157720" y="3762360"/>
            <a:chExt cx="1917720" cy="1978560"/>
          </a:xfrm>
        </p:grpSpPr>
        <p:sp>
          <p:nvSpPr>
            <p:cNvPr id="966" name=""/>
            <p:cNvSpPr/>
            <p:nvPr/>
          </p:nvSpPr>
          <p:spPr>
            <a:xfrm>
              <a:off x="5157720" y="5037120"/>
              <a:ext cx="1917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DBMS STOR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354640" y="3762360"/>
              <a:ext cx="147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.5 :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521160" y="4214880"/>
            <a:ext cx="1917720" cy="1830960"/>
            <a:chOff x="3521160" y="4214880"/>
            <a:chExt cx="1917720" cy="1830960"/>
          </a:xfrm>
        </p:grpSpPr>
        <p:sp>
          <p:nvSpPr>
            <p:cNvPr id="969" name=""/>
            <p:cNvSpPr/>
            <p:nvPr/>
          </p:nvSpPr>
          <p:spPr>
            <a:xfrm>
              <a:off x="3521160" y="5037120"/>
              <a:ext cx="1917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dex Fabric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aw Path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718080" y="4214880"/>
              <a:ext cx="147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5 :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1884240" y="4552920"/>
            <a:ext cx="1917720" cy="1492920"/>
            <a:chOff x="1884240" y="4552920"/>
            <a:chExt cx="1917720" cy="1492920"/>
          </a:xfrm>
        </p:grpSpPr>
        <p:sp>
          <p:nvSpPr>
            <p:cNvPr id="972" name=""/>
            <p:cNvSpPr/>
            <p:nvPr/>
          </p:nvSpPr>
          <p:spPr>
            <a:xfrm>
              <a:off x="1884240" y="5037120"/>
              <a:ext cx="1917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dex Fabric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fined Path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1160" y="4552920"/>
              <a:ext cx="147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5 :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6730920" y="5037120"/>
            <a:ext cx="191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DBMS Edg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602520" y="134928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000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260A-942A-45EB-92EE-4F275F6CE5F1}" type="slidenum">
              <a:t>18</a:t>
            </a:fld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3520" y="88560"/>
            <a:ext cx="805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Find publications by co-author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331920" y="1749600"/>
            <a:ext cx="8520120" cy="4752720"/>
            <a:chOff x="331920" y="1749600"/>
            <a:chExt cx="8520120" cy="4752720"/>
          </a:xfrm>
        </p:grpSpPr>
        <p:graphicFrame>
          <p:nvGraphicFramePr>
            <p:cNvPr id="978" name=""/>
            <p:cNvGraphicFramePr/>
            <p:nvPr/>
          </p:nvGraphicFramePr>
          <p:xfrm>
            <a:off x="331920" y="1749600"/>
            <a:ext cx="8520120" cy="4752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1920" y="1749600"/>
                      <a:ext cx="8520120" cy="47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0" name=""/>
            <p:cNvSpPr/>
            <p:nvPr/>
          </p:nvSpPr>
          <p:spPr>
            <a:xfrm>
              <a:off x="2039760" y="5047920"/>
              <a:ext cx="6564600" cy="66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68960" y="4903560"/>
              <a:ext cx="1917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DBMS STOR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787920" y="4903560"/>
              <a:ext cx="1917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dex Fabric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aw Path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51000" y="4903560"/>
              <a:ext cx="1917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dex Fabric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fined Path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797520" y="4903560"/>
              <a:ext cx="1917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DBMS Edge mapp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477040" y="3428640"/>
              <a:ext cx="147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.1 :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940200" y="3992400"/>
              <a:ext cx="147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 :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59160" y="4452840"/>
              <a:ext cx="147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0 :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3602520" y="134928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000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7FD3-DE44-416E-A4DC-3FE7BBCCDD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6960" y="1130400"/>
            <a:ext cx="802332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relationships can be comple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ical views: XML, LDAP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structure &amp; dynamic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ach:Encode paths as tagged str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w” paths encod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ined” paths accelerate look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x strings in a highly-compact struc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ve on top of, next to or inside DB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, Scalability + Adap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rages mature DBMS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ADB4-E540-4DC3-9916-5C496B11E1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x arbitrary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de as designated str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ships and structures can b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x many data access pa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ed for DTD or pre-defined sch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x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data structure for long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key look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designato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F166-BDAC-4650-9059-46C2254953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For more inform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236240" y="1453680"/>
            <a:ext cx="65898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@rightorder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rightorder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5543640" y="4481640"/>
          <a:ext cx="216360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3640" y="4481640"/>
                    <a:ext cx="2163600" cy="1218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95" name=""/>
          <p:cNvGraphicFramePr/>
          <p:nvPr/>
        </p:nvGraphicFramePr>
        <p:xfrm>
          <a:off x="1576440" y="4481640"/>
          <a:ext cx="2163600" cy="11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6440" y="4481640"/>
                    <a:ext cx="2163600" cy="1191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18B0-8509-4095-AD2D-5A43E03E0F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aw paths w/Designator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0880" y="2397240"/>
            <a:ext cx="3362400" cy="3051720"/>
            <a:chOff x="380880" y="2397240"/>
            <a:chExt cx="3362400" cy="3051720"/>
          </a:xfrm>
        </p:grpSpPr>
        <p:sp>
          <p:nvSpPr>
            <p:cNvPr id="99" name=""/>
            <p:cNvSpPr/>
            <p:nvPr/>
          </p:nvSpPr>
          <p:spPr>
            <a:xfrm>
              <a:off x="988920" y="2397240"/>
              <a:ext cx="2754360" cy="1388880"/>
            </a:xfrm>
            <a:custGeom>
              <a:avLst/>
              <a:gdLst/>
              <a:ahLst/>
              <a:rect l="l" t="t" r="r" b="b"/>
              <a:pathLst>
                <a:path w="1007" h="875">
                  <a:moveTo>
                    <a:pt x="1007" y="0"/>
                  </a:moveTo>
                  <a:cubicBezTo>
                    <a:pt x="681" y="135"/>
                    <a:pt x="356" y="271"/>
                    <a:pt x="188" y="417"/>
                  </a:cubicBezTo>
                  <a:cubicBezTo>
                    <a:pt x="20" y="563"/>
                    <a:pt x="10" y="719"/>
                    <a:pt x="0" y="875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80880" y="5054400"/>
              <a:ext cx="1981440" cy="394560"/>
              <a:chOff x="380880" y="5054400"/>
              <a:chExt cx="1981440" cy="394560"/>
            </a:xfrm>
          </p:grpSpPr>
          <p:sp>
            <p:nvSpPr>
              <p:cNvPr id="101" name=""/>
              <p:cNvSpPr/>
              <p:nvPr/>
            </p:nvSpPr>
            <p:spPr>
              <a:xfrm>
                <a:off x="380880" y="5054400"/>
                <a:ext cx="198144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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ABC Corp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47880" y="5074920"/>
                <a:ext cx="0" cy="374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380880" y="2529000"/>
            <a:ext cx="3648240" cy="3601080"/>
            <a:chOff x="380880" y="2529000"/>
            <a:chExt cx="3648240" cy="3601080"/>
          </a:xfrm>
        </p:grpSpPr>
        <p:sp>
          <p:nvSpPr>
            <p:cNvPr id="104" name=""/>
            <p:cNvSpPr/>
            <p:nvPr/>
          </p:nvSpPr>
          <p:spPr>
            <a:xfrm>
              <a:off x="2316240" y="2529000"/>
              <a:ext cx="1712880" cy="1277640"/>
            </a:xfrm>
            <a:custGeom>
              <a:avLst/>
              <a:gdLst/>
              <a:ahLst/>
              <a:rect l="l" t="t" r="r" b="b"/>
              <a:pathLst>
                <a:path w="621" h="805">
                  <a:moveTo>
                    <a:pt x="621" y="0"/>
                  </a:moveTo>
                  <a:cubicBezTo>
                    <a:pt x="390" y="113"/>
                    <a:pt x="160" y="227"/>
                    <a:pt x="80" y="361"/>
                  </a:cubicBezTo>
                  <a:cubicBezTo>
                    <a:pt x="0" y="495"/>
                    <a:pt x="133" y="732"/>
                    <a:pt x="143" y="80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80880" y="5740200"/>
              <a:ext cx="2438640" cy="389880"/>
              <a:chOff x="380880" y="5740200"/>
              <a:chExt cx="2438640" cy="389880"/>
            </a:xfrm>
          </p:grpSpPr>
          <p:sp>
            <p:nvSpPr>
              <p:cNvPr id="106" name=""/>
              <p:cNvSpPr/>
              <p:nvPr/>
            </p:nvSpPr>
            <p:spPr>
              <a:xfrm>
                <a:off x="380880" y="5740200"/>
                <a:ext cx="243864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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123 ABC Wa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46080" y="5755680"/>
                <a:ext cx="0" cy="37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2971800" y="2484360"/>
            <a:ext cx="2209680" cy="3212640"/>
            <a:chOff x="2971800" y="2484360"/>
            <a:chExt cx="2209680" cy="3212640"/>
          </a:xfrm>
        </p:grpSpPr>
        <p:sp>
          <p:nvSpPr>
            <p:cNvPr id="109" name=""/>
            <p:cNvSpPr/>
            <p:nvPr/>
          </p:nvSpPr>
          <p:spPr>
            <a:xfrm flipH="1">
              <a:off x="4777560" y="2484360"/>
              <a:ext cx="374760" cy="1266840"/>
            </a:xfrm>
            <a:custGeom>
              <a:avLst/>
              <a:gdLst/>
              <a:ahLst/>
              <a:rect l="l" t="t" r="r" b="b"/>
              <a:pathLst>
                <a:path w="236" h="764">
                  <a:moveTo>
                    <a:pt x="236" y="0"/>
                  </a:moveTo>
                  <a:cubicBezTo>
                    <a:pt x="230" y="101"/>
                    <a:pt x="225" y="203"/>
                    <a:pt x="201" y="271"/>
                  </a:cubicBezTo>
                  <a:cubicBezTo>
                    <a:pt x="177" y="339"/>
                    <a:pt x="123" y="328"/>
                    <a:pt x="90" y="410"/>
                  </a:cubicBezTo>
                  <a:cubicBezTo>
                    <a:pt x="57" y="492"/>
                    <a:pt x="28" y="628"/>
                    <a:pt x="0" y="764"/>
                  </a:cubicBezTo>
                </a:path>
              </a:pathLst>
            </a:custGeom>
            <a:noFill/>
            <a:ln w="2844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971800" y="5054400"/>
              <a:ext cx="2209680" cy="642600"/>
              <a:chOff x="2971800" y="5054400"/>
              <a:chExt cx="2209680" cy="642600"/>
            </a:xfrm>
          </p:grpSpPr>
          <p:sp>
            <p:nvSpPr>
              <p:cNvPr id="111" name=""/>
              <p:cNvSpPr/>
              <p:nvPr/>
            </p:nvSpPr>
            <p:spPr>
              <a:xfrm>
                <a:off x="2971800" y="5054400"/>
                <a:ext cx="2209680" cy="642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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17 Main S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513240" y="5062320"/>
                <a:ext cx="0" cy="374760"/>
              </a:xfrm>
              <a:prstGeom prst="line">
                <a:avLst/>
              </a:prstGeom>
              <a:ln w="284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2971800" y="2330280"/>
            <a:ext cx="5943600" cy="3800520"/>
            <a:chOff x="2971800" y="2330280"/>
            <a:chExt cx="5943600" cy="3800520"/>
          </a:xfrm>
        </p:grpSpPr>
        <p:grpSp>
          <p:nvGrpSpPr>
            <p:cNvPr id="114" name=""/>
            <p:cNvGrpSpPr/>
            <p:nvPr/>
          </p:nvGrpSpPr>
          <p:grpSpPr>
            <a:xfrm>
              <a:off x="2971800" y="2475000"/>
              <a:ext cx="2209680" cy="3655800"/>
              <a:chOff x="2971800" y="2475000"/>
              <a:chExt cx="2209680" cy="3655800"/>
            </a:xfrm>
          </p:grpSpPr>
          <p:sp>
            <p:nvSpPr>
              <p:cNvPr id="115" name=""/>
              <p:cNvSpPr/>
              <p:nvPr/>
            </p:nvSpPr>
            <p:spPr>
              <a:xfrm>
                <a:off x="3930480" y="2475000"/>
                <a:ext cx="374760" cy="1288800"/>
              </a:xfrm>
              <a:custGeom>
                <a:avLst/>
                <a:gdLst/>
                <a:ahLst/>
                <a:rect l="l" t="t" r="r" b="b"/>
                <a:pathLst>
                  <a:path w="236" h="764">
                    <a:moveTo>
                      <a:pt x="236" y="0"/>
                    </a:moveTo>
                    <a:cubicBezTo>
                      <a:pt x="230" y="101"/>
                      <a:pt x="225" y="203"/>
                      <a:pt x="201" y="271"/>
                    </a:cubicBezTo>
                    <a:cubicBezTo>
                      <a:pt x="177" y="339"/>
                      <a:pt x="123" y="328"/>
                      <a:pt x="90" y="410"/>
                    </a:cubicBezTo>
                    <a:cubicBezTo>
                      <a:pt x="57" y="492"/>
                      <a:pt x="28" y="628"/>
                      <a:pt x="0" y="764"/>
                    </a:cubicBezTo>
                  </a:path>
                </a:pathLst>
              </a:custGeom>
              <a:noFill/>
              <a:ln w="2844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2971800" y="5740200"/>
                <a:ext cx="2209680" cy="390600"/>
                <a:chOff x="2971800" y="5740200"/>
                <a:chExt cx="2209680" cy="3906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971800" y="5740200"/>
                  <a:ext cx="2209680" cy="368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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</a:t>
                  </a:r>
                  <a:r>
                    <a:rPr b="1" lang="en-US" sz="1800" spc="-1" strike="noStrike">
                      <a:solidFill>
                        <a:srgbClr val="ff0000"/>
                      </a:solidFill>
                      <a:latin typeface="Courier New"/>
                    </a:rPr>
                    <a:t>Goods Inc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513240" y="5756040"/>
                  <a:ext cx="0" cy="37476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" name=""/>
            <p:cNvGrpSpPr/>
            <p:nvPr/>
          </p:nvGrpSpPr>
          <p:grpSpPr>
            <a:xfrm>
              <a:off x="4932360" y="2454120"/>
              <a:ext cx="2230560" cy="2994120"/>
              <a:chOff x="4932360" y="2454120"/>
              <a:chExt cx="2230560" cy="2994120"/>
            </a:xfrm>
          </p:grpSpPr>
          <p:sp>
            <p:nvSpPr>
              <p:cNvPr id="120" name=""/>
              <p:cNvSpPr/>
              <p:nvPr/>
            </p:nvSpPr>
            <p:spPr>
              <a:xfrm>
                <a:off x="4932360" y="2454120"/>
                <a:ext cx="1731960" cy="1341360"/>
              </a:xfrm>
              <a:custGeom>
                <a:avLst/>
                <a:gdLst/>
                <a:ahLst/>
                <a:rect l="l" t="t" r="r" b="b"/>
                <a:pathLst>
                  <a:path w="994" h="797">
                    <a:moveTo>
                      <a:pt x="0" y="0"/>
                    </a:moveTo>
                    <a:cubicBezTo>
                      <a:pt x="379" y="112"/>
                      <a:pt x="734" y="221"/>
                      <a:pt x="864" y="354"/>
                    </a:cubicBezTo>
                    <a:cubicBezTo>
                      <a:pt x="994" y="487"/>
                      <a:pt x="797" y="705"/>
                      <a:pt x="779" y="797"/>
                    </a:cubicBezTo>
                  </a:path>
                </a:pathLst>
              </a:custGeom>
              <a:noFill/>
              <a:ln w="28440">
                <a:solidFill>
                  <a:srgbClr val="99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5410080" y="5054400"/>
                <a:ext cx="1752840" cy="393840"/>
                <a:chOff x="5410080" y="5054400"/>
                <a:chExt cx="1752840" cy="3938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5410080" y="5054400"/>
                  <a:ext cx="1752840" cy="368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99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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1" lang="en-US" sz="1800" spc="-1" strike="noStrike">
                      <a:solidFill>
                        <a:srgbClr val="ff0000"/>
                      </a:solidFill>
                      <a:latin typeface="Courier New"/>
                    </a:rPr>
                    <a:t>widge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59440" y="5073480"/>
                  <a:ext cx="0" cy="374760"/>
                </a:xfrm>
                <a:prstGeom prst="line">
                  <a:avLst/>
                </a:prstGeom>
                <a:ln w="38160">
                  <a:solidFill>
                    <a:srgbClr val="99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5029200" y="2397240"/>
              <a:ext cx="2343240" cy="3732840"/>
              <a:chOff x="5029200" y="2397240"/>
              <a:chExt cx="2343240" cy="3732840"/>
            </a:xfrm>
          </p:grpSpPr>
          <p:sp>
            <p:nvSpPr>
              <p:cNvPr id="125" name=""/>
              <p:cNvSpPr/>
              <p:nvPr/>
            </p:nvSpPr>
            <p:spPr>
              <a:xfrm>
                <a:off x="5029200" y="2397240"/>
                <a:ext cx="2343240" cy="1465200"/>
              </a:xfrm>
              <a:custGeom>
                <a:avLst/>
                <a:gdLst/>
                <a:ahLst/>
                <a:rect l="l" t="t" r="r" b="b"/>
                <a:pathLst>
                  <a:path w="1010" h="882">
                    <a:moveTo>
                      <a:pt x="0" y="0"/>
                    </a:moveTo>
                    <a:cubicBezTo>
                      <a:pt x="342" y="103"/>
                      <a:pt x="684" y="207"/>
                      <a:pt x="847" y="354"/>
                    </a:cubicBezTo>
                    <a:cubicBezTo>
                      <a:pt x="1010" y="501"/>
                      <a:pt x="994" y="691"/>
                      <a:pt x="979" y="882"/>
                    </a:cubicBezTo>
                  </a:path>
                </a:pathLst>
              </a:custGeom>
              <a:noFill/>
              <a:ln w="28440">
                <a:solidFill>
                  <a:srgbClr val="ff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5410080" y="5740200"/>
                <a:ext cx="1752840" cy="389880"/>
                <a:chOff x="5410080" y="5740200"/>
                <a:chExt cx="1752840" cy="3898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410080" y="5740200"/>
                  <a:ext cx="1752840" cy="368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ff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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1" lang="en-US" sz="1800" spc="-1" strike="noStrike">
                      <a:solidFill>
                        <a:srgbClr val="ff0000"/>
                      </a:solidFill>
                      <a:latin typeface="Courier New"/>
                    </a:rPr>
                    <a:t>thing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935680" y="5755680"/>
                  <a:ext cx="0" cy="374400"/>
                </a:xfrm>
                <a:prstGeom prst="line">
                  <a:avLst/>
                </a:prstGeom>
                <a:ln w="38160">
                  <a:solidFill>
                    <a:srgbClr val="ff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5054760" y="2330280"/>
              <a:ext cx="3860640" cy="3117960"/>
              <a:chOff x="5054760" y="2330280"/>
              <a:chExt cx="3860640" cy="3117960"/>
            </a:xfrm>
          </p:grpSpPr>
          <p:sp>
            <p:nvSpPr>
              <p:cNvPr id="130" name=""/>
              <p:cNvSpPr/>
              <p:nvPr/>
            </p:nvSpPr>
            <p:spPr>
              <a:xfrm>
                <a:off x="5054760" y="2330280"/>
                <a:ext cx="3394080" cy="1467000"/>
              </a:xfrm>
              <a:custGeom>
                <a:avLst/>
                <a:gdLst/>
                <a:ahLst/>
                <a:rect l="l" t="t" r="r" b="b"/>
                <a:pathLst>
                  <a:path w="1340" h="882">
                    <a:moveTo>
                      <a:pt x="0" y="0"/>
                    </a:moveTo>
                    <a:cubicBezTo>
                      <a:pt x="398" y="97"/>
                      <a:pt x="797" y="194"/>
                      <a:pt x="1020" y="341"/>
                    </a:cubicBezTo>
                    <a:cubicBezTo>
                      <a:pt x="1243" y="488"/>
                      <a:pt x="1291" y="685"/>
                      <a:pt x="1340" y="882"/>
                    </a:cubicBezTo>
                  </a:path>
                </a:pathLst>
              </a:custGeom>
              <a:noFill/>
              <a:ln w="28440">
                <a:solidFill>
                  <a:srgbClr val="ff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7315200" y="5054400"/>
                <a:ext cx="1600200" cy="393840"/>
                <a:chOff x="7315200" y="5054400"/>
                <a:chExt cx="1600200" cy="393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315200" y="5054400"/>
                  <a:ext cx="1600200" cy="368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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1" lang="en-US" sz="1800" spc="-1" strike="noStrike">
                      <a:solidFill>
                        <a:srgbClr val="ff0000"/>
                      </a:solidFill>
                      <a:latin typeface="Courier New"/>
                    </a:rPr>
                    <a:t>job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842240" y="5073480"/>
                  <a:ext cx="0" cy="37476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4" name=""/>
          <p:cNvGrpSpPr/>
          <p:nvPr/>
        </p:nvGrpSpPr>
        <p:grpSpPr>
          <a:xfrm>
            <a:off x="463680" y="1382760"/>
            <a:ext cx="8399160" cy="3409200"/>
            <a:chOff x="463680" y="1382760"/>
            <a:chExt cx="8399160" cy="3409200"/>
          </a:xfrm>
        </p:grpSpPr>
        <p:sp>
          <p:nvSpPr>
            <p:cNvPr id="135" name=""/>
            <p:cNvSpPr/>
            <p:nvPr/>
          </p:nvSpPr>
          <p:spPr>
            <a:xfrm>
              <a:off x="3124080" y="1382760"/>
              <a:ext cx="2743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  <a:ea typeface="Times New Roman"/>
                </a:rPr>
                <a:t>Invoice as a t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08600" y="2198520"/>
              <a:ext cx="109044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vo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30440" y="3054240"/>
              <a:ext cx="70488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Buy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79960" y="3043080"/>
              <a:ext cx="73800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l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69160" y="3043080"/>
              <a:ext cx="957240" cy="3207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temli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9240" y="3787560"/>
              <a:ext cx="662040" cy="3412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25720" y="3822480"/>
              <a:ext cx="990360" cy="3304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18200" y="3843360"/>
              <a:ext cx="60660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3680" y="4271760"/>
              <a:ext cx="12412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ABC Cor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00080" y="4271760"/>
              <a:ext cx="1384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123 ABC W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84720" y="4273560"/>
              <a:ext cx="12474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Goods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35440" y="4271760"/>
              <a:ext cx="10224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17 Main S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29200" y="4271760"/>
              <a:ext cx="8794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wid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19920" y="4271760"/>
              <a:ext cx="8809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thin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15400" y="4271760"/>
              <a:ext cx="8474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job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95560" y="413712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41641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19400" y="4174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95880" y="4174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31040" y="417024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5880" y="4174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10680" y="4164120"/>
              <a:ext cx="0" cy="1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206000" y="3365280"/>
              <a:ext cx="61452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52800" y="3365280"/>
              <a:ext cx="3632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995280" y="3363840"/>
              <a:ext cx="46044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7400" y="3375000"/>
              <a:ext cx="50616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436800" y="3321000"/>
              <a:ext cx="584280" cy="52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04280" y="3332160"/>
              <a:ext cx="80316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392960" y="3375000"/>
              <a:ext cx="1440" cy="4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000160" y="2449440"/>
              <a:ext cx="211608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51520" y="2438280"/>
              <a:ext cx="2233440" cy="59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552920" y="2523960"/>
              <a:ext cx="144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0200" y="3819600"/>
              <a:ext cx="662040" cy="3412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05200" y="3852720"/>
              <a:ext cx="99072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43840" y="3840120"/>
              <a:ext cx="60624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26280" y="3819600"/>
              <a:ext cx="60660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98600" y="2184480"/>
            <a:ext cx="7662600" cy="1996920"/>
            <a:chOff x="498600" y="2184480"/>
            <a:chExt cx="7662600" cy="1996920"/>
          </a:xfrm>
        </p:grpSpPr>
        <p:sp>
          <p:nvSpPr>
            <p:cNvPr id="172" name=""/>
            <p:cNvSpPr/>
            <p:nvPr/>
          </p:nvSpPr>
          <p:spPr>
            <a:xfrm>
              <a:off x="3760920" y="218448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79440" y="304164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8600" y="376848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11440" y="375912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36880" y="299880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7240" y="380196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98840" y="381312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46960" y="301932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75480" y="3790800"/>
              <a:ext cx="371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99320" y="380196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90040" y="3789360"/>
              <a:ext cx="371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2E03-DCD0-400F-9B2D-81819EB87C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fined path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36600" y="1454040"/>
            <a:ext cx="7772400" cy="3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 specific access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1043640" y="1989000"/>
            <a:ext cx="559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invoices where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old to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20600" y="3594240"/>
            <a:ext cx="66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invoices where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ught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Y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 Z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01520" y="5235480"/>
            <a:ext cx="81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invoices where a buyer bought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566720" y="2835360"/>
            <a:ext cx="1604880" cy="379440"/>
            <a:chOff x="1566720" y="2835360"/>
            <a:chExt cx="1604880" cy="379440"/>
          </a:xfrm>
        </p:grpSpPr>
        <p:sp>
          <p:nvSpPr>
            <p:cNvPr id="189" name=""/>
            <p:cNvSpPr/>
            <p:nvPr/>
          </p:nvSpPr>
          <p:spPr>
            <a:xfrm>
              <a:off x="1566720" y="2835360"/>
              <a:ext cx="16048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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05040" y="284004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19200" y="283860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57520" y="2549520"/>
            <a:ext cx="4740480" cy="950400"/>
            <a:chOff x="3557520" y="2549520"/>
            <a:chExt cx="4740480" cy="950400"/>
          </a:xfrm>
        </p:grpSpPr>
        <p:grpSp>
          <p:nvGrpSpPr>
            <p:cNvPr id="193" name=""/>
            <p:cNvGrpSpPr/>
            <p:nvPr/>
          </p:nvGrpSpPr>
          <p:grpSpPr>
            <a:xfrm>
              <a:off x="5097600" y="2549520"/>
              <a:ext cx="3200400" cy="379440"/>
              <a:chOff x="5097600" y="2549520"/>
              <a:chExt cx="3200400" cy="379440"/>
            </a:xfrm>
          </p:grpSpPr>
          <p:sp>
            <p:nvSpPr>
              <p:cNvPr id="194" name=""/>
              <p:cNvSpPr/>
              <p:nvPr/>
            </p:nvSpPr>
            <p:spPr>
              <a:xfrm>
                <a:off x="5097600" y="2549520"/>
                <a:ext cx="3200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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ABC Corp. Goods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35560" y="255420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99240" y="255276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097600" y="3121200"/>
              <a:ext cx="3200400" cy="378720"/>
              <a:chOff x="5097600" y="3121200"/>
              <a:chExt cx="3200400" cy="378720"/>
            </a:xfrm>
          </p:grpSpPr>
          <p:sp>
            <p:nvSpPr>
              <p:cNvPr id="198" name=""/>
              <p:cNvSpPr/>
              <p:nvPr/>
            </p:nvSpPr>
            <p:spPr>
              <a:xfrm>
                <a:off x="5097600" y="3121200"/>
                <a:ext cx="3200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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XYZ Corp. Acme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35560" y="3125880"/>
                <a:ext cx="0" cy="37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99240" y="312408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3557520" y="3025800"/>
              <a:ext cx="114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97200" y="4154400"/>
            <a:ext cx="4924080" cy="951120"/>
            <a:chOff x="3697200" y="4154400"/>
            <a:chExt cx="4924080" cy="951120"/>
          </a:xfrm>
        </p:grpSpPr>
        <p:grpSp>
          <p:nvGrpSpPr>
            <p:cNvPr id="203" name=""/>
            <p:cNvGrpSpPr/>
            <p:nvPr/>
          </p:nvGrpSpPr>
          <p:grpSpPr>
            <a:xfrm>
              <a:off x="4755960" y="4154400"/>
              <a:ext cx="3865320" cy="381240"/>
              <a:chOff x="4755960" y="4154400"/>
              <a:chExt cx="3865320" cy="381240"/>
            </a:xfrm>
          </p:grpSpPr>
          <p:sp>
            <p:nvSpPr>
              <p:cNvPr id="204" name=""/>
              <p:cNvSpPr/>
              <p:nvPr/>
            </p:nvSpPr>
            <p:spPr>
              <a:xfrm>
                <a:off x="4755960" y="4154400"/>
                <a:ext cx="386532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ABC Corp. jobber  widg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057640" y="415908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357600" y="415764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424640" y="416088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755960" y="4726080"/>
              <a:ext cx="3865320" cy="379440"/>
              <a:chOff x="4755960" y="4726080"/>
              <a:chExt cx="3865320" cy="379440"/>
            </a:xfrm>
          </p:grpSpPr>
          <p:sp>
            <p:nvSpPr>
              <p:cNvPr id="209" name=""/>
              <p:cNvSpPr/>
              <p:nvPr/>
            </p:nvSpPr>
            <p:spPr>
              <a:xfrm>
                <a:off x="4755960" y="4726080"/>
                <a:ext cx="386532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XYZ Corp. drill   hamm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057640" y="473076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57600" y="472932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391160" y="473076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3697200" y="4672080"/>
              <a:ext cx="83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452600" y="4448160"/>
            <a:ext cx="2054160" cy="376200"/>
            <a:chOff x="1452600" y="4448160"/>
            <a:chExt cx="2054160" cy="376200"/>
          </a:xfrm>
        </p:grpSpPr>
        <p:sp>
          <p:nvSpPr>
            <p:cNvPr id="215" name=""/>
            <p:cNvSpPr/>
            <p:nvPr/>
          </p:nvSpPr>
          <p:spPr>
            <a:xfrm>
              <a:off x="1452600" y="4451400"/>
              <a:ext cx="2054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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Y      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38440" y="44496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5000" y="44481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39960" y="44481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538280" y="5981760"/>
            <a:ext cx="2054160" cy="376200"/>
            <a:chOff x="1538280" y="5981760"/>
            <a:chExt cx="2054160" cy="376200"/>
          </a:xfrm>
        </p:grpSpPr>
        <p:sp>
          <p:nvSpPr>
            <p:cNvPr id="220" name=""/>
            <p:cNvSpPr/>
            <p:nvPr/>
          </p:nvSpPr>
          <p:spPr>
            <a:xfrm>
              <a:off x="1538280" y="5985000"/>
              <a:ext cx="2054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Y      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4120" y="59832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90680" y="59817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25640" y="59817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757680" y="5784840"/>
            <a:ext cx="4013280" cy="957240"/>
            <a:chOff x="3757680" y="5784840"/>
            <a:chExt cx="4013280" cy="957240"/>
          </a:xfrm>
        </p:grpSpPr>
        <p:grpSp>
          <p:nvGrpSpPr>
            <p:cNvPr id="225" name=""/>
            <p:cNvGrpSpPr/>
            <p:nvPr/>
          </p:nvGrpSpPr>
          <p:grpSpPr>
            <a:xfrm>
              <a:off x="4570560" y="5784840"/>
              <a:ext cx="3200400" cy="649080"/>
              <a:chOff x="4570560" y="5784840"/>
              <a:chExt cx="3200400" cy="649080"/>
            </a:xfrm>
          </p:grpSpPr>
          <p:sp>
            <p:nvSpPr>
              <p:cNvPr id="226" name=""/>
              <p:cNvSpPr/>
              <p:nvPr/>
            </p:nvSpPr>
            <p:spPr>
              <a:xfrm>
                <a:off x="4570560" y="5791320"/>
                <a:ext cx="3200400" cy="642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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jobber thingy widget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853160" y="578484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827680" y="579456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80240" y="579132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4570560" y="6362640"/>
              <a:ext cx="3200400" cy="379440"/>
              <a:chOff x="4570560" y="6362640"/>
              <a:chExt cx="3200400" cy="379440"/>
            </a:xfrm>
          </p:grpSpPr>
          <p:sp>
            <p:nvSpPr>
              <p:cNvPr id="231" name=""/>
              <p:cNvSpPr/>
              <p:nvPr/>
            </p:nvSpPr>
            <p:spPr>
              <a:xfrm>
                <a:off x="4570560" y="6362640"/>
                <a:ext cx="3200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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drill hammer nai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853160" y="636768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699160" y="636588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677280" y="636444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757680" y="618480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406A-6941-4916-A95F-911D107475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dex Fabric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index structure for long str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fast look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s long str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substrate for designated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Patricia 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compressed string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in index independent of string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, need to bal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E64E-A461-45BB-BCE0-838D94A021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492480" y="1668600"/>
            <a:ext cx="67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xes first point of difference between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70040" y="2616120"/>
            <a:ext cx="2009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6400" y="3375000"/>
            <a:ext cx="1643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579760" y="2690640"/>
            <a:ext cx="2112840" cy="1738440"/>
            <a:chOff x="2579760" y="2690640"/>
            <a:chExt cx="2112840" cy="1738440"/>
          </a:xfrm>
        </p:grpSpPr>
        <p:sp>
          <p:nvSpPr>
            <p:cNvPr id="243" name=""/>
            <p:cNvSpPr/>
            <p:nvPr/>
          </p:nvSpPr>
          <p:spPr>
            <a:xfrm>
              <a:off x="2579760" y="3430440"/>
              <a:ext cx="296640" cy="319320"/>
            </a:xfrm>
            <a:prstGeom prst="ellipse">
              <a:avLst/>
            </a:pr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44640" y="3000240"/>
              <a:ext cx="0" cy="4194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54360" y="3205080"/>
              <a:ext cx="1938240" cy="1224000"/>
            </a:xfrm>
            <a:custGeom>
              <a:avLst/>
              <a:gdLst/>
              <a:ahLst/>
              <a:rect l="l" t="t" r="r" b="b"/>
              <a:pathLst>
                <a:path w="1221" h="771">
                  <a:moveTo>
                    <a:pt x="0" y="0"/>
                  </a:moveTo>
                  <a:cubicBezTo>
                    <a:pt x="142" y="39"/>
                    <a:pt x="651" y="108"/>
                    <a:pt x="854" y="236"/>
                  </a:cubicBezTo>
                  <a:cubicBezTo>
                    <a:pt x="1057" y="364"/>
                    <a:pt x="1145" y="660"/>
                    <a:pt x="1221" y="771"/>
                  </a:cubicBezTo>
                </a:path>
              </a:pathLst>
            </a:custGeom>
            <a:noFill/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00280" y="2690640"/>
              <a:ext cx="297000" cy="319320"/>
            </a:xfrm>
            <a:prstGeom prst="ellipse">
              <a:avLst/>
            </a:pr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297240" y="2403360"/>
            <a:ext cx="5845320" cy="3799800"/>
            <a:chOff x="3297240" y="2403360"/>
            <a:chExt cx="5845320" cy="3799800"/>
          </a:xfrm>
        </p:grpSpPr>
        <p:sp>
          <p:nvSpPr>
            <p:cNvPr id="248" name=""/>
            <p:cNvSpPr/>
            <p:nvPr/>
          </p:nvSpPr>
          <p:spPr>
            <a:xfrm>
              <a:off x="6164280" y="25560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5800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33600" y="25560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7480" y="377352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96680" y="362268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553080" y="2403360"/>
              <a:ext cx="381240" cy="459720"/>
              <a:chOff x="6553080" y="2403360"/>
              <a:chExt cx="381240" cy="45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6553080" y="2462040"/>
                <a:ext cx="38124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70360" y="2403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8534520" y="4384800"/>
              <a:ext cx="380880" cy="457200"/>
              <a:chOff x="8534520" y="4384800"/>
              <a:chExt cx="38088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853452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54892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 flipH="1">
              <a:off x="586692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543800" y="3394080"/>
              <a:ext cx="380880" cy="459720"/>
              <a:chOff x="7543800" y="3394080"/>
              <a:chExt cx="380880" cy="459720"/>
            </a:xfrm>
          </p:grpSpPr>
          <p:sp>
            <p:nvSpPr>
              <p:cNvPr id="261" name=""/>
              <p:cNvSpPr/>
              <p:nvPr/>
            </p:nvSpPr>
            <p:spPr>
              <a:xfrm>
                <a:off x="754380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5280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7848720" y="37749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5562720" y="3394080"/>
              <a:ext cx="380880" cy="459720"/>
              <a:chOff x="5562720" y="3394080"/>
              <a:chExt cx="380880" cy="459720"/>
            </a:xfrm>
          </p:grpSpPr>
          <p:sp>
            <p:nvSpPr>
              <p:cNvPr id="265" name=""/>
              <p:cNvSpPr/>
              <p:nvPr/>
            </p:nvSpPr>
            <p:spPr>
              <a:xfrm>
                <a:off x="556272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57172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543800" y="4384800"/>
              <a:ext cx="380880" cy="457200"/>
              <a:chOff x="7543800" y="4384800"/>
              <a:chExt cx="380880" cy="457200"/>
            </a:xfrm>
          </p:grpSpPr>
          <p:sp>
            <p:nvSpPr>
              <p:cNvPr id="268" name=""/>
              <p:cNvSpPr/>
              <p:nvPr/>
            </p:nvSpPr>
            <p:spPr>
              <a:xfrm>
                <a:off x="754380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5820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740720" y="3819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73440" y="4746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413200" y="4762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9320" y="37623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13440" y="3597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72160" y="439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6564240" y="4392720"/>
              <a:ext cx="381240" cy="457200"/>
              <a:chOff x="6564240" y="4392720"/>
              <a:chExt cx="381240" cy="457200"/>
            </a:xfrm>
          </p:grpSpPr>
          <p:sp>
            <p:nvSpPr>
              <p:cNvPr id="277" name=""/>
              <p:cNvSpPr/>
              <p:nvPr/>
            </p:nvSpPr>
            <p:spPr>
              <a:xfrm>
                <a:off x="6564240" y="4441680"/>
                <a:ext cx="38124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580080" y="43927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6138000" y="4700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870080" y="375768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4599000" y="4400640"/>
              <a:ext cx="380880" cy="459720"/>
              <a:chOff x="4599000" y="4400640"/>
              <a:chExt cx="380880" cy="459720"/>
            </a:xfrm>
          </p:grpSpPr>
          <p:sp>
            <p:nvSpPr>
              <p:cNvPr id="282" name=""/>
              <p:cNvSpPr/>
              <p:nvPr/>
            </p:nvSpPr>
            <p:spPr>
              <a:xfrm>
                <a:off x="4599000" y="4451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08000" y="4400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5212440" y="3573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14040" y="4770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46120" y="4619520"/>
              <a:ext cx="2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581800" y="5381640"/>
              <a:ext cx="380880" cy="457200"/>
              <a:chOff x="5581800" y="5381640"/>
              <a:chExt cx="380880" cy="457200"/>
            </a:xfrm>
          </p:grpSpPr>
          <p:sp>
            <p:nvSpPr>
              <p:cNvPr id="288" name=""/>
              <p:cNvSpPr/>
              <p:nvPr/>
            </p:nvSpPr>
            <p:spPr>
              <a:xfrm>
                <a:off x="558180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59620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4896000" y="47721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591080" y="5381640"/>
              <a:ext cx="380880" cy="457200"/>
              <a:chOff x="4591080" y="5381640"/>
              <a:chExt cx="380880" cy="457200"/>
            </a:xfrm>
          </p:grpSpPr>
          <p:sp>
            <p:nvSpPr>
              <p:cNvPr id="292" name=""/>
              <p:cNvSpPr/>
              <p:nvPr/>
            </p:nvSpPr>
            <p:spPr>
              <a:xfrm>
                <a:off x="459108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0548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4788000" y="4816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97240" y="57434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be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32680" y="57434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17360" y="4564080"/>
            <a:ext cx="415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. R. Morrison. “PATRICIA – Practical algorithm to retrieve information coded in alphanumeric.” J. ACM, 15 (1968) pp. 514-5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DCB1-D27E-4966-8BC8-6F4F09C056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Multiple Hierarchical View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22200" y="1453680"/>
            <a:ext cx="86868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ore multiple permulations of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nimals and the plants they 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plants and the animals that ea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 as a new set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data once using “permutation record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935440" y="3606840"/>
            <a:ext cx="2271600" cy="461160"/>
            <a:chOff x="2935440" y="3606840"/>
            <a:chExt cx="2271600" cy="461160"/>
          </a:xfrm>
        </p:grpSpPr>
        <p:grpSp>
          <p:nvGrpSpPr>
            <p:cNvPr id="301" name=""/>
            <p:cNvGrpSpPr/>
            <p:nvPr/>
          </p:nvGrpSpPr>
          <p:grpSpPr>
            <a:xfrm>
              <a:off x="4050720" y="3608280"/>
              <a:ext cx="1156320" cy="459720"/>
              <a:chOff x="4050720" y="3608280"/>
              <a:chExt cx="1156320" cy="459720"/>
            </a:xfrm>
          </p:grpSpPr>
          <p:sp>
            <p:nvSpPr>
              <p:cNvPr id="302" name=""/>
              <p:cNvSpPr/>
              <p:nvPr/>
            </p:nvSpPr>
            <p:spPr>
              <a:xfrm>
                <a:off x="4050720" y="3608280"/>
                <a:ext cx="34848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80120" y="3608280"/>
                <a:ext cx="82692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o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935440" y="3606840"/>
              <a:ext cx="1119960" cy="459720"/>
              <a:chOff x="2935440" y="3606840"/>
              <a:chExt cx="1119960" cy="459720"/>
            </a:xfrm>
          </p:grpSpPr>
          <p:sp>
            <p:nvSpPr>
              <p:cNvPr id="305" name=""/>
              <p:cNvSpPr/>
              <p:nvPr/>
            </p:nvSpPr>
            <p:spPr>
              <a:xfrm>
                <a:off x="2935440" y="3606840"/>
                <a:ext cx="37260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04800" y="3606840"/>
                <a:ext cx="75060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ow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2934720" y="4381560"/>
            <a:ext cx="2258640" cy="461520"/>
            <a:chOff x="2934720" y="4381560"/>
            <a:chExt cx="2258640" cy="461520"/>
          </a:xfrm>
        </p:grpSpPr>
        <p:grpSp>
          <p:nvGrpSpPr>
            <p:cNvPr id="308" name=""/>
            <p:cNvGrpSpPr/>
            <p:nvPr/>
          </p:nvGrpSpPr>
          <p:grpSpPr>
            <a:xfrm>
              <a:off x="2934720" y="4381560"/>
              <a:ext cx="1155960" cy="459720"/>
              <a:chOff x="2934720" y="4381560"/>
              <a:chExt cx="1155960" cy="459720"/>
            </a:xfrm>
          </p:grpSpPr>
          <p:sp>
            <p:nvSpPr>
              <p:cNvPr id="309" name=""/>
              <p:cNvSpPr/>
              <p:nvPr/>
            </p:nvSpPr>
            <p:spPr>
              <a:xfrm>
                <a:off x="2934720" y="4381560"/>
                <a:ext cx="34848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263760" y="4381560"/>
                <a:ext cx="82692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o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073400" y="4383360"/>
              <a:ext cx="1119960" cy="459720"/>
              <a:chOff x="4073400" y="4383360"/>
              <a:chExt cx="1119960" cy="459720"/>
            </a:xfrm>
          </p:grpSpPr>
          <p:sp>
            <p:nvSpPr>
              <p:cNvPr id="312" name=""/>
              <p:cNvSpPr/>
              <p:nvPr/>
            </p:nvSpPr>
            <p:spPr>
              <a:xfrm>
                <a:off x="4073400" y="4383360"/>
                <a:ext cx="37260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42760" y="4383360"/>
                <a:ext cx="75060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ow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F422-3C4E-4D26-8195-A84B7EC7EF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768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3837240" y="1341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216320" y="1187280"/>
            <a:ext cx="381240" cy="459720"/>
            <a:chOff x="4216320" y="1187280"/>
            <a:chExt cx="381240" cy="459720"/>
          </a:xfrm>
        </p:grpSpPr>
        <p:sp>
          <p:nvSpPr>
            <p:cNvPr id="317" name=""/>
            <p:cNvSpPr/>
            <p:nvPr/>
          </p:nvSpPr>
          <p:spPr>
            <a:xfrm>
              <a:off x="4216320" y="1245960"/>
              <a:ext cx="38124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33600" y="118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H="1">
            <a:off x="3530160" y="156852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225960" y="2178000"/>
            <a:ext cx="380880" cy="459720"/>
            <a:chOff x="3225960" y="2178000"/>
            <a:chExt cx="380880" cy="459720"/>
          </a:xfrm>
        </p:grpSpPr>
        <p:sp>
          <p:nvSpPr>
            <p:cNvPr id="321" name=""/>
            <p:cNvSpPr/>
            <p:nvPr/>
          </p:nvSpPr>
          <p:spPr>
            <a:xfrm>
              <a:off x="3225960" y="222876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34960" y="2178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06680" y="2568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533320" y="254160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76400" y="2357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5680" y="3645000"/>
            <a:ext cx="983160" cy="459720"/>
            <a:chOff x="1525680" y="3645000"/>
            <a:chExt cx="983160" cy="459720"/>
          </a:xfrm>
        </p:grpSpPr>
        <p:sp>
          <p:nvSpPr>
            <p:cNvPr id="327" name=""/>
            <p:cNvSpPr/>
            <p:nvPr/>
          </p:nvSpPr>
          <p:spPr>
            <a:xfrm>
              <a:off x="1525680" y="3645000"/>
              <a:ext cx="372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01520" y="3645000"/>
              <a:ext cx="60732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238480" y="3184560"/>
            <a:ext cx="380880" cy="457200"/>
            <a:chOff x="2238480" y="3184560"/>
            <a:chExt cx="380880" cy="457200"/>
          </a:xfrm>
        </p:grpSpPr>
        <p:sp>
          <p:nvSpPr>
            <p:cNvPr id="330" name=""/>
            <p:cNvSpPr/>
            <p:nvPr/>
          </p:nvSpPr>
          <p:spPr>
            <a:xfrm>
              <a:off x="2238480" y="323532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49280" y="31845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208320" y="3243240"/>
            <a:ext cx="380880" cy="459720"/>
            <a:chOff x="3208320" y="3243240"/>
            <a:chExt cx="380880" cy="459720"/>
          </a:xfrm>
        </p:grpSpPr>
        <p:sp>
          <p:nvSpPr>
            <p:cNvPr id="333" name=""/>
            <p:cNvSpPr/>
            <p:nvPr/>
          </p:nvSpPr>
          <p:spPr>
            <a:xfrm>
              <a:off x="3208320" y="329400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17320" y="3243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 flipH="1">
            <a:off x="2490840" y="3611520"/>
            <a:ext cx="75384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18800" y="3432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184480" y="4260960"/>
            <a:ext cx="380880" cy="459720"/>
            <a:chOff x="2184480" y="4260960"/>
            <a:chExt cx="380880" cy="459720"/>
          </a:xfrm>
        </p:grpSpPr>
        <p:sp>
          <p:nvSpPr>
            <p:cNvPr id="338" name=""/>
            <p:cNvSpPr/>
            <p:nvPr/>
          </p:nvSpPr>
          <p:spPr>
            <a:xfrm>
              <a:off x="2184480" y="431172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93480" y="4260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370240" y="4681440"/>
            <a:ext cx="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216160" y="5780160"/>
            <a:ext cx="380880" cy="457200"/>
            <a:chOff x="2216160" y="5780160"/>
            <a:chExt cx="380880" cy="457200"/>
          </a:xfrm>
        </p:grpSpPr>
        <p:sp>
          <p:nvSpPr>
            <p:cNvPr id="342" name=""/>
            <p:cNvSpPr/>
            <p:nvPr/>
          </p:nvSpPr>
          <p:spPr>
            <a:xfrm>
              <a:off x="2216160" y="583092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26960" y="57801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088360" y="4626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68520" y="3675240"/>
            <a:ext cx="504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738520" y="4807080"/>
            <a:ext cx="1119960" cy="459720"/>
            <a:chOff x="2738520" y="4807080"/>
            <a:chExt cx="1119960" cy="459720"/>
          </a:xfrm>
        </p:grpSpPr>
        <p:sp>
          <p:nvSpPr>
            <p:cNvPr id="347" name=""/>
            <p:cNvSpPr/>
            <p:nvPr/>
          </p:nvSpPr>
          <p:spPr>
            <a:xfrm>
              <a:off x="2738520" y="4807080"/>
              <a:ext cx="372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07880" y="4807080"/>
              <a:ext cx="750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753560" y="6186600"/>
            <a:ext cx="1156320" cy="459720"/>
            <a:chOff x="1753560" y="6186600"/>
            <a:chExt cx="1156320" cy="459720"/>
          </a:xfrm>
        </p:grpSpPr>
        <p:sp>
          <p:nvSpPr>
            <p:cNvPr id="350" name=""/>
            <p:cNvSpPr/>
            <p:nvPr/>
          </p:nvSpPr>
          <p:spPr>
            <a:xfrm>
              <a:off x="1753560" y="6186600"/>
              <a:ext cx="3484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82960" y="6186600"/>
              <a:ext cx="82692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186000" y="4267080"/>
            <a:ext cx="381240" cy="457200"/>
            <a:chOff x="3186000" y="4267080"/>
            <a:chExt cx="381240" cy="457200"/>
          </a:xfrm>
        </p:grpSpPr>
        <p:sp>
          <p:nvSpPr>
            <p:cNvPr id="353" name=""/>
            <p:cNvSpPr/>
            <p:nvPr/>
          </p:nvSpPr>
          <p:spPr>
            <a:xfrm>
              <a:off x="3186000" y="431784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97160" y="426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564080" y="154152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234040" y="2195640"/>
            <a:ext cx="380880" cy="459720"/>
            <a:chOff x="5234040" y="2195640"/>
            <a:chExt cx="380880" cy="459720"/>
          </a:xfrm>
        </p:grpSpPr>
        <p:sp>
          <p:nvSpPr>
            <p:cNvPr id="357" name=""/>
            <p:cNvSpPr/>
            <p:nvPr/>
          </p:nvSpPr>
          <p:spPr>
            <a:xfrm>
              <a:off x="5234040" y="224640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43040" y="2195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768200" y="13809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416560" y="2625840"/>
            <a:ext cx="468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87920" y="254484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01320" y="2379600"/>
            <a:ext cx="4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232240" y="3262320"/>
            <a:ext cx="381240" cy="459720"/>
            <a:chOff x="5232240" y="3262320"/>
            <a:chExt cx="381240" cy="459720"/>
          </a:xfrm>
        </p:grpSpPr>
        <p:sp>
          <p:nvSpPr>
            <p:cNvPr id="364" name=""/>
            <p:cNvSpPr/>
            <p:nvPr/>
          </p:nvSpPr>
          <p:spPr>
            <a:xfrm>
              <a:off x="5232240" y="33130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41600" y="3262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064840" y="2664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235560" y="3238560"/>
            <a:ext cx="381240" cy="457200"/>
            <a:chOff x="6235560" y="3238560"/>
            <a:chExt cx="381240" cy="457200"/>
          </a:xfrm>
        </p:grpSpPr>
        <p:sp>
          <p:nvSpPr>
            <p:cNvPr id="368" name=""/>
            <p:cNvSpPr/>
            <p:nvPr/>
          </p:nvSpPr>
          <p:spPr>
            <a:xfrm>
              <a:off x="6235560" y="328932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46720" y="32385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368400" y="3718080"/>
            <a:ext cx="1390320" cy="459720"/>
            <a:chOff x="6368400" y="3718080"/>
            <a:chExt cx="1390320" cy="459720"/>
          </a:xfrm>
        </p:grpSpPr>
        <p:sp>
          <p:nvSpPr>
            <p:cNvPr id="371" name=""/>
            <p:cNvSpPr/>
            <p:nvPr/>
          </p:nvSpPr>
          <p:spPr>
            <a:xfrm>
              <a:off x="6368400" y="3718080"/>
              <a:ext cx="3484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97080" y="3718080"/>
              <a:ext cx="106164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he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427720" y="3706920"/>
            <a:ext cx="468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500000" y="4816440"/>
            <a:ext cx="1156320" cy="459720"/>
            <a:chOff x="4500000" y="4816440"/>
            <a:chExt cx="1156320" cy="459720"/>
          </a:xfrm>
        </p:grpSpPr>
        <p:sp>
          <p:nvSpPr>
            <p:cNvPr id="375" name=""/>
            <p:cNvSpPr/>
            <p:nvPr/>
          </p:nvSpPr>
          <p:spPr>
            <a:xfrm>
              <a:off x="4500000" y="4816440"/>
              <a:ext cx="3484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9400" y="4816440"/>
              <a:ext cx="82692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245200" y="4299120"/>
            <a:ext cx="380880" cy="457200"/>
            <a:chOff x="5245200" y="4299120"/>
            <a:chExt cx="380880" cy="457200"/>
          </a:xfrm>
        </p:grpSpPr>
        <p:sp>
          <p:nvSpPr>
            <p:cNvPr id="378" name=""/>
            <p:cNvSpPr/>
            <p:nvPr/>
          </p:nvSpPr>
          <p:spPr>
            <a:xfrm>
              <a:off x="5245200" y="43498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56000" y="42991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409920" y="2624040"/>
            <a:ext cx="4680" cy="6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363384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267600" y="4297320"/>
            <a:ext cx="380880" cy="459720"/>
            <a:chOff x="6267600" y="4297320"/>
            <a:chExt cx="380880" cy="459720"/>
          </a:xfrm>
        </p:grpSpPr>
        <p:sp>
          <p:nvSpPr>
            <p:cNvPr id="383" name=""/>
            <p:cNvSpPr/>
            <p:nvPr/>
          </p:nvSpPr>
          <p:spPr>
            <a:xfrm>
              <a:off x="6267600" y="43480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6600" y="4297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726160" y="34718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67400" y="4745160"/>
            <a:ext cx="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300720" y="5665680"/>
            <a:ext cx="381240" cy="457200"/>
            <a:chOff x="6300720" y="5665680"/>
            <a:chExt cx="381240" cy="457200"/>
          </a:xfrm>
        </p:grpSpPr>
        <p:sp>
          <p:nvSpPr>
            <p:cNvPr id="388" name=""/>
            <p:cNvSpPr/>
            <p:nvPr/>
          </p:nvSpPr>
          <p:spPr>
            <a:xfrm>
              <a:off x="6300720" y="571644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11880" y="5665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6185880" y="4626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942160" y="6156360"/>
            <a:ext cx="1119960" cy="459720"/>
            <a:chOff x="5942160" y="6156360"/>
            <a:chExt cx="1119960" cy="459720"/>
          </a:xfrm>
        </p:grpSpPr>
        <p:sp>
          <p:nvSpPr>
            <p:cNvPr id="392" name=""/>
            <p:cNvSpPr/>
            <p:nvPr/>
          </p:nvSpPr>
          <p:spPr>
            <a:xfrm>
              <a:off x="5942160" y="6156360"/>
              <a:ext cx="372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311520" y="6156360"/>
              <a:ext cx="750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1CDB-857B-460F-8FE0-9567653DD20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3837240" y="135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216320" y="1198440"/>
            <a:ext cx="381240" cy="459720"/>
            <a:chOff x="4216320" y="1198440"/>
            <a:chExt cx="381240" cy="459720"/>
          </a:xfrm>
        </p:grpSpPr>
        <p:sp>
          <p:nvSpPr>
            <p:cNvPr id="397" name=""/>
            <p:cNvSpPr/>
            <p:nvPr/>
          </p:nvSpPr>
          <p:spPr>
            <a:xfrm>
              <a:off x="4216320" y="1257120"/>
              <a:ext cx="38124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33600" y="1198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H="1">
            <a:off x="3530160" y="157968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225960" y="2189160"/>
            <a:ext cx="380880" cy="459720"/>
            <a:chOff x="3225960" y="2189160"/>
            <a:chExt cx="380880" cy="459720"/>
          </a:xfrm>
        </p:grpSpPr>
        <p:sp>
          <p:nvSpPr>
            <p:cNvPr id="401" name=""/>
            <p:cNvSpPr/>
            <p:nvPr/>
          </p:nvSpPr>
          <p:spPr>
            <a:xfrm>
              <a:off x="3225960" y="223992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34960" y="2189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406680" y="25797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533320" y="255276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876400" y="2368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525680" y="3656160"/>
            <a:ext cx="983160" cy="459720"/>
            <a:chOff x="1525680" y="3656160"/>
            <a:chExt cx="983160" cy="459720"/>
          </a:xfrm>
        </p:grpSpPr>
        <p:sp>
          <p:nvSpPr>
            <p:cNvPr id="407" name=""/>
            <p:cNvSpPr/>
            <p:nvPr/>
          </p:nvSpPr>
          <p:spPr>
            <a:xfrm>
              <a:off x="1525680" y="3656160"/>
              <a:ext cx="372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01520" y="3656160"/>
              <a:ext cx="60732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238480" y="3195720"/>
            <a:ext cx="380880" cy="457200"/>
            <a:chOff x="2238480" y="3195720"/>
            <a:chExt cx="380880" cy="457200"/>
          </a:xfrm>
        </p:grpSpPr>
        <p:sp>
          <p:nvSpPr>
            <p:cNvPr id="410" name=""/>
            <p:cNvSpPr/>
            <p:nvPr/>
          </p:nvSpPr>
          <p:spPr>
            <a:xfrm>
              <a:off x="2238480" y="3246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49280" y="3195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208320" y="3254400"/>
            <a:ext cx="380880" cy="459720"/>
            <a:chOff x="3208320" y="3254400"/>
            <a:chExt cx="380880" cy="459720"/>
          </a:xfrm>
        </p:grpSpPr>
        <p:sp>
          <p:nvSpPr>
            <p:cNvPr id="413" name=""/>
            <p:cNvSpPr/>
            <p:nvPr/>
          </p:nvSpPr>
          <p:spPr>
            <a:xfrm>
              <a:off x="3208320" y="330516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17320" y="3254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 flipH="1">
            <a:off x="2490840" y="3622680"/>
            <a:ext cx="75384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818800" y="34434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184480" y="4272120"/>
            <a:ext cx="380880" cy="459720"/>
            <a:chOff x="2184480" y="4272120"/>
            <a:chExt cx="380880" cy="459720"/>
          </a:xfrm>
        </p:grpSpPr>
        <p:sp>
          <p:nvSpPr>
            <p:cNvPr id="418" name=""/>
            <p:cNvSpPr/>
            <p:nvPr/>
          </p:nvSpPr>
          <p:spPr>
            <a:xfrm>
              <a:off x="2184480" y="43228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93480" y="4272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368520" y="3686040"/>
            <a:ext cx="5040" cy="6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601600" y="6195960"/>
            <a:ext cx="1156320" cy="459720"/>
            <a:chOff x="5601600" y="6195960"/>
            <a:chExt cx="1156320" cy="459720"/>
          </a:xfrm>
        </p:grpSpPr>
        <p:sp>
          <p:nvSpPr>
            <p:cNvPr id="422" name=""/>
            <p:cNvSpPr/>
            <p:nvPr/>
          </p:nvSpPr>
          <p:spPr>
            <a:xfrm>
              <a:off x="5601600" y="6195960"/>
              <a:ext cx="3484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31000" y="6195960"/>
              <a:ext cx="82692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186000" y="4278240"/>
            <a:ext cx="381240" cy="457200"/>
            <a:chOff x="3186000" y="4278240"/>
            <a:chExt cx="381240" cy="457200"/>
          </a:xfrm>
        </p:grpSpPr>
        <p:sp>
          <p:nvSpPr>
            <p:cNvPr id="425" name=""/>
            <p:cNvSpPr/>
            <p:nvPr/>
          </p:nvSpPr>
          <p:spPr>
            <a:xfrm>
              <a:off x="3186000" y="432900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97160" y="42782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4564080" y="155268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234040" y="2206800"/>
            <a:ext cx="380880" cy="459720"/>
            <a:chOff x="5234040" y="2206800"/>
            <a:chExt cx="380880" cy="459720"/>
          </a:xfrm>
        </p:grpSpPr>
        <p:sp>
          <p:nvSpPr>
            <p:cNvPr id="429" name=""/>
            <p:cNvSpPr/>
            <p:nvPr/>
          </p:nvSpPr>
          <p:spPr>
            <a:xfrm>
              <a:off x="5234040" y="225756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43040" y="2206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4768200" y="13921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416560" y="2637000"/>
            <a:ext cx="468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7920" y="255600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01320" y="2390760"/>
            <a:ext cx="4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5232240" y="3273480"/>
            <a:ext cx="381240" cy="459720"/>
            <a:chOff x="5232240" y="3273480"/>
            <a:chExt cx="381240" cy="459720"/>
          </a:xfrm>
        </p:grpSpPr>
        <p:sp>
          <p:nvSpPr>
            <p:cNvPr id="436" name=""/>
            <p:cNvSpPr/>
            <p:nvPr/>
          </p:nvSpPr>
          <p:spPr>
            <a:xfrm>
              <a:off x="5232240" y="332424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41600" y="3273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5064840" y="26748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235560" y="3249720"/>
            <a:ext cx="381240" cy="457200"/>
            <a:chOff x="6235560" y="3249720"/>
            <a:chExt cx="381240" cy="457200"/>
          </a:xfrm>
        </p:grpSpPr>
        <p:sp>
          <p:nvSpPr>
            <p:cNvPr id="440" name=""/>
            <p:cNvSpPr/>
            <p:nvPr/>
          </p:nvSpPr>
          <p:spPr>
            <a:xfrm>
              <a:off x="6235560" y="33004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46720" y="3249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368400" y="3728880"/>
            <a:ext cx="1390320" cy="459720"/>
            <a:chOff x="6368400" y="3728880"/>
            <a:chExt cx="1390320" cy="459720"/>
          </a:xfrm>
        </p:grpSpPr>
        <p:sp>
          <p:nvSpPr>
            <p:cNvPr id="443" name=""/>
            <p:cNvSpPr/>
            <p:nvPr/>
          </p:nvSpPr>
          <p:spPr>
            <a:xfrm>
              <a:off x="6368400" y="3728880"/>
              <a:ext cx="3484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97080" y="3728880"/>
              <a:ext cx="106164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he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5427720" y="3718080"/>
            <a:ext cx="468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245200" y="4309920"/>
            <a:ext cx="380880" cy="457200"/>
            <a:chOff x="5245200" y="4309920"/>
            <a:chExt cx="380880" cy="457200"/>
          </a:xfrm>
        </p:grpSpPr>
        <p:sp>
          <p:nvSpPr>
            <p:cNvPr id="447" name=""/>
            <p:cNvSpPr/>
            <p:nvPr/>
          </p:nvSpPr>
          <p:spPr>
            <a:xfrm>
              <a:off x="5245200" y="43606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56000" y="43099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3409920" y="2635200"/>
            <a:ext cx="4680" cy="6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564160" y="364500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267600" y="4308480"/>
            <a:ext cx="380880" cy="459720"/>
            <a:chOff x="6267600" y="4308480"/>
            <a:chExt cx="380880" cy="459720"/>
          </a:xfrm>
        </p:grpSpPr>
        <p:sp>
          <p:nvSpPr>
            <p:cNvPr id="452" name=""/>
            <p:cNvSpPr/>
            <p:nvPr/>
          </p:nvSpPr>
          <p:spPr>
            <a:xfrm>
              <a:off x="6267600" y="435924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76600" y="4308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726160" y="3483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288120" y="5375160"/>
            <a:ext cx="380880" cy="457200"/>
            <a:chOff x="6288120" y="5375160"/>
            <a:chExt cx="380880" cy="457200"/>
          </a:xfrm>
        </p:grpSpPr>
        <p:sp>
          <p:nvSpPr>
            <p:cNvPr id="456" name=""/>
            <p:cNvSpPr/>
            <p:nvPr/>
          </p:nvSpPr>
          <p:spPr>
            <a:xfrm>
              <a:off x="6288120" y="542592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98920" y="53751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246400" y="6246720"/>
            <a:ext cx="1119960" cy="459720"/>
            <a:chOff x="2246400" y="6246720"/>
            <a:chExt cx="1119960" cy="459720"/>
          </a:xfrm>
        </p:grpSpPr>
        <p:sp>
          <p:nvSpPr>
            <p:cNvPr id="459" name=""/>
            <p:cNvSpPr/>
            <p:nvPr/>
          </p:nvSpPr>
          <p:spPr>
            <a:xfrm>
              <a:off x="2246400" y="6246720"/>
              <a:ext cx="372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15760" y="6246720"/>
              <a:ext cx="750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00600" y="5952960"/>
            <a:ext cx="1222200" cy="352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505400" y="595296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105000" y="6070680"/>
            <a:ext cx="78264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46560" y="6164280"/>
            <a:ext cx="47304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459240" y="4686480"/>
            <a:ext cx="858600" cy="126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649400" y="4664160"/>
            <a:ext cx="660600" cy="12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461280" y="4751280"/>
            <a:ext cx="4680" cy="6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5089320" y="5765760"/>
            <a:ext cx="1244520" cy="1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198520" y="5330880"/>
            <a:ext cx="381240" cy="457200"/>
            <a:chOff x="2198520" y="5330880"/>
            <a:chExt cx="381240" cy="457200"/>
          </a:xfrm>
        </p:grpSpPr>
        <p:sp>
          <p:nvSpPr>
            <p:cNvPr id="470" name=""/>
            <p:cNvSpPr/>
            <p:nvPr/>
          </p:nvSpPr>
          <p:spPr>
            <a:xfrm>
              <a:off x="2198520" y="538164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09680" y="53308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2371680" y="4707000"/>
            <a:ext cx="468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522520" y="5699160"/>
            <a:ext cx="14320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56320" y="58262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458960" y="58561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088360" y="46371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85880" y="46371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8222-726B-431D-9873-F3AC8EBADCA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5:13:09Z</dcterms:created>
  <dc:creator>Valued Gateway Client</dc:creator>
  <dc:description/>
  <dc:language>en-US</dc:language>
  <cp:lastModifiedBy>James Hamilton</cp:lastModifiedBy>
  <dcterms:modified xsi:type="dcterms:W3CDTF">2001-11-02T03:25:34Z</dcterms:modified>
  <cp:revision>112</cp:revision>
  <dc:subject/>
  <dc:title>A Fast Index for Semistructured Data</dc:title>
</cp:coreProperties>
</file>