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12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DBD4-0DBF-445E-A208-5BF8075F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B8E-C4C8-41E1-8537-022DFD85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5C6-33D0-4D1F-86B5-D116BB02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585-535E-4B9E-BC45-99ABB82A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A12F-B1CE-4678-850D-3BA91D73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1B7-B8DB-431E-BB60-64FDF6A7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8AC-8861-41B2-9103-8E94F216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3AB-82BE-4A20-A849-BCAD01D1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5710-B711-4042-9544-634C6434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3D2-B154-4738-AE26-297A86A1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FC0-57BF-48E2-8073-44824783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D4B-7716-4CF7-AF80-E332F5ED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6EB0-1D50-4CFC-AA92-27D4BEF59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022240" y="541008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Giga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021880" y="38354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Tera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034480" y="22604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Peta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110800" y="6858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Exa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o.msn.com/0/3/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r.aol.com/cgi/redir-complex?url=http://www.aol.com&amp;sid=n0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es.rice.edu/ES/humsoc/Galileo/Images/Astro/Instruments/hevelius_telescope.gi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Search of PetaByte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G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y 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Bar: the biggest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0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Objectivity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C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cluster scans DB looking for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3048120"/>
            <a:ext cx="609480" cy="3809880"/>
          </a:xfrm>
          <a:prstGeom prst="upArrow">
            <a:avLst>
              <a:gd name="adj1" fmla="val 45833"/>
              <a:gd name="adj2" fmla="val 121316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 TB (cooked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tmail / Yaho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ne front en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@hotm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00 @ hotm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mail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/put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0,000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20 adm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152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010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724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582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6868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9154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267080" y="4724280"/>
            <a:ext cx="4648320" cy="1143000"/>
            <a:chOff x="4267080" y="4724280"/>
            <a:chExt cx="4648320" cy="1143000"/>
          </a:xfrm>
        </p:grpSpPr>
        <p:sp>
          <p:nvSpPr>
            <p:cNvPr id="99" name=""/>
            <p:cNvSpPr/>
            <p:nvPr/>
          </p:nvSpPr>
          <p:spPr>
            <a:xfrm>
              <a:off x="50292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578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50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6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722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294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866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152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438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24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010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296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582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868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528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814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100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72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530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816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102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388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674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960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246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532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818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104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69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55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41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627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913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199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485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771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57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343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629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915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1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487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773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059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345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006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292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78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436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722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008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866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152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438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10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296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582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528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814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386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672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958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530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816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102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388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674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960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246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532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818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483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769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055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41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627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199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485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057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43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629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915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01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487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773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059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06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292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578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864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36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722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008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294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866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52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438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724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010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296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956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242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28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814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100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86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672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58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244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16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102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388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674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960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246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32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197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83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769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055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341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627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913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199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485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771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057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343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629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915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201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487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67080" y="4724280"/>
              <a:ext cx="4648320" cy="1143000"/>
            </a:xfrm>
            <a:prstGeom prst="cube">
              <a:avLst>
                <a:gd name="adj" fmla="val 62500"/>
              </a:avLst>
            </a:prstGeom>
            <a:solidFill>
              <a:srgbClr val="dddddd">
                <a:alpha val="1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055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341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627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13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99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485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057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343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629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915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201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487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773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059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5345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7631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292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578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64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150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722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008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294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580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866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152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438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724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010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2296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582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6868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814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100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386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672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58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244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530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816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102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388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674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960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246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532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818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6104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769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55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341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27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13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199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485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71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057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343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629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15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01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487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773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059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345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006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292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578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864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150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436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722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008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294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580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866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152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38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724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010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296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582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242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528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814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100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386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672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958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244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530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816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102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388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674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60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246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532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483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769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055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341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627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913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199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771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057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343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629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915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201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487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773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059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720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006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292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578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864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150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36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722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008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94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580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866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52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438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724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010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296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242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528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100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386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672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58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244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530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816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102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388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674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960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9246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532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71629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8487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915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201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0773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3059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345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7631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341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627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913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2485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771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9343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102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6960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2388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674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9246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532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3818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6104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814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4100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6386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958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244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5530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816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5438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866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3152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7724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010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2296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4582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292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7150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578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4864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36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4008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294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057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915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201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8487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0773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3059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8769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627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341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7913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0199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2485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771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5530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7816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4674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960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9246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532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4100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528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814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6386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958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3244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476600" y="432900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878360" y="4329000"/>
            <a:ext cx="4032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81560" y="432900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683320" y="4329000"/>
            <a:ext cx="4014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84720" y="432900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486480" y="432900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88240" y="4329000"/>
            <a:ext cx="4014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289640" y="432900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691400" y="432900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093160" y="4329000"/>
            <a:ext cx="4014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343400" y="455148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45160" y="4551480"/>
            <a:ext cx="4014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146560" y="455148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548320" y="455148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950080" y="4551480"/>
            <a:ext cx="4014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351480" y="4551480"/>
            <a:ext cx="4032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54680" y="455148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156440" y="455148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58200" y="4551480"/>
            <a:ext cx="4014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959600" y="455148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305920" y="2514600"/>
            <a:ext cx="609480" cy="4343400"/>
          </a:xfrm>
          <a:prstGeom prst="upArrow">
            <a:avLst>
              <a:gd name="adj1" fmla="val 50000"/>
              <a:gd name="adj2" fmla="val 178160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Yahoo"/>
          <p:cNvPicPr/>
          <p:nvPr/>
        </p:nvPicPr>
        <p:blipFill>
          <a:blip r:embed="rId1"/>
          <a:stretch/>
        </p:blipFill>
        <p:spPr>
          <a:xfrm>
            <a:off x="1752480" y="1447920"/>
            <a:ext cx="403884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O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(msn)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(1PB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B transactions per da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10% of th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e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e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eye c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used for security/accoun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AOL is a petaby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0M x 10MB = 4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305920" y="2514600"/>
            <a:ext cx="609480" cy="4343400"/>
          </a:xfrm>
          <a:prstGeom prst="upArrow">
            <a:avLst>
              <a:gd name="adj1" fmla="val 50000"/>
              <a:gd name="adj2" fmla="val 178160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MSN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914400"/>
            <a:ext cx="1333800" cy="5716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AOL Anywhe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533520"/>
            <a:ext cx="23716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Google"/>
          <p:cNvPicPr/>
          <p:nvPr/>
        </p:nvPicPr>
        <p:blipFill>
          <a:blip r:embed="rId1"/>
          <a:stretch/>
        </p:blipFill>
        <p:spPr>
          <a:xfrm>
            <a:off x="0" y="0"/>
            <a:ext cx="2629080" cy="1047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5PB as of last sp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000 no-name 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/3U,  2 x 80 GB disk, 2 cpu 256MB 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4 PB on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B ram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eraO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-price is 1K$ so 8M$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admins (!) (== 1/100T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381880" y="2057400"/>
            <a:ext cx="609840" cy="4800600"/>
          </a:xfrm>
          <a:prstGeom prst="upArrow">
            <a:avLst>
              <a:gd name="adj1" fmla="val 50000"/>
              <a:gd name="adj2" fmla="val 196798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791320" y="4294080"/>
            <a:ext cx="3352680" cy="241164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utation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6553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Empirical Sc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st gathers data by direct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st analyze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ational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aptured by instru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data generated by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d by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d in 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st analyzes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 scrip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n C progr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n ASCII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23200" y="304920"/>
            <a:ext cx="2620800" cy="30477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The Telescope"/>
          <p:cNvPicPr/>
          <p:nvPr/>
        </p:nvPicPr>
        <p:blipFill>
          <a:blip r:embed="rId4"/>
          <a:stretch/>
        </p:blipFill>
        <p:spPr>
          <a:xfrm>
            <a:off x="5378400" y="3276720"/>
            <a:ext cx="1614600" cy="15224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5"/>
          <a:stretch/>
        </p:blipFill>
        <p:spPr>
          <a:xfrm>
            <a:off x="8237520" y="5932440"/>
            <a:ext cx="90648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ve been trying to apply  DB to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they are at 10TB per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 for Peta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Obj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ing SQL (talk to me off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81880" y="3124080"/>
            <a:ext cx="609840" cy="3733920"/>
          </a:xfrm>
          <a:prstGeom prst="upArrow">
            <a:avLst>
              <a:gd name="adj1" fmla="val 50000"/>
              <a:gd name="adj2" fmla="val 153070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533520" y="1981080"/>
            <a:ext cx="5181480" cy="2438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Moving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near earth astero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r.objID as rId, g.objId as gId, r.run, r.camcol, r.field as field, g.field as gField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.ra as ra_r, r.dec as dec_r, g.ra as ra_g, g.dec as dec_g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qrt( power(r.cx -g.cx,2)+ power(r.cy-g.cy,2)+power(r.cz-g.cz,2) )*(10800/PI()) as dist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PhotoObj r, PhotoObj 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.run = g.run and r.camcol=g.camcol and abs(g.field-r.field)&lt;2  -- the match crit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the red selection crit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((power(r.q_r,2) + power(r.u_r,2)) &gt; 0.111111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r.fiberMag_r between 6 and 22 and r.fiberMag_r &lt; r.fiberMag_g and r.fiberMag_r &lt; r.fiberMag_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r.parentID=0 and r.fiberMag_r &lt; r.fiberMag_u and r.fiberMag_r &lt; r.fiberMag_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r.isoA_r/r.isoB_r &gt; 1.5 and r.isoA_r&gt;2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the green selection crit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((power(g.q_g,2) + power(g.u_g,2)) &gt; 0.111111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g.fiberMag_g between 6 and 22 and g.fiberMag_g &lt; g.fiberMag_r and g.fiberMag_g &lt; g.fiberMag_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g.fiberMag_g &lt; g.fiberMag_u and g.fiberMag_g &lt; g.fiberMag_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g.parentID=0 and g.isoA_g/g.isoB_g &gt; 1.5 and g.isoA_g &gt; 2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the matchup of the p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qrt(power(r.cx -g.cx,2)+ power(r.cy-g.cy,2)+power(r.cz-g.cz,2))*(10800/PI())&lt; 4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abs(r.fiberMag_r-g.fiberMag_g)&lt; 2.0</a:t>
            </a: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s 3 objects in 11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gl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onsider the alternativ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 programs an files and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5413320" y="1066680"/>
            <a:ext cx="3730680" cy="21862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5334120" y="3886200"/>
            <a:ext cx="3809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Particle Physics – Hunting the Higgs and Dark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April 2006: First pp collisions at TeV energies at the Large Hadron Collider in Gen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ATLAS/CMS Experiments involve  2000 physicists from 200 organizations in US, EU,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Need to store,access, process, analyse  10 PB/yr with 200 TFlop/s distributed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Building hierarchical Grid infrastructure to distribute data and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Many 10’s of million $ funding – GryPhyN, PPDataGrid, iVDGL, DataGrid, DataTag, GridP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Bytes and PetaFlop/s by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Astronomy: Past and Future of the Uni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Virtual Observatories – NVO, AVO, Astro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Store all wavelengths, need distributed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NVO 500 TB/yr from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Laser Interferometer Gravitational Observ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Search for direct evidence for gravitational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LIGO 250 TB/yr, random streaming from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VISTA Visible and IR Survey Telescope in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50 GB/night, 100 TB/yr, Petabytes in 10 y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ew phase of astronomy, storing, searching and analysing Petabytes of data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Engineering, Environment and Medical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Real-Time Health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UK DAME project for Rolls Royce Aero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 GB sensor data/flight, 100,000 engine  hours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Earth Obser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ESA satellites generate 100 GB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NASA 15 PB by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Medical Image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UK IRC Project on mammograms and M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00 MB/mammogram, UK 3M/yr, US 26M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00 MB/patient, Oxford 500 women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any Petabytes of data of real commercial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st of Stora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heading for 1K$/TB so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38360" y="1111320"/>
            <a:ext cx="7567560" cy="3090960"/>
            <a:chOff x="738360" y="1111320"/>
            <a:chExt cx="7567560" cy="30909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738360" y="1676520"/>
              <a:ext cx="7567560" cy="25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108240" y="1111320"/>
              <a:ext cx="325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12/1/199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04800" y="1806480"/>
            <a:ext cx="7860960" cy="3612960"/>
            <a:chOff x="604800" y="1806480"/>
            <a:chExt cx="7860960" cy="361296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604800" y="2589480"/>
              <a:ext cx="7860960" cy="28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965680" y="1806480"/>
              <a:ext cx="33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9/1/2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0" y="3124080"/>
            <a:ext cx="9144000" cy="3733920"/>
            <a:chOff x="0" y="3124080"/>
            <a:chExt cx="9144000" cy="373392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0" y="3540240"/>
              <a:ext cx="9144000" cy="33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743200" y="3124080"/>
              <a:ext cx="325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9/1/20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Grids, Databases and Cool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Scientis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will build Grids based on Globus Open Source m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will have instruments generating Petabyte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will annotate their data with XML-based meta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Realize a version of Licklider and Taylor’s original vision of resource sharing and the ARP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TP and DB commun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Should assist in developing Grid Interfaces to DB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Should develop ‘Cool Tools’ for Gri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here will be commercial Grid applications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nd   viabl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s own the sweet-sp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GB to 100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data is not i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TS crowd is not really high performance storage (BIG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storage is 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goal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Admin per P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s own the sweet-sp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GB to 100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data is not in databa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TS does not ow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performance storage (BIG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storage is 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goal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Admin per P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is Expen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less clones are easy to ma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 servers are middle t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goes to zero with Moore’s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dmin per 1,000 cl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tory about scale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ful servers are expensive to ma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TB to 100TB per ad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cost is going to zero(2k$ to 200k$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storage is managemen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33720" y="5721480"/>
          <a:ext cx="4038480" cy="11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5721480"/>
                    <a:ext cx="403848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229600" y="4648320"/>
            <a:ext cx="609480" cy="2209680"/>
          </a:xfrm>
          <a:prstGeom prst="upArrow">
            <a:avLst>
              <a:gd name="adj1" fmla="val 50000"/>
              <a:gd name="adj2" fmla="val 90638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100 GB  tod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ersonal Petabyte (someda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com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M$ today…2K$ in 10 ye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the pack rats have ~ 10-100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10 GB in text (eMail, PDF, PPT, OCR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GB – 50GB tiff, mpeg, jpeg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have 1TB (voice + vide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an drive it to 1P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PB affordable in 1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ready: tools to capture, manage, organize, search, display will be big a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 TB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mage Database: Terra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apshot of the USA (1 meter granula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000,000,000,000 (=10^13) sq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 15TB raw (some duplic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 5 TB cook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 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Image pyram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gazet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ing thing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s all in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uste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llows flaky hardware, online up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plexed – snapshot each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29600" y="3733920"/>
            <a:ext cx="609480" cy="3124080"/>
          </a:xfrm>
          <a:prstGeom prst="upArrow">
            <a:avLst>
              <a:gd name="adj1" fmla="val 50000"/>
              <a:gd name="adj2" fmla="val 128145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s (== SQ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DB survey (Winter Cor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TB to 100TB D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doubling y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ing disk Moore’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000 disks at 18GB is 100TB coo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DSS and data wareho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edia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29600" y="3124080"/>
            <a:ext cx="609480" cy="3733920"/>
          </a:xfrm>
          <a:prstGeom prst="upArrow">
            <a:avLst>
              <a:gd name="adj1" fmla="val 50000"/>
              <a:gd name="adj2" fmla="val 153160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B 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2:  leave the files where they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tial integrity between DBMS and 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: put the files in the DB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ecurit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torage managemen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pac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covery m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pl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ing to tu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: transactions,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BMSs beyond 100T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bytes are in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b is file cen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is file cen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(and batch) is file cen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performance is better than CIFS/NF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 vs RI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3124080"/>
            <a:ext cx="609480" cy="3733920"/>
          </a:xfrm>
          <a:prstGeom prst="upArrow">
            <a:avLst>
              <a:gd name="adj1" fmla="val 50000"/>
              <a:gd name="adj2" fmla="val 153160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16:53:33Z</dcterms:created>
  <dc:creator>Jim Gray</dc:creator>
  <dc:description/>
  <dc:language>en-US</dc:language>
  <cp:lastModifiedBy>James Hamilton</cp:lastModifiedBy>
  <dcterms:modified xsi:type="dcterms:W3CDTF">2001-10-17T15:22:35Z</dcterms:modified>
  <cp:revision>10</cp:revision>
  <dc:subject/>
  <dc:title>In Search of PetaByte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7025701</vt:r8>
  </property>
  <property fmtid="{D5CDD505-2E9C-101B-9397-08002B2CF9AE}" pid="3" name="_AuthorEmailDisplayName">
    <vt:lpwstr>Jim Gray</vt:lpwstr>
  </property>
  <property fmtid="{D5CDD505-2E9C-101B-9397-08002B2CF9AE}" pid="4" name="_EmailSubject">
    <vt:lpwstr>The slides Tony Hey and I used at HTPS</vt:lpwstr>
  </property>
  <property fmtid="{D5CDD505-2E9C-101B-9397-08002B2CF9AE}" pid="5" name="_ReviewingToolsShownOnce">
    <vt:lpwstr/>
  </property>
</Properties>
</file>