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91C7-CE96-4BF5-AE4F-1A7A6A11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3ABC2-064F-404F-8812-85B73A22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5676C-C540-4135-B1F8-B64EC074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AEDD-F03F-4C70-BCEC-0C125C06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12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ECF7-12FF-4263-A297-A90B88E0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A0ECF-A73E-47F7-A8AB-DD4ACF70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7AA82-680A-47F9-BA16-53B9D975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2D10C-8509-412F-9057-8F319537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12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A98DD-43A7-4E21-AB03-B261310F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5CB6-CCDF-462C-A2BF-2034D54C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9B31-92E7-4F95-BFD4-32DD7894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5DCB-7331-45B0-90B4-D5CB56B1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4360" y="1309680"/>
            <a:ext cx="879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</a:t>
            </a: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 • 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3800" y="279360"/>
            <a:ext cx="1338120" cy="90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6D1C-1E4B-4D53-AABC-D7C9DDDAECC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E424-0963-4388-BE66-611037D9A9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309680"/>
            <a:ext cx="879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 •</a:t>
            </a: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 • 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43800" y="279360"/>
            <a:ext cx="1338120" cy="906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ists.oasis-open.org/archives/business-transaction/200103/zip00000.zip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91132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onversation Management Protocol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in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WebLogic Integration</a:t>
            </a:r>
            <a:br>
              <a:rPr sz="3600"/>
            </a:b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 October 15, 2001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anjay Dalal (sanjay@bea.com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EA Systems, Inc.</a:t>
            </a:r>
            <a:endParaRPr b="0" lang="en-US" sz="2000" spc="-1" strike="noStrike">
              <a:solidFill>
                <a:srgbClr val="ff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ummary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number of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where single party dictates outcome of a transaction, e.g. public/private ex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 from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contra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pre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it enlist/en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or does not “see” status (in or out of transaction) of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295D3-3F60-4F88-9B6E-0DAD4B9512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C64B1-3FC0-499A-9B38-93015F7392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tatu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in WebLogic Integration product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edocs.bea.com/wlintegration/v2_1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ed by OASIS Business Transaction Committee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oasis-open.org/committees/business-transactions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n March 8, 2001 as proposal from B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lists.oasis-open.org/archives/business-transaction/200103/zip00000.z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e name of the protocol was changed from “Conversation Management Protocol” to “Business Transaction Protocol” in the propo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1F756-5611-49E7-A48A-33B3A0DA9C9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0A609-A51B-4824-B2CB-0611DAEAC1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Outline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Transactions over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 Management Protocol of WebLogic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FF58-6158-4AE2-BB33-A8CB5124975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49B9F-349E-4596-98A9-6586B1972C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992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Supply Chain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usiness Transaction Example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4091040" y="1577880"/>
            <a:ext cx="1187280" cy="461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7520" y="1558800"/>
            <a:ext cx="2023920" cy="462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1965240"/>
            <a:ext cx="58572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78200" y="3233880"/>
            <a:ext cx="58392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16000" y="4464000"/>
            <a:ext cx="58428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ip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4160" y="2670120"/>
            <a:ext cx="511200" cy="3524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9000" y="5711760"/>
            <a:ext cx="58608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5080" y="238752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5080" y="3022560"/>
            <a:ext cx="0" cy="2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0280" y="15858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3600" y="161136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63920" y="2039760"/>
            <a:ext cx="58608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5080" y="3249720"/>
            <a:ext cx="58572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92720" y="4592520"/>
            <a:ext cx="58572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k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7400" y="1590840"/>
            <a:ext cx="1679400" cy="458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54800" y="4398840"/>
            <a:ext cx="58428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u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56240" y="5710320"/>
            <a:ext cx="58428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rv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ip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13480" y="5089680"/>
            <a:ext cx="58572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53080" y="16477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i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647080" y="6627960"/>
            <a:ext cx="15303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23600" y="6497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usiness mess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13000" y="365292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98600" y="4245120"/>
            <a:ext cx="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46240" y="5135400"/>
            <a:ext cx="511200" cy="3524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6520" y="489888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2480" y="550404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59480" y="245916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4680" y="3675240"/>
            <a:ext cx="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62120" y="3438000"/>
            <a:ext cx="1835280" cy="25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38840" y="48340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5415120"/>
            <a:ext cx="0" cy="28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83240" y="5114880"/>
            <a:ext cx="513000" cy="3538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188040" y="5291280"/>
            <a:ext cx="29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1200" y="4657680"/>
            <a:ext cx="3875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604600" y="4781160"/>
            <a:ext cx="3008520" cy="474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664000" y="4894200"/>
            <a:ext cx="3792240" cy="1015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1440" y="2617920"/>
            <a:ext cx="0" cy="1771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82000" y="459252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562120" y="2193840"/>
            <a:ext cx="1757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92720" y="3886200"/>
            <a:ext cx="58572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78200" y="3886200"/>
            <a:ext cx="58392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In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561760" y="4098960"/>
            <a:ext cx="1830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4680" y="430992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9B95-C248-450E-A3D6-677CB8493D6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BC982-AA84-45E8-AAEF-0305C4C0D2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haracteristics of 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usiness Transactions on the Web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615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ised of complex 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n multiple enterprises (trading partn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ed as agreed upon processes within the context of trading partner 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running (minutes, hours, days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multiple business message ex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unreliable communication channel: HTTP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business transaction is dependent on the outcome of many local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is relaxed, compensation preferred over roll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6FE3-8BC4-440F-A4B7-FFB7B5C18D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7C1CC-AB35-476E-87F3-CAB6F35C13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Requirements for protocol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/coordination of long-running business transactions across business processes of different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business transaction management (coordination) protocol over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is reliably conveyed to all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ive network and nod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protocol (less number of messages) over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71800" y="6215040"/>
            <a:ext cx="42577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14680" y="5114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&gt;&gt;&gt;Conversation Management Protocol (CM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E96D-39FB-4D86-AC46-FE78A7548BC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BAA7A-DAB9-426C-A4F4-419D96FE05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B2B stack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4365720" y="5662440"/>
            <a:ext cx="3689280" cy="590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51320" y="5037120"/>
            <a:ext cx="3689280" cy="49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68960" y="4270320"/>
            <a:ext cx="3689280" cy="64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62480" y="3457440"/>
            <a:ext cx="3689280" cy="658800"/>
          </a:xfrm>
          <a:prstGeom prst="rect">
            <a:avLst/>
          </a:prstGeom>
          <a:solidFill>
            <a:srgbClr val="ff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63920" y="2674800"/>
            <a:ext cx="3689640" cy="65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6560" y="269712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bXM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P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07040" y="421164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bXML TRP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AP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48000" y="510228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SL, S2ML, PKCS #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71160" y="57196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, SMTP/POP, F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6520" y="361152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2592360"/>
            <a:ext cx="331920" cy="681120"/>
          </a:xfrm>
          <a:custGeom>
            <a:avLst/>
            <a:gdLst>
              <a:gd name="textAreaLeft" fmla="*/ 212040 w 331920"/>
              <a:gd name="textAreaRight" fmla="*/ 332280 w 331920"/>
              <a:gd name="textAreaTop" fmla="*/ 17640 h 681120"/>
              <a:gd name="textAreaBottom" fmla="*/ 663480 h 68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48040" y="3522600"/>
            <a:ext cx="331920" cy="598680"/>
          </a:xfrm>
          <a:custGeom>
            <a:avLst/>
            <a:gdLst>
              <a:gd name="textAreaLeft" fmla="*/ 212040 w 331920"/>
              <a:gd name="textAreaRight" fmla="*/ 332280 w 331920"/>
              <a:gd name="textAreaTop" fmla="*/ 15480 h 598680"/>
              <a:gd name="textAreaBottom" fmla="*/ 583200 h 5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92680" y="4986360"/>
            <a:ext cx="331560" cy="598320"/>
          </a:xfrm>
          <a:custGeom>
            <a:avLst/>
            <a:gdLst>
              <a:gd name="textAreaLeft" fmla="*/ 212040 w 331560"/>
              <a:gd name="textAreaRight" fmla="*/ 331920 w 331560"/>
              <a:gd name="textAreaTop" fmla="*/ 15480 h 598320"/>
              <a:gd name="textAreaBottom" fmla="*/ 582840 h 59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33720" y="5614920"/>
            <a:ext cx="331920" cy="598680"/>
          </a:xfrm>
          <a:custGeom>
            <a:avLst/>
            <a:gdLst>
              <a:gd name="textAreaLeft" fmla="*/ 212040 w 331920"/>
              <a:gd name="textAreaRight" fmla="*/ 332280 w 331920"/>
              <a:gd name="textAreaTop" fmla="*/ 15480 h 598680"/>
              <a:gd name="textAreaBottom" fmla="*/ 583200 h 5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440" y="4270320"/>
            <a:ext cx="331920" cy="603360"/>
          </a:xfrm>
          <a:custGeom>
            <a:avLst/>
            <a:gdLst>
              <a:gd name="textAreaLeft" fmla="*/ 212040 w 331920"/>
              <a:gd name="textAreaRight" fmla="*/ 332280 w 331920"/>
              <a:gd name="textAreaTop" fmla="*/ 15480 h 603360"/>
              <a:gd name="textAreaBottom" fmla="*/ 587880 h 60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1D1F1-2980-41E8-A0E7-09D30F7540C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2923C-CC99-4396-AA8C-5198014CCB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onversation Lifecycle 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4320" y="1760040"/>
            <a:ext cx="777240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message in a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message in a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ly join a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e a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97760" y="2309760"/>
            <a:ext cx="219708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A9343-4658-4800-BB48-BEA79D2D73A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659D7-59B6-4531-8A9A-45A56F9895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312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onversation Life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447920" y="1576440"/>
            <a:ext cx="6172200" cy="4976640"/>
            <a:chOff x="1447920" y="1576440"/>
            <a:chExt cx="6172200" cy="4976640"/>
          </a:xfrm>
        </p:grpSpPr>
        <p:sp>
          <p:nvSpPr>
            <p:cNvPr id="157" name=""/>
            <p:cNvSpPr/>
            <p:nvPr/>
          </p:nvSpPr>
          <p:spPr>
            <a:xfrm>
              <a:off x="1447920" y="1576440"/>
              <a:ext cx="2895480" cy="49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24280" y="1576440"/>
              <a:ext cx="2895840" cy="49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84360" y="1857240"/>
              <a:ext cx="1260360" cy="337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49400" y="188460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iti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14720" y="2309760"/>
              <a:ext cx="14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69040" y="1857240"/>
              <a:ext cx="1260360" cy="337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90080" y="1884600"/>
              <a:ext cx="72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articip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99400" y="2309760"/>
              <a:ext cx="1440" cy="40820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34240" y="3522240"/>
              <a:ext cx="129960" cy="168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34240" y="5010120"/>
              <a:ext cx="129960" cy="177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38760" y="1857240"/>
              <a:ext cx="1260360" cy="337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05800" y="1884600"/>
              <a:ext cx="82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Sub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32080" y="2026080"/>
              <a:ext cx="79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ordin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68760" y="2309760"/>
              <a:ext cx="180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14640" y="1857240"/>
              <a:ext cx="1260360" cy="337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34400" y="188460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Mai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07960" y="2026080"/>
              <a:ext cx="79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ordin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45000" y="2309760"/>
              <a:ext cx="1440" cy="10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79520" y="2468160"/>
              <a:ext cx="129888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435120" y="2468160"/>
              <a:ext cx="142920" cy="4464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3435120" y="2423880"/>
              <a:ext cx="14292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79520" y="2991600"/>
              <a:ext cx="129888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435120" y="2991600"/>
              <a:ext cx="14292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3435120" y="2946240"/>
              <a:ext cx="14292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10160" y="3256560"/>
              <a:ext cx="169380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44840" y="3256560"/>
              <a:ext cx="15876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244840" y="3212280"/>
              <a:ext cx="1587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33920" y="3522240"/>
              <a:ext cx="130032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675120" y="3522240"/>
              <a:ext cx="1587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6675120" y="3478320"/>
              <a:ext cx="1587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33920" y="3780000"/>
              <a:ext cx="630360" cy="87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33920" y="3867120"/>
              <a:ext cx="15732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533920" y="3823200"/>
              <a:ext cx="15732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33920" y="4094640"/>
              <a:ext cx="630000" cy="88560"/>
            </a:xfrm>
            <a:custGeom>
              <a:avLst/>
              <a:gdLst/>
              <a:ahLst/>
              <a:rect l="l" t="t" r="r" b="b"/>
              <a:pathLst>
                <a:path w="48" h="10">
                  <a:moveTo>
                    <a:pt x="0" y="0"/>
                  </a:moveTo>
                  <a:lnTo>
                    <a:pt x="48" y="0"/>
                  </a:lnTo>
                  <a:lnTo>
                    <a:pt x="48" y="10"/>
                  </a:lnTo>
                  <a:lnTo>
                    <a:pt x="1" y="1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46520" y="4183200"/>
              <a:ext cx="14436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746520" y="4139280"/>
              <a:ext cx="1443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79520" y="4488120"/>
              <a:ext cx="129888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3435120" y="4488120"/>
              <a:ext cx="14292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3435120" y="4442760"/>
              <a:ext cx="14292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10160" y="4753080"/>
              <a:ext cx="169380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244840" y="4753080"/>
              <a:ext cx="158760" cy="36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5244840" y="4709160"/>
              <a:ext cx="1587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33920" y="5010120"/>
              <a:ext cx="130032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675120" y="5010120"/>
              <a:ext cx="1587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675120" y="4965480"/>
              <a:ext cx="158760" cy="4464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2279520" y="5630040"/>
              <a:ext cx="129888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79520" y="5630040"/>
              <a:ext cx="157320" cy="34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279520" y="5585760"/>
              <a:ext cx="15732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3709800" y="5276520"/>
              <a:ext cx="169380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10160" y="5276520"/>
              <a:ext cx="1569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710160" y="5231160"/>
              <a:ext cx="156960" cy="4500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86400" y="2295720"/>
              <a:ext cx="0" cy="4077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03960" y="3256560"/>
              <a:ext cx="129960" cy="716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3960" y="4753080"/>
              <a:ext cx="129960" cy="859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57600" y="2295720"/>
              <a:ext cx="0" cy="4077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78400" y="2468160"/>
              <a:ext cx="131760" cy="168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78400" y="2991600"/>
              <a:ext cx="131760" cy="122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78400" y="4488120"/>
              <a:ext cx="131760" cy="1212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73200" y="3327480"/>
              <a:ext cx="19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: receive business mess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53240" y="3584880"/>
              <a:ext cx="1276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: enlist particip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93640" y="481428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: Conversation termin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51240" y="3061440"/>
              <a:ext cx="116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: send mess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6400" y="4214520"/>
              <a:ext cx="1370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: enlist sub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07480" y="4549320"/>
              <a:ext cx="171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: terminate conver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28280" y="508176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: Conversation termin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03640" y="4356000"/>
              <a:ext cx="76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09680" y="2355840"/>
              <a:ext cx="0" cy="4077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47760" y="2468160"/>
              <a:ext cx="131760" cy="3409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67680" y="2273400"/>
              <a:ext cx="1506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: create conver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24040" y="2796480"/>
              <a:ext cx="116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: send mess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92880" y="4294800"/>
              <a:ext cx="171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: terminate convers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99640" y="543528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: Conversation termin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16280" y="3914640"/>
              <a:ext cx="169380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33920" y="3914640"/>
              <a:ext cx="156960" cy="34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733920" y="3870720"/>
              <a:ext cx="156960" cy="43560"/>
            </a:xfrm>
            <a:prstGeom prst="line">
              <a:avLst/>
            </a:prstGeom>
            <a:ln w="1260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8080" y="373500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: regi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814BB-842A-40DE-98C1-6FE84ED1C06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21BD3-56D2-4004-9231-93442CCB23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1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Roles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s a trading partner, who creates the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s the first business mes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s the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 is a trading partner who is enlisted in the conversation when it receives the first business message inside the conver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spcAft>
                <a:spcPts val="224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leave the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s a list of subordinate co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s termination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s a list of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es in the termination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6180E-DC39-4DB1-BADB-AE04C22A7F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CBB95-7E21-419B-925E-DC793CFAA7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18:55:05Z</dcterms:created>
  <dc:creator>Sanjay Dalal</dc:creator>
  <dc:description/>
  <dc:language>en-US</dc:language>
  <cp:lastModifiedBy>James Hamilton</cp:lastModifiedBy>
  <cp:lastPrinted>1999-09-16T19:18:09Z</cp:lastPrinted>
  <dcterms:modified xsi:type="dcterms:W3CDTF">2001-10-20T16:08:52Z</dcterms:modified>
  <cp:revision>378</cp:revision>
  <dc:subject/>
  <dc:title>Conversation Management Protocol</dc:title>
</cp:coreProperties>
</file>