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FCD50-BD8B-455D-BD0E-FCA3C073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6EA8-4098-49D9-B177-BE5D4CA8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8AC2E-7B66-48D8-9149-813AA4B9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FD55B-7DAE-4B64-B9CD-9404EF36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12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F899D-0202-4A99-919A-CECF7361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0E8C-605D-4B1C-B237-A6928560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5AF85-579F-4835-BCCD-E45733E2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E2FCE-637D-45C2-8FCF-0E53BA12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12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1989C-9801-463B-921C-FE91352B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6894-8F63-4E9E-8266-73CD58EC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557FC-7220-4566-9768-9947A184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8C837-316A-466E-B7A2-6448F43B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4360" y="1309680"/>
            <a:ext cx="879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</a:t>
            </a: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 • 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3800" y="279360"/>
            <a:ext cx="1338120" cy="90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5A4E-E614-4572-86D3-92F57849127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A33F-F8EE-492A-A1DD-3C6A4F670C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309680"/>
            <a:ext cx="879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</a:t>
            </a: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 • 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43800" y="279360"/>
            <a:ext cx="1338120" cy="906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ists.oasis-open.org/archives/business-transaction/200103/zip00000.zip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9113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onversation Management Protocol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in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WebLogic Integration</a:t>
            </a:r>
            <a:br>
              <a:rPr sz="3600"/>
            </a:b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 October 15, 2001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anjay Dalal (sanjay@bea.com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EA Systems, Inc.</a:t>
            </a: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ummary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number of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where single party dictates outcome of a transaction, e.g. public/private ex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from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contra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pre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enlist/en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or does not “see” status (in or out of transaction) of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396FB-1F23-41E1-8EF5-AF43014717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AE788-D8A1-40D8-A603-B5925E0587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tatus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in WebLogic Integration product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docs.bea.com/wlintegration/v2_1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ed by OASIS Business Transaction Committee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oasis-open.org/committees/business-transactions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n March 8, 2001 as proposal from B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lists.oasis-open.org/archives/business-transaction/200103/zip00000.z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e name of the protocol was changed from “Conversation Management Protocol” to “Business Transaction Protocol” in the propo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0938A-C895-4DA4-A498-D073A004190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CC608-0888-41E1-9D76-6D4D8C3A07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Outline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Transactions over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 Management Protocol of WebLogic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77B7F-EF9F-48E4-838E-248DF44424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84C95-6B26-4D69-B1A9-C9C7913856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992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upply Chain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usiness Transaction Example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4091040" y="1577880"/>
            <a:ext cx="1187280" cy="461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7520" y="1558800"/>
            <a:ext cx="2023920" cy="462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1965240"/>
            <a:ext cx="58572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78200" y="3233880"/>
            <a:ext cx="58392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16000" y="4464000"/>
            <a:ext cx="58428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ip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4160" y="2670120"/>
            <a:ext cx="511200" cy="3524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89000" y="5711760"/>
            <a:ext cx="58608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5080" y="238752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05080" y="3022560"/>
            <a:ext cx="0" cy="2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0280" y="15858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3600" y="16113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63920" y="2039760"/>
            <a:ext cx="58608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5080" y="3249720"/>
            <a:ext cx="58572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92720" y="4592520"/>
            <a:ext cx="58572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k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7400" y="1590840"/>
            <a:ext cx="1679400" cy="458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54800" y="4398840"/>
            <a:ext cx="58428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56240" y="5710320"/>
            <a:ext cx="58428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rv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ip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13480" y="5089680"/>
            <a:ext cx="58572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53080" y="16477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hi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647080" y="6627960"/>
            <a:ext cx="15303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23600" y="649764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usiness mess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13000" y="365292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98600" y="4245120"/>
            <a:ext cx="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46240" y="5135400"/>
            <a:ext cx="511200" cy="3524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06520" y="489888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2480" y="550404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59480" y="245916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4680" y="367524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562120" y="3438000"/>
            <a:ext cx="1835280" cy="25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38840" y="483408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2720" y="5415120"/>
            <a:ext cx="0" cy="28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83240" y="5114880"/>
            <a:ext cx="513000" cy="353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188040" y="5291280"/>
            <a:ext cx="29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1200" y="4657680"/>
            <a:ext cx="3875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604600" y="4781160"/>
            <a:ext cx="3008520" cy="474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664000" y="4894200"/>
            <a:ext cx="3792240" cy="1015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1440" y="2617920"/>
            <a:ext cx="0" cy="1771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82000" y="459252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62120" y="2193840"/>
            <a:ext cx="1757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92720" y="3886200"/>
            <a:ext cx="58572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78200" y="3886200"/>
            <a:ext cx="58392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561760" y="4098960"/>
            <a:ext cx="1830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4680" y="430992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7193B-4C6C-47A2-A05A-AFF1F8F1356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57F06-CDE1-43CC-A312-B32FA9D49D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haracteristics of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usiness Transactions on the Web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615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ised of complex busines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 multiple enterprises (trading partn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ed as agreed upon processes within the context of trading partner 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running (minutes, hours, days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multiple business message ex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unreliable communication channel: HTTP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business transaction is dependent on the outcome of many local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is relaxed, compensation preferred over roll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2D9D7-FE12-454D-A48F-6851D248C21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99ED3-3180-448D-9C3C-E0419243E2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Requirements for protocol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/coordination of long-running business transactions across business processes of different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 business transaction management (coordination) protocol over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 is reliably conveyed to all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vive network and nod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protocol (less number of messages) over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71800" y="6215040"/>
            <a:ext cx="4257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14680" y="5114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&gt;&gt;&gt;Conversation Management Protocol (CM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E7512-A708-40F4-96FF-3D3282545FC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B4591-4671-4E21-8C48-C5CC671D97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2B stack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4365720" y="5662440"/>
            <a:ext cx="3689280" cy="590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51320" y="5037120"/>
            <a:ext cx="3689280" cy="49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68960" y="4270320"/>
            <a:ext cx="3689280" cy="64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62480" y="3457440"/>
            <a:ext cx="3689280" cy="658800"/>
          </a:xfrm>
          <a:prstGeom prst="rect">
            <a:avLst/>
          </a:prstGeom>
          <a:solidFill>
            <a:srgbClr val="ffff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63920" y="2674800"/>
            <a:ext cx="3689640" cy="65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6560" y="269712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bXM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P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07040" y="4211640"/>
            <a:ext cx="15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bXML TRP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AP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48000" y="510228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SL, S2ML, PKCS #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71160" y="57196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, SMTP/POP, F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6520" y="36115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2592360"/>
            <a:ext cx="331920" cy="681120"/>
          </a:xfrm>
          <a:custGeom>
            <a:avLst/>
            <a:gdLst>
              <a:gd name="textAreaLeft" fmla="*/ 212040 w 331920"/>
              <a:gd name="textAreaRight" fmla="*/ 332280 w 331920"/>
              <a:gd name="textAreaTop" fmla="*/ 17640 h 681120"/>
              <a:gd name="textAreaBottom" fmla="*/ 663480 h 6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48040" y="3522600"/>
            <a:ext cx="331920" cy="598680"/>
          </a:xfrm>
          <a:custGeom>
            <a:avLst/>
            <a:gdLst>
              <a:gd name="textAreaLeft" fmla="*/ 212040 w 331920"/>
              <a:gd name="textAreaRight" fmla="*/ 332280 w 331920"/>
              <a:gd name="textAreaTop" fmla="*/ 15480 h 598680"/>
              <a:gd name="textAreaBottom" fmla="*/ 583200 h 59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92680" y="4986360"/>
            <a:ext cx="331560" cy="598320"/>
          </a:xfrm>
          <a:custGeom>
            <a:avLst/>
            <a:gdLst>
              <a:gd name="textAreaLeft" fmla="*/ 212040 w 331560"/>
              <a:gd name="textAreaRight" fmla="*/ 331920 w 33156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33720" y="5614920"/>
            <a:ext cx="331920" cy="598680"/>
          </a:xfrm>
          <a:custGeom>
            <a:avLst/>
            <a:gdLst>
              <a:gd name="textAreaLeft" fmla="*/ 212040 w 331920"/>
              <a:gd name="textAreaRight" fmla="*/ 332280 w 331920"/>
              <a:gd name="textAreaTop" fmla="*/ 15480 h 598680"/>
              <a:gd name="textAreaBottom" fmla="*/ 583200 h 59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440" y="4270320"/>
            <a:ext cx="331920" cy="603360"/>
          </a:xfrm>
          <a:custGeom>
            <a:avLst/>
            <a:gdLst>
              <a:gd name="textAreaLeft" fmla="*/ 212040 w 331920"/>
              <a:gd name="textAreaRight" fmla="*/ 332280 w 331920"/>
              <a:gd name="textAreaTop" fmla="*/ 15480 h 603360"/>
              <a:gd name="textAreaBottom" fmla="*/ 587880 h 60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5171E-900F-47E3-B8DF-243CF0B1B39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97054-0EDB-4CF1-84C9-7291D7430A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onversation Lifecycle 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4320" y="1760040"/>
            <a:ext cx="777240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message in a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message in a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itly join a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e a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97760" y="2309760"/>
            <a:ext cx="219708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5AB57-08D9-4F73-8903-658F4649B2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C2E78-D0EC-45C1-9D09-596E02F9C7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312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onversation Lifecy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447920" y="1576440"/>
            <a:ext cx="6172200" cy="4976640"/>
            <a:chOff x="1447920" y="1576440"/>
            <a:chExt cx="6172200" cy="4976640"/>
          </a:xfrm>
        </p:grpSpPr>
        <p:sp>
          <p:nvSpPr>
            <p:cNvPr id="157" name=""/>
            <p:cNvSpPr/>
            <p:nvPr/>
          </p:nvSpPr>
          <p:spPr>
            <a:xfrm>
              <a:off x="1447920" y="1576440"/>
              <a:ext cx="2895480" cy="49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24280" y="1576440"/>
              <a:ext cx="2895840" cy="49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84360" y="1857240"/>
              <a:ext cx="1260360" cy="337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49400" y="188460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iti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14720" y="2309760"/>
              <a:ext cx="14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69040" y="1857240"/>
              <a:ext cx="1260360" cy="337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90080" y="1884600"/>
              <a:ext cx="72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articip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99400" y="2309760"/>
              <a:ext cx="1440" cy="40820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34240" y="3522240"/>
              <a:ext cx="129960" cy="168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34240" y="5010120"/>
              <a:ext cx="129960" cy="177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38760" y="1857240"/>
              <a:ext cx="1260360" cy="337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05800" y="1884600"/>
              <a:ext cx="82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Sub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32080" y="2026080"/>
              <a:ext cx="79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ordin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68760" y="2309760"/>
              <a:ext cx="18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14640" y="1857240"/>
              <a:ext cx="1260360" cy="337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34400" y="1884600"/>
              <a:ext cx="37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Ma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07960" y="2026080"/>
              <a:ext cx="79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ordin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45000" y="2309760"/>
              <a:ext cx="14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79520" y="2468160"/>
              <a:ext cx="129888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435120" y="2468160"/>
              <a:ext cx="142920" cy="4464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3435120" y="2423880"/>
              <a:ext cx="14292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79520" y="2991600"/>
              <a:ext cx="129888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35120" y="2991600"/>
              <a:ext cx="14292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3435120" y="2946240"/>
              <a:ext cx="142920" cy="45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10160" y="3256560"/>
              <a:ext cx="169380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44840" y="3256560"/>
              <a:ext cx="158760" cy="45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5244840" y="3212280"/>
              <a:ext cx="1587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33920" y="3522240"/>
              <a:ext cx="130032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675120" y="3522240"/>
              <a:ext cx="1587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6675120" y="3478320"/>
              <a:ext cx="1587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33920" y="3780000"/>
              <a:ext cx="630360" cy="87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33920" y="3867120"/>
              <a:ext cx="157320" cy="45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533920" y="3823200"/>
              <a:ext cx="15732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33920" y="4094640"/>
              <a:ext cx="630000" cy="8856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0" y="0"/>
                  </a:moveTo>
                  <a:lnTo>
                    <a:pt x="48" y="0"/>
                  </a:lnTo>
                  <a:lnTo>
                    <a:pt x="48" y="10"/>
                  </a:lnTo>
                  <a:lnTo>
                    <a:pt x="1" y="1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46520" y="4183200"/>
              <a:ext cx="144360" cy="45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746520" y="4139280"/>
              <a:ext cx="1443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79520" y="4488120"/>
              <a:ext cx="129888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435120" y="4488120"/>
              <a:ext cx="14292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3435120" y="4442760"/>
              <a:ext cx="142920" cy="45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10160" y="4753080"/>
              <a:ext cx="169380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244840" y="4753080"/>
              <a:ext cx="158760" cy="36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5244840" y="4709160"/>
              <a:ext cx="1587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33920" y="5010120"/>
              <a:ext cx="130032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675120" y="5010120"/>
              <a:ext cx="1587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675120" y="4965480"/>
              <a:ext cx="158760" cy="4464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279520" y="5630040"/>
              <a:ext cx="129888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79520" y="5630040"/>
              <a:ext cx="157320" cy="34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279520" y="5585760"/>
              <a:ext cx="15732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3709800" y="5276520"/>
              <a:ext cx="169380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10160" y="5276520"/>
              <a:ext cx="1569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710160" y="5231160"/>
              <a:ext cx="156960" cy="45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86400" y="2295720"/>
              <a:ext cx="0" cy="4077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03960" y="3256560"/>
              <a:ext cx="129960" cy="716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3960" y="4753080"/>
              <a:ext cx="129960" cy="859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57600" y="2295720"/>
              <a:ext cx="0" cy="4077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78400" y="2468160"/>
              <a:ext cx="131760" cy="168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78400" y="2991600"/>
              <a:ext cx="131760" cy="122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78400" y="4488120"/>
              <a:ext cx="131760" cy="1212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73200" y="3327480"/>
              <a:ext cx="19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: receive business mess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53240" y="3584880"/>
              <a:ext cx="1276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: enlist particip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93640" y="4814280"/>
              <a:ext cx="192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: Conversation termin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51240" y="3061440"/>
              <a:ext cx="116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: send mess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6400" y="4214520"/>
              <a:ext cx="137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: enlist sub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07480" y="4549320"/>
              <a:ext cx="171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: terminate convers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28280" y="5081760"/>
              <a:ext cx="192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: Conversation termin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03640" y="4356000"/>
              <a:ext cx="76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ordin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09680" y="2355840"/>
              <a:ext cx="0" cy="4077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47760" y="2468160"/>
              <a:ext cx="131760" cy="3409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67680" y="2273400"/>
              <a:ext cx="150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: create convers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24040" y="2796480"/>
              <a:ext cx="116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: send mess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92880" y="4294800"/>
              <a:ext cx="171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: terminate convers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99640" y="5435280"/>
              <a:ext cx="192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: Conversation termin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16280" y="3914640"/>
              <a:ext cx="169380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33920" y="3914640"/>
              <a:ext cx="156960" cy="34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733920" y="3870720"/>
              <a:ext cx="1569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8080" y="373500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: regi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FF7D7-E6C1-4586-91E7-1888F112F6BB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32E2D-BC23-4BB1-8847-2F957A157F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Roles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s a trading partner, who creates the conver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s the first business mes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s the conver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 is a trading partner who is enlisted in the conversation when it receives the first business message inside the convers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leave the conver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s a list of subordinate co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s termination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s a list of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es in the termination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048EF-7A32-4DB2-8D08-05CE52F13C4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7B1AE-E72C-4497-9A7F-3CA383779B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18:55:05Z</dcterms:created>
  <dc:creator>Sanjay Dalal</dc:creator>
  <dc:description/>
  <dc:language>en-US</dc:language>
  <cp:lastModifiedBy>James Hamilton</cp:lastModifiedBy>
  <cp:lastPrinted>1999-09-16T19:18:09Z</cp:lastPrinted>
  <dcterms:modified xsi:type="dcterms:W3CDTF">2001-10-20T16:08:52Z</dcterms:modified>
  <cp:revision>378</cp:revision>
  <dc:subject/>
  <dc:title>Conversation Management Protocol</dc:title>
</cp:coreProperties>
</file>