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0A03-C501-4AF9-BD98-CFECCE4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05A1-E49A-4868-8FD8-0852488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6B67-130F-41AE-9560-E3909461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52D0-2EB5-44D7-A35D-4FB2D09D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7F33-843C-40EA-8DE5-ADD4EC2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CEB4-C0A4-4C5C-A123-FF20EDB4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C064-51EE-494A-B296-F9F5F4FB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851C-1D03-4A7A-AD4C-625AF264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02AC-8BD9-406E-9EFC-D6CA2C99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812D-0012-4C91-B1D3-5E9629C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1F40-0BF1-444C-BE0C-61CC87B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296E-C175-4696-92A9-320F077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279360"/>
            <a:ext cx="1338120" cy="9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BE2A-D1B7-4F4E-9F51-A29AF528FB6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A351-BD62-4615-8943-496DEFB281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43800" y="279360"/>
            <a:ext cx="1338120" cy="906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sts.oasis-open.org/archives/business-transaction/200103/zip00000.zi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9113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Management Protocol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n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bLogic Integration</a:t>
            </a:r>
            <a:br>
              <a:rPr sz="3600"/>
            </a:b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October 15, 2001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anjay Dalal (sanjay@bea.com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A Systems, Inc.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number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where single party dictates outcome of a transaction, e.g. public/privat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from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contr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enlist/en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 does not “see” status (in or out of transaction) of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2C2B-2A8F-4634-A58E-6C79FF4D36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A50E3-ABA8-439B-8D5D-E3A2DC8D2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tatu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WebLogic Integration produc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docs.bea.com/wlintegration/v2_1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by OASIS Business Transaction Committee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oasis-open.org/committees/business-transaction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March 8, 2001 as proposal from B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oasis-open.org/archives/business-transaction/200103/zip00000.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name of the protocol was changed from “Conversation Management Protocol” to “Business Transaction Protocol” in the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85F9-EE43-429C-B260-11638410025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F0BC2-DDE4-4F8C-8401-67BCDABA7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Transactions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Management Protocol of WebLogi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EAD7-3D0C-4C0F-B65C-1BCD7DA617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7C022-8FDB-4F17-8765-1F491EC4E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992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upply Chai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usiness Transaction Exampl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1577880"/>
            <a:ext cx="1187280" cy="461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7520" y="1558800"/>
            <a:ext cx="2023920" cy="462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96524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8200" y="3233880"/>
            <a:ext cx="5839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4464000"/>
            <a:ext cx="5842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4160" y="2670120"/>
            <a:ext cx="511200" cy="352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9000" y="5711760"/>
            <a:ext cx="5860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5080" y="23875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5080" y="3022560"/>
            <a:ext cx="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0280" y="15858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3600" y="1611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2039760"/>
            <a:ext cx="5860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324972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2720" y="459252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k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7400" y="1590840"/>
            <a:ext cx="1679400" cy="458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4800" y="4398840"/>
            <a:ext cx="5842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56240" y="5710320"/>
            <a:ext cx="5842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13480" y="508968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3080" y="1647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47080" y="6627960"/>
            <a:ext cx="1530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23600" y="6497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 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13000" y="365292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8600" y="424512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6240" y="5135400"/>
            <a:ext cx="511200" cy="352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6520" y="48988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2480" y="55040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59480" y="24591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4680" y="36752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62120" y="3438000"/>
            <a:ext cx="1835280" cy="2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38840" y="4834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5415120"/>
            <a:ext cx="0" cy="28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3240" y="5114880"/>
            <a:ext cx="513000" cy="353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188040" y="52912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1200" y="4657680"/>
            <a:ext cx="3875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604600" y="4781160"/>
            <a:ext cx="3008520" cy="47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664000" y="4894200"/>
            <a:ext cx="3792240" cy="10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2617920"/>
            <a:ext cx="0" cy="177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20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62120" y="2193840"/>
            <a:ext cx="17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2720" y="3886200"/>
            <a:ext cx="5857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8200" y="3886200"/>
            <a:ext cx="5839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61760" y="4098960"/>
            <a:ext cx="183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4680" y="43099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E70F-108D-447A-827B-026E0E02C00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FA768-E3E3-40F6-8894-8CF4A2FCFA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usiness Transactions on the Web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1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d of complex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 multiple enterprises (trading partn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ed as agreed upon processes within the context of trading partner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running (minutes, hours, days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multiple business messag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unreliable communication channel: HTTP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business transaction is dependent on the outcome of many local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is relaxed, compensation preferred over roll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3310-7DDD-4143-AE13-07F53E2292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F9E7-F711-4A7B-AC11-749ADF4CB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quirements for protocol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/coordination of long-running business transactions across business processes of different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business transaction management (coordination) protocol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is reliably conveyed to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e network and nod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protocol (less number of messages)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6215040"/>
            <a:ext cx="4257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14680" y="5114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&gt;&gt;&gt;Conversation Management Protocol (C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82A7-9A29-4B86-BFE4-A1A3DF020A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8CAC-0028-4DC4-AF04-C160C066AF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2B stack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4365720" y="5662440"/>
            <a:ext cx="3689280" cy="590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1320" y="5037120"/>
            <a:ext cx="3689280" cy="49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68960" y="4270320"/>
            <a:ext cx="3689280" cy="64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62480" y="3457440"/>
            <a:ext cx="3689280" cy="658800"/>
          </a:xfrm>
          <a:prstGeom prst="rect">
            <a:avLst/>
          </a:prstGeom>
          <a:solidFill>
            <a:srgbClr val="ff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3920" y="2674800"/>
            <a:ext cx="3689640" cy="65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26971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bXM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7040" y="42116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bXML TR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A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8000" y="5102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SL, S2ML, PKCS #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1160" y="57196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, SMTP/POP, 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6520" y="3611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592360"/>
            <a:ext cx="331920" cy="681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17640 h 681120"/>
              <a:gd name="textAreaBottom" fmla="*/ 66348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48040" y="3522600"/>
            <a:ext cx="331920" cy="5986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2680" y="4986360"/>
            <a:ext cx="331560" cy="598320"/>
          </a:xfrm>
          <a:custGeom>
            <a:avLst/>
            <a:gdLst>
              <a:gd name="textAreaLeft" fmla="*/ 212040 w 331560"/>
              <a:gd name="textAreaRight" fmla="*/ 331920 w 33156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3720" y="5614920"/>
            <a:ext cx="331920" cy="5986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440" y="4270320"/>
            <a:ext cx="331920" cy="60336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603360"/>
              <a:gd name="textAreaBottom" fmla="*/ 587880 h 6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D13E-5D18-4261-B114-7011343EFA0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C70A2-E3B5-417D-9293-B4D4F9F2C0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Lifecycle 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760040"/>
            <a:ext cx="77724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essage 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message 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ly jo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97760" y="2309760"/>
            <a:ext cx="219708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876B-933A-4E75-A0CB-59976CA881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8D078-F751-447F-9132-04E3BF7DF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12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Life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47920" y="1576440"/>
            <a:ext cx="6172200" cy="4976640"/>
            <a:chOff x="1447920" y="1576440"/>
            <a:chExt cx="6172200" cy="4976640"/>
          </a:xfrm>
        </p:grpSpPr>
        <p:sp>
          <p:nvSpPr>
            <p:cNvPr id="157" name=""/>
            <p:cNvSpPr/>
            <p:nvPr/>
          </p:nvSpPr>
          <p:spPr>
            <a:xfrm>
              <a:off x="1447920" y="1576440"/>
              <a:ext cx="2895480" cy="49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4280" y="1576440"/>
              <a:ext cx="2895840" cy="49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436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9400" y="18846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iti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4720" y="230976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904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90080" y="18846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articip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9400" y="2309760"/>
              <a:ext cx="1440" cy="4082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34240" y="3522240"/>
              <a:ext cx="129960" cy="168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34240" y="5010120"/>
              <a:ext cx="129960" cy="177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3876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05800" y="188460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ub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32080" y="202608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8760" y="230976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464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34400" y="188460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Ma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7960" y="202608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45000" y="230976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246816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435120" y="2468160"/>
              <a:ext cx="142920" cy="4464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435120" y="242388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9520" y="299160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35120" y="299160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435120" y="2946240"/>
              <a:ext cx="1429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10160" y="325656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44840" y="3256560"/>
              <a:ext cx="1587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244840" y="321228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33920" y="3522240"/>
              <a:ext cx="130032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675120" y="352224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675120" y="347832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3780000"/>
              <a:ext cx="63036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3920" y="3867120"/>
              <a:ext cx="1573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533920" y="3823200"/>
              <a:ext cx="1573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4094640"/>
              <a:ext cx="630000" cy="8856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0" y="0"/>
                  </a:moveTo>
                  <a:lnTo>
                    <a:pt x="48" y="0"/>
                  </a:lnTo>
                  <a:lnTo>
                    <a:pt x="48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46520" y="4183200"/>
              <a:ext cx="1443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746520" y="4139280"/>
              <a:ext cx="1443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79520" y="448812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435120" y="448812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435120" y="4442760"/>
              <a:ext cx="1429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10160" y="475308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244840" y="4753080"/>
              <a:ext cx="158760" cy="36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244840" y="470916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33920" y="5010120"/>
              <a:ext cx="130032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675120" y="501012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675120" y="4965480"/>
              <a:ext cx="158760" cy="4464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279520" y="563004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9520" y="5630040"/>
              <a:ext cx="157320" cy="34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279520" y="5585760"/>
              <a:ext cx="1573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709800" y="527652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10160" y="5276520"/>
              <a:ext cx="1569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710160" y="5231160"/>
              <a:ext cx="1569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86400" y="229572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03960" y="3256560"/>
              <a:ext cx="129960" cy="71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3960" y="4753080"/>
              <a:ext cx="129960" cy="859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7600" y="229572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78400" y="2468160"/>
              <a:ext cx="131760" cy="168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78400" y="2991600"/>
              <a:ext cx="131760" cy="122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400" y="4488120"/>
              <a:ext cx="131760" cy="1212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73200" y="332748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receive business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3240" y="3584880"/>
              <a:ext cx="127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: enlist particip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3640" y="48142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51240" y="306144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send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6400" y="421452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: enlist sub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7480" y="4549320"/>
              <a:ext cx="171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: termin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8280" y="508176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3640" y="435600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9680" y="235584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47760" y="2468160"/>
              <a:ext cx="131760" cy="3409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7680" y="2273400"/>
              <a:ext cx="150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cre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4040" y="279648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send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92880" y="4294800"/>
              <a:ext cx="171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: termin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99640" y="54352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6280" y="391464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920" y="3914640"/>
              <a:ext cx="156960" cy="34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33920" y="3870720"/>
              <a:ext cx="1569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080" y="37350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: 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82F2-AECB-4EB2-AAFF-C6F2C64716F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08A8F-A1E1-4248-8657-5211365373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ol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s a trading partner, who creates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the first business me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is a trading partner who is enlisted in the conversation when it receives the first business message inside the conver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ve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subordinate co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termin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s in the termin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B70A-E36B-4986-8A8F-898FFC6715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4AA02-9938-4FB6-ADC5-BD4C225E00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8:55:05Z</dcterms:created>
  <dc:creator>Sanjay Dalal</dc:creator>
  <dc:description/>
  <dc:language>en-US</dc:language>
  <cp:lastModifiedBy>James Hamilton</cp:lastModifiedBy>
  <cp:lastPrinted>1999-09-16T19:18:09Z</cp:lastPrinted>
  <dcterms:modified xsi:type="dcterms:W3CDTF">2001-10-20T16:08:52Z</dcterms:modified>
  <cp:revision>378</cp:revision>
  <dc:subject/>
  <dc:title>Conversation Management Protocol</dc:title>
</cp:coreProperties>
</file>