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ED84-418D-4156-A541-653418E7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2760" y="38469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3D2-56B6-48AA-B609-4CC7830F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204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36D6-D313-47CE-90F0-7656410E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0372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35040" y="15537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276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0372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35040" y="3846960"/>
            <a:ext cx="2600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9E2-2E4C-4806-8AE8-01127927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088D-1A29-4A08-AFB3-7DBE8F42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342-E883-4442-B510-702DEA14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A35-FDD9-4D79-B905-F59D2F4F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760-211A-4B5C-AC94-3B1760F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3160" y="228600"/>
            <a:ext cx="8103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8D0-4BD7-4FFD-B78B-39947C2C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6CA-9888-4030-9793-21C67951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2040" y="38469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87C-9EE5-406A-87BD-12A54E6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2040" y="1553760"/>
            <a:ext cx="394164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2760" y="3846960"/>
            <a:ext cx="807732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C6C6-2142-4DE1-81AA-67FA24BF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440" y="6248520"/>
            <a:ext cx="9144000" cy="1029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029280" y="6532560"/>
            <a:ext cx="190512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1825560" y="6532560"/>
            <a:ext cx="413856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024400" y="6532560"/>
            <a:ext cx="1119240" cy="40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227-21FC-4E3D-89FD-8851D4EC1B72}" type="slidenum">
              <a:rPr b="0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700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82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1640" indent="-176040">
              <a:spcBef>
                <a:spcPts val="7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2920" y="6491160"/>
            <a:ext cx="130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Unisys Logo"/>
              </a:rPr>
              <a:t>Uni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7427880" y="6456240"/>
            <a:ext cx="1633680" cy="84240"/>
            <a:chOff x="7427880" y="6456240"/>
            <a:chExt cx="1633680" cy="84240"/>
          </a:xfrm>
        </p:grpSpPr>
        <p:sp>
          <p:nvSpPr>
            <p:cNvPr id="10" name=""/>
            <p:cNvSpPr/>
            <p:nvPr/>
          </p:nvSpPr>
          <p:spPr>
            <a:xfrm>
              <a:off x="80438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534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61240" y="645624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70840" y="645624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3604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27880" y="645624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1280" y="1287360"/>
            <a:ext cx="1633680" cy="84240"/>
            <a:chOff x="71280" y="1287360"/>
            <a:chExt cx="1633680" cy="84240"/>
          </a:xfrm>
        </p:grpSpPr>
        <p:sp>
          <p:nvSpPr>
            <p:cNvPr id="17" name=""/>
            <p:cNvSpPr/>
            <p:nvPr/>
          </p:nvSpPr>
          <p:spPr>
            <a:xfrm>
              <a:off x="68724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9684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0500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460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79440" y="1287360"/>
              <a:ext cx="9036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280" y="1287360"/>
              <a:ext cx="90720" cy="84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680" y="1905120"/>
            <a:ext cx="85410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s and Web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3c46"/>
                </a:solidFill>
                <a:latin typeface="Arial"/>
                <a:ea typeface="Times New Roman"/>
              </a:rPr>
              <a:t>Considered Harm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Inhibit 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971800"/>
            <a:ext cx="6248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Vavr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s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733-1C81-400D-B69D-3FDDE42D6C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hat do we do in handcrafted TP systems that isn’t available commercially?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ation of a deployed T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ze the non-functi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, capacity, availability, durability, recoverability, maintainabil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ing optimization by dedicated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rom development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91D-CCC9-4479-8BCA-35A77F1B25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Reusable Components and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Web Servi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visible well-defined functional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 definition, transaction semantics,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hidden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dden non-functional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679-BF20-4772-A3A6-7932FB1FBC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-functional attributes are importan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2806560" cy="2211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619440" cy="2209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3062160" cy="221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209-F8EF-4058-BB90-AE8A3BA018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039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Expand Definitions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omponent and Web Servic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2760" y="155376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SDL should include non-functional attributes of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to application architects, designers, and optim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3004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to component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4480" indent="-158760">
              <a:spcBef>
                <a:spcPts val="601"/>
              </a:spcBef>
              <a:buClr>
                <a:srgbClr val="000000"/>
              </a:buClr>
              <a:buSzPct val="87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inforces the notion that implementation quality doe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research underway on QoS for components, e.g., in the real-tim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64F-BD92-4919-AF3B-68507DF67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6T00:54:37Z</dcterms:created>
  <dc:creator>Robert Vavra</dc:creator>
  <dc:description/>
  <dc:language>en-US</dc:language>
  <cp:lastModifiedBy>James Hamilton</cp:lastModifiedBy>
  <cp:lastPrinted>1998-05-06T19:07:54Z</cp:lastPrinted>
  <dcterms:modified xsi:type="dcterms:W3CDTF">2001-10-19T15:18:43Z</dcterms:modified>
  <cp:revision>2</cp:revision>
  <dc:subject/>
  <dc:title>Components and Web Services Inhibit Quality of Service</dc:title>
</cp:coreProperties>
</file>