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84AB-8B09-4FA4-ACEE-4E05D3B95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1039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72760" y="1553760"/>
            <a:ext cx="8077320" cy="209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72760" y="3846960"/>
            <a:ext cx="8077320" cy="209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4829-1B5F-4676-B5F4-E52190C3B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1039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72760" y="1553760"/>
            <a:ext cx="3941640" cy="209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12040" y="1553760"/>
            <a:ext cx="3941640" cy="209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72760" y="3846960"/>
            <a:ext cx="3941640" cy="209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712040" y="3846960"/>
            <a:ext cx="3941640" cy="209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74A5-FFB1-415F-AE56-425279F34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1039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72760" y="1553760"/>
            <a:ext cx="2600640" cy="209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303720" y="1553760"/>
            <a:ext cx="2600640" cy="209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35040" y="1553760"/>
            <a:ext cx="2600640" cy="209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72760" y="3846960"/>
            <a:ext cx="2600640" cy="209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303720" y="3846960"/>
            <a:ext cx="2600640" cy="209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35040" y="3846960"/>
            <a:ext cx="2600640" cy="209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2AE1-A9DE-4B8F-97C0-6B17B4401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1039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572760" y="1553760"/>
            <a:ext cx="807732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6E66-FDCF-4005-A26E-FEA218EED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1039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72760" y="1553760"/>
            <a:ext cx="8077320" cy="438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CBB9-D5DC-40D1-A00D-54820AE5E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1039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72760" y="1553760"/>
            <a:ext cx="3941640" cy="438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2040" y="1553760"/>
            <a:ext cx="3941640" cy="438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BFE9-611C-4D37-ADEC-65462F109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1039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3FFC-CC84-48FC-B241-140199EEB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533160" y="228600"/>
            <a:ext cx="8103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A307-A38C-485A-BEC0-CB244DE32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1039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72760" y="1553760"/>
            <a:ext cx="3941640" cy="209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2040" y="1553760"/>
            <a:ext cx="3941640" cy="438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72760" y="3846960"/>
            <a:ext cx="3941640" cy="209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187B-837C-4905-A492-FB3B6CBEF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1039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72760" y="1553760"/>
            <a:ext cx="3941640" cy="438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12040" y="1553760"/>
            <a:ext cx="3941640" cy="209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712040" y="3846960"/>
            <a:ext cx="3941640" cy="209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A974-65F5-4B40-893B-70F8A2C99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1039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72760" y="1553760"/>
            <a:ext cx="3941640" cy="209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12040" y="1553760"/>
            <a:ext cx="3941640" cy="209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72760" y="3846960"/>
            <a:ext cx="8077320" cy="209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73A8-2099-4A4E-8F7B-D70A057B1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2560" cy="624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-1440" y="6248520"/>
            <a:ext cx="9144000" cy="10296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6029280" y="6532560"/>
            <a:ext cx="1905120" cy="40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1825560" y="6532560"/>
            <a:ext cx="4138560" cy="40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024400" y="6532560"/>
            <a:ext cx="1119240" cy="40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C8E58-F6C7-4112-AF3C-41094935E2DF}" type="slidenum">
              <a:rPr b="0" lang="en-US" sz="10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533160" y="228600"/>
            <a:ext cx="81039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572760" y="1553760"/>
            <a:ext cx="8077320" cy="438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30040">
              <a:spcBef>
                <a:spcPts val="700"/>
              </a:spcBef>
              <a:buClr>
                <a:srgbClr val="000000"/>
              </a:buClr>
              <a:buSzPct val="87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14480" indent="-158760">
              <a:spcBef>
                <a:spcPts val="700"/>
              </a:spcBef>
              <a:buClr>
                <a:srgbClr val="000000"/>
              </a:buClr>
              <a:buSzPct val="8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11120" indent="-18252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1640" indent="-176040">
              <a:spcBef>
                <a:spcPts val="700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1640" indent="-176040">
              <a:spcBef>
                <a:spcPts val="700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1640" indent="-176040">
              <a:spcBef>
                <a:spcPts val="700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142920" y="6491160"/>
            <a:ext cx="1301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Unisys Logo"/>
              </a:rPr>
              <a:t>Unis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7427880" y="6456240"/>
            <a:ext cx="1633680" cy="84240"/>
            <a:chOff x="7427880" y="6456240"/>
            <a:chExt cx="1633680" cy="84240"/>
          </a:xfrm>
        </p:grpSpPr>
        <p:sp>
          <p:nvSpPr>
            <p:cNvPr id="10" name=""/>
            <p:cNvSpPr/>
            <p:nvPr/>
          </p:nvSpPr>
          <p:spPr>
            <a:xfrm>
              <a:off x="8043840" y="6456240"/>
              <a:ext cx="90360" cy="842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53440" y="6456240"/>
              <a:ext cx="90360" cy="842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661240" y="6456240"/>
              <a:ext cx="90720" cy="842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970840" y="6456240"/>
              <a:ext cx="90720" cy="842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736040" y="6456240"/>
              <a:ext cx="90360" cy="842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7427880" y="6456240"/>
              <a:ext cx="90360" cy="842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71280" y="1287360"/>
            <a:ext cx="1633680" cy="84240"/>
            <a:chOff x="71280" y="1287360"/>
            <a:chExt cx="1633680" cy="84240"/>
          </a:xfrm>
        </p:grpSpPr>
        <p:sp>
          <p:nvSpPr>
            <p:cNvPr id="17" name=""/>
            <p:cNvSpPr/>
            <p:nvPr/>
          </p:nvSpPr>
          <p:spPr>
            <a:xfrm>
              <a:off x="687240" y="1287360"/>
              <a:ext cx="90720" cy="842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996840" y="1287360"/>
              <a:ext cx="90720" cy="842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305000" y="1287360"/>
              <a:ext cx="90360" cy="842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614600" y="1287360"/>
              <a:ext cx="90360" cy="842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79440" y="1287360"/>
              <a:ext cx="90360" cy="842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71280" y="1287360"/>
              <a:ext cx="90720" cy="842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9142560" cy="685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1680" y="1905120"/>
            <a:ext cx="8541000" cy="21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Components and Web Serv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93c46"/>
                </a:solidFill>
                <a:latin typeface="Arial"/>
                <a:ea typeface="Times New Roman"/>
              </a:rPr>
              <a:t>Considered Harmfu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Inhibit Quality of Serv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00200" y="2971800"/>
            <a:ext cx="62485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b Vavr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s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1F89-1986-4E96-8490-A6C151B13CA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What do we do in handcrafted TP systems that isn’t available commercially?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72760" y="1553760"/>
            <a:ext cx="8077320" cy="438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ptimization of a deployed TP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30040">
              <a:spcBef>
                <a:spcPts val="601"/>
              </a:spcBef>
              <a:buClr>
                <a:srgbClr val="000000"/>
              </a:buClr>
              <a:buSzPct val="87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timize the non-functional attrib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4480" indent="-158760">
              <a:spcBef>
                <a:spcPts val="601"/>
              </a:spcBef>
              <a:buClr>
                <a:srgbClr val="000000"/>
              </a:buClr>
              <a:buSzPct val="87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erformance, capacity, availability, durability, recoverability, maintainability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ntinuing optimization by dedicated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30040">
              <a:spcBef>
                <a:spcPts val="601"/>
              </a:spcBef>
              <a:buClr>
                <a:srgbClr val="000000"/>
              </a:buClr>
              <a:buSzPct val="87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parate from development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E3DA-7559-45C3-9E16-E7BEBADF4E7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1039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Reusable Components and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Web Service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72760" y="1553760"/>
            <a:ext cx="8077320" cy="438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ave visible well-defined functional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30040">
              <a:spcBef>
                <a:spcPts val="601"/>
              </a:spcBef>
              <a:buClr>
                <a:srgbClr val="000000"/>
              </a:buClr>
              <a:buSzPct val="87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erface definition, transaction semantics, and 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ave hidden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30040">
              <a:spcBef>
                <a:spcPts val="601"/>
              </a:spcBef>
              <a:buClr>
                <a:srgbClr val="000000"/>
              </a:buClr>
              <a:buSzPct val="87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idden non-functional attrib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476B-4C60-4F4A-9333-173D3B21C95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1039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on-functional attributes are important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362320" y="1371600"/>
            <a:ext cx="2806560" cy="22114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57200" y="3886200"/>
            <a:ext cx="3619440" cy="2209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4648320" y="3886200"/>
            <a:ext cx="3062160" cy="2212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D84A-76DC-484E-BC15-9EA7837FB0B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1039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Expand Definitions of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Component and Web Service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72760" y="1553760"/>
            <a:ext cx="8077320" cy="438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WSDL should include non-functional attributes of the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30040">
              <a:spcBef>
                <a:spcPts val="601"/>
              </a:spcBef>
              <a:buClr>
                <a:srgbClr val="000000"/>
              </a:buClr>
              <a:buSzPct val="87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seful to application architects, designers, and optimiz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30040">
              <a:spcBef>
                <a:spcPts val="601"/>
              </a:spcBef>
              <a:buClr>
                <a:srgbClr val="000000"/>
              </a:buClr>
              <a:buSzPct val="87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seful to component supp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4480" indent="-158760">
              <a:spcBef>
                <a:spcPts val="601"/>
              </a:spcBef>
              <a:buClr>
                <a:srgbClr val="000000"/>
              </a:buClr>
              <a:buSzPct val="87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inforces the notion that implementation quality does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ome research underway on QoS for components, e.g., in the real-time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2204-BC17-4317-B205-67821D04535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6T00:54:37Z</dcterms:created>
  <dc:creator>Robert Vavra</dc:creator>
  <dc:description/>
  <dc:language>en-US</dc:language>
  <cp:lastModifiedBy>James Hamilton</cp:lastModifiedBy>
  <cp:lastPrinted>1998-05-06T19:07:54Z</cp:lastPrinted>
  <dcterms:modified xsi:type="dcterms:W3CDTF">2001-10-19T15:18:43Z</dcterms:modified>
  <cp:revision>2</cp:revision>
  <dc:subject/>
  <dc:title>Components and Web Services Inhibit Quality of Service</dc:title>
</cp:coreProperties>
</file>