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AE09-9030-475D-9CD0-690D0A915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1039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72760" y="1553760"/>
            <a:ext cx="8077320" cy="209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72760" y="3846960"/>
            <a:ext cx="8077320" cy="209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A5D4-999B-45CA-AD16-25416E7D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1039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2760" y="1553760"/>
            <a:ext cx="3941640" cy="209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12040" y="1553760"/>
            <a:ext cx="3941640" cy="209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72760" y="3846960"/>
            <a:ext cx="3941640" cy="209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712040" y="3846960"/>
            <a:ext cx="3941640" cy="209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12E0-40D6-4B37-97A0-BF07C2FFB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1039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72760" y="1553760"/>
            <a:ext cx="2600640" cy="209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303720" y="1553760"/>
            <a:ext cx="2600640" cy="209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35040" y="1553760"/>
            <a:ext cx="2600640" cy="209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72760" y="3846960"/>
            <a:ext cx="2600640" cy="209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303720" y="3846960"/>
            <a:ext cx="2600640" cy="209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35040" y="3846960"/>
            <a:ext cx="2600640" cy="209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1B0C-8412-4F4A-B71B-2171D4CC2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1039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572760" y="1553760"/>
            <a:ext cx="807732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6925-B00A-44E6-B5BA-55E3C7AEA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1039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2760" y="1553760"/>
            <a:ext cx="8077320" cy="438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3BA9-07F9-4B1A-A8FF-BAA157ED9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1039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72760" y="1553760"/>
            <a:ext cx="3941640" cy="438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2040" y="1553760"/>
            <a:ext cx="3941640" cy="438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DF09-8FDA-41DD-A927-66B9FDCD0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1039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41BD-0385-41F9-8A15-86E6C90CC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533160" y="228600"/>
            <a:ext cx="8103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8EC4-9B43-4571-AABE-420A35925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1039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72760" y="1553760"/>
            <a:ext cx="3941640" cy="209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2040" y="1553760"/>
            <a:ext cx="3941640" cy="438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2760" y="3846960"/>
            <a:ext cx="3941640" cy="209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D9BD-E955-471A-B465-D23E9672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1039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72760" y="1553760"/>
            <a:ext cx="3941640" cy="438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12040" y="1553760"/>
            <a:ext cx="3941640" cy="209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712040" y="3846960"/>
            <a:ext cx="3941640" cy="209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B436-15E3-4C15-9D1E-361137A7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1039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72760" y="1553760"/>
            <a:ext cx="3941640" cy="209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12040" y="1553760"/>
            <a:ext cx="3941640" cy="209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72760" y="3846960"/>
            <a:ext cx="8077320" cy="209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63FA-6E96-43AF-AEB7-DBE833C0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2560" cy="624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-1440" y="6248520"/>
            <a:ext cx="9144000" cy="10296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6029280" y="6532560"/>
            <a:ext cx="1905120" cy="40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1825560" y="6532560"/>
            <a:ext cx="4138560" cy="40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024400" y="6532560"/>
            <a:ext cx="1119240" cy="40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6DAA5-6241-4B66-AC50-F2356812873F}" type="slidenum">
              <a:rPr b="0" lang="en-US" sz="10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533160" y="228600"/>
            <a:ext cx="81039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572760" y="1553760"/>
            <a:ext cx="8077320" cy="438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30040">
              <a:spcBef>
                <a:spcPts val="700"/>
              </a:spcBef>
              <a:buClr>
                <a:srgbClr val="000000"/>
              </a:buClr>
              <a:buSzPct val="87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14480" indent="-158760">
              <a:spcBef>
                <a:spcPts val="700"/>
              </a:spcBef>
              <a:buClr>
                <a:srgbClr val="000000"/>
              </a:buClr>
              <a:buSzPct val="8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11120" indent="-18252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1640" indent="-176040">
              <a:spcBef>
                <a:spcPts val="700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1640" indent="-176040">
              <a:spcBef>
                <a:spcPts val="700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1640" indent="-176040">
              <a:spcBef>
                <a:spcPts val="700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42920" y="6491160"/>
            <a:ext cx="130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Unisys Logo"/>
              </a:rPr>
              <a:t>Unis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7427880" y="6456240"/>
            <a:ext cx="1633680" cy="84240"/>
            <a:chOff x="7427880" y="6456240"/>
            <a:chExt cx="1633680" cy="84240"/>
          </a:xfrm>
        </p:grpSpPr>
        <p:sp>
          <p:nvSpPr>
            <p:cNvPr id="10" name=""/>
            <p:cNvSpPr/>
            <p:nvPr/>
          </p:nvSpPr>
          <p:spPr>
            <a:xfrm>
              <a:off x="8043840" y="6456240"/>
              <a:ext cx="90360" cy="84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53440" y="6456240"/>
              <a:ext cx="90360" cy="84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661240" y="6456240"/>
              <a:ext cx="90720" cy="84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970840" y="6456240"/>
              <a:ext cx="90720" cy="84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736040" y="6456240"/>
              <a:ext cx="90360" cy="84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7427880" y="6456240"/>
              <a:ext cx="90360" cy="84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71280" y="1287360"/>
            <a:ext cx="1633680" cy="84240"/>
            <a:chOff x="71280" y="1287360"/>
            <a:chExt cx="1633680" cy="84240"/>
          </a:xfrm>
        </p:grpSpPr>
        <p:sp>
          <p:nvSpPr>
            <p:cNvPr id="17" name=""/>
            <p:cNvSpPr/>
            <p:nvPr/>
          </p:nvSpPr>
          <p:spPr>
            <a:xfrm>
              <a:off x="687240" y="1287360"/>
              <a:ext cx="90720" cy="84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996840" y="1287360"/>
              <a:ext cx="90720" cy="84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305000" y="1287360"/>
              <a:ext cx="90360" cy="84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614600" y="1287360"/>
              <a:ext cx="90360" cy="84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79440" y="1287360"/>
              <a:ext cx="90360" cy="84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71280" y="1287360"/>
              <a:ext cx="90720" cy="84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2560" cy="685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1680" y="1905120"/>
            <a:ext cx="854100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Components and Web Ser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93c46"/>
                </a:solidFill>
                <a:latin typeface="Arial"/>
                <a:ea typeface="Times New Roman"/>
              </a:rPr>
              <a:t>Considered Harmfu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Inhibit Quality of Serv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00200" y="2971800"/>
            <a:ext cx="62485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b Vavr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s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D0DB-9B74-4E20-9243-9D565B67729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What do we do in handcrafted TP systems that isn’t available commercially?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72760" y="1553760"/>
            <a:ext cx="8077320" cy="438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ptimization of a deployed TP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30040">
              <a:spcBef>
                <a:spcPts val="601"/>
              </a:spcBef>
              <a:buClr>
                <a:srgbClr val="000000"/>
              </a:buClr>
              <a:buSzPct val="87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timize the non-functional attrib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4480" indent="-158760">
              <a:spcBef>
                <a:spcPts val="601"/>
              </a:spcBef>
              <a:buClr>
                <a:srgbClr val="000000"/>
              </a:buClr>
              <a:buSzPct val="87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erformance, capacity, availability, durability, recoverability, maintainability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ntinuing optimization by dedicated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30040">
              <a:spcBef>
                <a:spcPts val="601"/>
              </a:spcBef>
              <a:buClr>
                <a:srgbClr val="000000"/>
              </a:buClr>
              <a:buSzPct val="87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parate from development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581A-E957-49BA-B24D-1035531387A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1039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Reusable Components and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Web Service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72760" y="1553760"/>
            <a:ext cx="8077320" cy="438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ave visible well-defined functional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30040">
              <a:spcBef>
                <a:spcPts val="601"/>
              </a:spcBef>
              <a:buClr>
                <a:srgbClr val="000000"/>
              </a:buClr>
              <a:buSzPct val="87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erface definition, transaction semantics, and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ave hidden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30040">
              <a:spcBef>
                <a:spcPts val="601"/>
              </a:spcBef>
              <a:buClr>
                <a:srgbClr val="000000"/>
              </a:buClr>
              <a:buSzPct val="87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idden non-functional attrib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4551-7D4A-4ABC-89D1-D6AD924A99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1039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on-functional attributes are important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362320" y="1371600"/>
            <a:ext cx="2806560" cy="22114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57200" y="3886200"/>
            <a:ext cx="3619440" cy="2209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648320" y="3886200"/>
            <a:ext cx="3062160" cy="2212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7C94-6E2B-4787-A75B-8185A17952E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1039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Expand Definitions of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Component and Web Service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72760" y="1553760"/>
            <a:ext cx="8077320" cy="438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SDL should include non-functional attributes of the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30040">
              <a:spcBef>
                <a:spcPts val="601"/>
              </a:spcBef>
              <a:buClr>
                <a:srgbClr val="000000"/>
              </a:buClr>
              <a:buSzPct val="87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seful to application architects, designers, and optimiz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30040">
              <a:spcBef>
                <a:spcPts val="601"/>
              </a:spcBef>
              <a:buClr>
                <a:srgbClr val="000000"/>
              </a:buClr>
              <a:buSzPct val="87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seful to component sup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4480" indent="-158760">
              <a:spcBef>
                <a:spcPts val="601"/>
              </a:spcBef>
              <a:buClr>
                <a:srgbClr val="000000"/>
              </a:buClr>
              <a:buSzPct val="87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inforces the notion that implementation quality doe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ome research underway on QoS for components, e.g., in the real-time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7327-0A0B-4644-B028-AA2D513F4F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6T00:54:37Z</dcterms:created>
  <dc:creator>Robert Vavra</dc:creator>
  <dc:description/>
  <dc:language>en-US</dc:language>
  <cp:lastModifiedBy>James Hamilton</cp:lastModifiedBy>
  <cp:lastPrinted>1998-05-06T19:07:54Z</cp:lastPrinted>
  <dcterms:modified xsi:type="dcterms:W3CDTF">2001-10-19T15:18:43Z</dcterms:modified>
  <cp:revision>2</cp:revision>
  <dc:subject/>
  <dc:title>Components and Web Services Inhibit Quality of Service</dc:title>
</cp:coreProperties>
</file>