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C40A-EBE3-4D0A-9249-878B4D4B2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3834-0EA5-4A49-8130-C58B849D6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3EDB-1BE2-4922-AF80-D3B7EF5B67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4EA2-EAFC-4F93-A051-49F56B5940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537C-95B8-4F55-A084-F1B37765D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975D-60C4-405E-AC53-D349D141AD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B7F2-9582-4145-9C14-871EDD8D8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2A2E-A02A-478E-BEC2-AFA0D2E76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17C1-DC7B-431F-83FA-8B1C44AA6A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810D-5A66-4AEF-9254-081B35121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B44D-FC24-439D-A2B5-CF8BF3C79F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DA5D-B08B-4A2C-8922-201889BE4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3055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9763-E675-4718-AE02-7E520E9D64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287520" y="2361960"/>
            <a:ext cx="5475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35040" indent="5076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11448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ranta.das@crossworlds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1120" y="1752120"/>
            <a:ext cx="632592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pplication Connector Parallelism </a:t>
            </a:r>
            <a:br>
              <a:rPr sz="2800"/>
            </a:b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301920" y="3090960"/>
            <a:ext cx="5486400" cy="1666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anta 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re Technology, CrossWorlds Software,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577 Airport Blv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urlingame, CA 94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646b"/>
                </a:solidFill>
                <a:uFillTx/>
                <a:latin typeface="Times New Roman"/>
                <a:ea typeface="Times New Roman"/>
                <a:hlinkClick r:id="rId1"/>
              </a:rPr>
              <a:t>pranta.das@crossworlds.c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5680" y="1395360"/>
            <a:ext cx="5398920" cy="785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igh Performance Transaction Systems (HP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ctober 14-17,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28520" y="1900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851040"/>
            <a:ext cx="7391520" cy="60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EAI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current conn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Scalabilit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Overview of EAI Architectur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1560" y="2717640"/>
            <a:ext cx="2666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989440" y="1527120"/>
          <a:ext cx="41097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1527120"/>
                    <a:ext cx="41097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48040" y="3913200"/>
          <a:ext cx="422604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3913200"/>
                    <a:ext cx="42260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Limitations of current connector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85720" y="248868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ation bottleneck in single-threaded connectors (mostly C++) affects overall throughput and averag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predictable latency of synchronous web-based call-triggered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Synchronization bottleneck in single-threaded connector agent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62360" y="1455840"/>
          <a:ext cx="4676760" cy="51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455840"/>
                    <a:ext cx="467676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arallel Connector Architecture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0480" y="1155600"/>
          <a:ext cx="610092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1155600"/>
                    <a:ext cx="6100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Resource Class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9760" y="2840040"/>
            <a:ext cx="368640" cy="274320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6840" y="2840040"/>
            <a:ext cx="241560" cy="191772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" y="206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3080" y="1814400"/>
            <a:ext cx="2325600" cy="1228680"/>
            <a:chOff x="3583080" y="1814400"/>
            <a:chExt cx="2325600" cy="1228680"/>
          </a:xfrm>
        </p:grpSpPr>
        <p:grpSp>
          <p:nvGrpSpPr>
            <p:cNvPr id="103" name=""/>
            <p:cNvGrpSpPr/>
            <p:nvPr/>
          </p:nvGrpSpPr>
          <p:grpSpPr>
            <a:xfrm>
              <a:off x="3587760" y="1819080"/>
              <a:ext cx="2316240" cy="1219320"/>
              <a:chOff x="3587760" y="1819080"/>
              <a:chExt cx="2316240" cy="12193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3587760" y="1819080"/>
                <a:ext cx="2316240" cy="609840"/>
                <a:chOff x="3587760" y="1819080"/>
                <a:chExt cx="2316240" cy="609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56160" y="1819080"/>
                  <a:ext cx="21794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87760" y="1819080"/>
                  <a:ext cx="2316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587760" y="2428920"/>
                <a:ext cx="2316240" cy="609480"/>
                <a:chOff x="3587760" y="2428920"/>
                <a:chExt cx="2316240" cy="6094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656160" y="2428920"/>
                  <a:ext cx="21794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arallelProcessDegre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87760" y="2428920"/>
                  <a:ext cx="23162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83080" y="1814400"/>
              <a:ext cx="2325600" cy="122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40" y="203976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" y="2548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79840" y="3486240"/>
            <a:ext cx="3682440" cy="2363760"/>
            <a:chOff x="3579840" y="3486240"/>
            <a:chExt cx="3682440" cy="2363760"/>
          </a:xfrm>
        </p:grpSpPr>
        <p:grpSp>
          <p:nvGrpSpPr>
            <p:cNvPr id="114" name=""/>
            <p:cNvGrpSpPr/>
            <p:nvPr/>
          </p:nvGrpSpPr>
          <p:grpSpPr>
            <a:xfrm>
              <a:off x="3585600" y="3489840"/>
              <a:ext cx="3669840" cy="2355480"/>
              <a:chOff x="3585600" y="3489840"/>
              <a:chExt cx="3669840" cy="2355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585600" y="3489840"/>
                <a:ext cx="3669840" cy="505800"/>
                <a:chOff x="3585600" y="3489840"/>
                <a:chExt cx="3669840" cy="505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72720" y="3489840"/>
                  <a:ext cx="3495240" cy="50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Pool Alloc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585600" y="3489840"/>
                  <a:ext cx="3669840" cy="50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585600" y="3995640"/>
                <a:ext cx="1283040" cy="582480"/>
                <a:chOff x="3585600" y="3995640"/>
                <a:chExt cx="1283040" cy="5824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672720" y="39956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Clas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85600" y="39956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869000" y="3995640"/>
                <a:ext cx="1459440" cy="582480"/>
                <a:chOff x="4869000" y="3995640"/>
                <a:chExt cx="1459440" cy="582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56120" y="39956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in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69000" y="39956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328800" y="3995640"/>
                <a:ext cx="926640" cy="582480"/>
                <a:chOff x="6328800" y="3995640"/>
                <a:chExt cx="926640" cy="582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15920" y="39956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ax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28800" y="39956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5600" y="4578480"/>
                <a:ext cx="1283040" cy="684000"/>
                <a:chOff x="3585600" y="4578480"/>
                <a:chExt cx="1283040" cy="684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672720" y="4578480"/>
                  <a:ext cx="11088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vent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585600" y="4578480"/>
                  <a:ext cx="12830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9000" y="4578480"/>
                <a:ext cx="1459440" cy="684000"/>
                <a:chOff x="4869000" y="4578480"/>
                <a:chExt cx="1459440" cy="684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56120" y="4578480"/>
                  <a:ext cx="12852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69000" y="4578480"/>
                  <a:ext cx="14594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328800" y="4578480"/>
                <a:ext cx="926640" cy="684000"/>
                <a:chOff x="6328800" y="4578480"/>
                <a:chExt cx="926640" cy="684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415920" y="4578480"/>
                  <a:ext cx="75204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28800" y="4578480"/>
                  <a:ext cx="9266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585600" y="5262840"/>
                <a:ext cx="1283040" cy="582480"/>
                <a:chOff x="3585600" y="5262840"/>
                <a:chExt cx="1283040" cy="582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672720" y="52628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ll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85600" y="52628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869000" y="5262840"/>
                <a:ext cx="1459440" cy="582480"/>
                <a:chOff x="4869000" y="5262840"/>
                <a:chExt cx="1459440" cy="582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56120" y="52628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69000" y="52628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328800" y="5262840"/>
                <a:ext cx="926640" cy="582480"/>
                <a:chOff x="6328800" y="5262840"/>
                <a:chExt cx="926640" cy="5824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415920" y="52628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8800" y="52628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3579840" y="3486240"/>
              <a:ext cx="3682440" cy="2363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40" y="565956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026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erformance Scalability Study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168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19320" y="1496880"/>
          <a:ext cx="620064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496880"/>
                    <a:ext cx="620064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20:27Z</dcterms:created>
  <dc:creator>Pranta Das</dc:creator>
  <dc:description/>
  <dc:language>en-US</dc:language>
  <cp:lastModifiedBy>James Hamilton</cp:lastModifiedBy>
  <cp:lastPrinted>2000-09-07T21:27:16Z</cp:lastPrinted>
  <dcterms:modified xsi:type="dcterms:W3CDTF">2001-10-31T22:56:34Z</dcterms:modified>
  <cp:revision>915</cp:revision>
  <dc:subject/>
  <dc:title>CAP Brown Bag</dc:title>
</cp:coreProperties>
</file>