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2336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24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2336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24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3EFB-597E-4EEF-81D4-FD79340226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F746-1B57-44DF-9117-96CEDF8A1A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90CE-4319-43A8-9FA7-9F89B83569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3D93-A355-4834-A7D4-E26907EC80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E53C-AB07-43E1-BEDE-2E92BCAB04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6269-76D7-40D5-BC3C-C78E0CBFB0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9B78-D806-4F94-ABCF-3972F48074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483E-41F0-4381-9812-CB359D5E8A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2783-2D86-4DBA-9F0E-780907125C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A619-FEBB-4AEE-AEF3-0E9D015864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7442-642B-4580-A0BF-BD3B9379A9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2336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2480" y="152388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8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02336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2480" y="4150800"/>
            <a:ext cx="2379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DF9B-94A4-4222-814B-85D64D35F4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11440" y="415080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1440" y="1523880"/>
            <a:ext cx="36068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4150800"/>
            <a:ext cx="739152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880" y="1523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83055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BCF4-4691-4269-9DB2-BFAFCCD558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3287520" y="2361960"/>
            <a:ext cx="5475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35040" indent="50760" algn="ctr">
              <a:lnSpc>
                <a:spcPct val="90000"/>
              </a:lnSpc>
              <a:spcBef>
                <a:spcPts val="1199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114480" algn="ctr">
              <a:lnSpc>
                <a:spcPct val="90000"/>
              </a:lnSpc>
              <a:spcBef>
                <a:spcPts val="1199"/>
              </a:spcBef>
              <a:buClr>
                <a:srgbClr val="b60000"/>
              </a:buClr>
              <a:buSzPct val="12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ranta.das@crossworlds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21120" y="1752120"/>
            <a:ext cx="6325920" cy="22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Application Connector Parallelism </a:t>
            </a:r>
            <a:br>
              <a:rPr sz="2800"/>
            </a:b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301920" y="3090960"/>
            <a:ext cx="5486400" cy="1666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anta D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Core Technology, CrossWorlds Software,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577 Airport Blv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Burlingame, CA 94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24646b"/>
                </a:solidFill>
                <a:uFillTx/>
                <a:latin typeface="Times New Roman"/>
                <a:ea typeface="Times New Roman"/>
                <a:hlinkClick r:id="rId1"/>
              </a:rPr>
              <a:t>pranta.das@crossworlds.co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15680" y="1395360"/>
            <a:ext cx="5398920" cy="7855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High Performance Transaction Systems (HP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ctober 14-17,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28520" y="190080"/>
            <a:ext cx="79246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851040"/>
            <a:ext cx="7391520" cy="60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EAI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 of current conn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Scalabilit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Overview of EAI Architecture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1560" y="2717640"/>
            <a:ext cx="2666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989440" y="1527120"/>
          <a:ext cx="4109760" cy="21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1527120"/>
                    <a:ext cx="410976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948040" y="3913200"/>
          <a:ext cx="4226040" cy="235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8040" y="3913200"/>
                    <a:ext cx="422604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Limitations of current connector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85720" y="248868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hronization bottleneck in single-threaded connectors (mostly C++) affects overall throughput and average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400"/>
              </a:spcBef>
              <a:buClr>
                <a:srgbClr val="b6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predictable latency of synchronous web-based call-triggered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Synchronization bottleneck in single-threaded connector agent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862360" y="1455840"/>
          <a:ext cx="4676760" cy="51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1455840"/>
                    <a:ext cx="4676760" cy="51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Parallel Connector Architecture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60480" y="1155600"/>
          <a:ext cx="6100920" cy="57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0480" y="1155600"/>
                    <a:ext cx="61009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9250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Resource Classes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9760" y="2840040"/>
            <a:ext cx="368640" cy="2743200"/>
          </a:xfrm>
          <a:custGeom>
            <a:avLst/>
            <a:gdLst/>
            <a:ahLst/>
            <a:rect l="l" t="t" r="r" b="b"/>
            <a:pathLst>
              <a:path w="750" h="1440">
                <a:moveTo>
                  <a:pt x="750" y="0"/>
                </a:moveTo>
                <a:cubicBezTo>
                  <a:pt x="405" y="420"/>
                  <a:pt x="60" y="840"/>
                  <a:pt x="30" y="1080"/>
                </a:cubicBezTo>
                <a:cubicBezTo>
                  <a:pt x="0" y="1320"/>
                  <a:pt x="285" y="1380"/>
                  <a:pt x="570" y="14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36840" y="2840040"/>
            <a:ext cx="241560" cy="1917720"/>
          </a:xfrm>
          <a:custGeom>
            <a:avLst/>
            <a:gdLst/>
            <a:ahLst/>
            <a:rect l="l" t="t" r="r" b="b"/>
            <a:pathLst>
              <a:path w="750" h="1440">
                <a:moveTo>
                  <a:pt x="750" y="0"/>
                </a:moveTo>
                <a:cubicBezTo>
                  <a:pt x="405" y="420"/>
                  <a:pt x="60" y="840"/>
                  <a:pt x="30" y="1080"/>
                </a:cubicBezTo>
                <a:cubicBezTo>
                  <a:pt x="0" y="1320"/>
                  <a:pt x="285" y="1380"/>
                  <a:pt x="570" y="144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" y="2062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3080" y="1814400"/>
            <a:ext cx="2325600" cy="1228680"/>
            <a:chOff x="3583080" y="1814400"/>
            <a:chExt cx="2325600" cy="1228680"/>
          </a:xfrm>
        </p:grpSpPr>
        <p:grpSp>
          <p:nvGrpSpPr>
            <p:cNvPr id="103" name=""/>
            <p:cNvGrpSpPr/>
            <p:nvPr/>
          </p:nvGrpSpPr>
          <p:grpSpPr>
            <a:xfrm>
              <a:off x="3587760" y="1819080"/>
              <a:ext cx="2316240" cy="1219320"/>
              <a:chOff x="3587760" y="1819080"/>
              <a:chExt cx="2316240" cy="121932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3587760" y="1819080"/>
                <a:ext cx="2316240" cy="609840"/>
                <a:chOff x="3587760" y="1819080"/>
                <a:chExt cx="2316240" cy="6098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656160" y="1819080"/>
                  <a:ext cx="2179440" cy="60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source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587760" y="1819080"/>
                  <a:ext cx="2316240" cy="60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587760" y="2428920"/>
                <a:ext cx="2316240" cy="609480"/>
                <a:chOff x="3587760" y="2428920"/>
                <a:chExt cx="2316240" cy="6094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656160" y="2428920"/>
                  <a:ext cx="217944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arallelProcessDegree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87760" y="2428920"/>
                  <a:ext cx="2316240" cy="60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3583080" y="1814400"/>
              <a:ext cx="2325600" cy="1228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40" y="2039760"/>
            <a:ext cx="914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520" y="2548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79840" y="3486240"/>
            <a:ext cx="3682440" cy="2363760"/>
            <a:chOff x="3579840" y="3486240"/>
            <a:chExt cx="3682440" cy="2363760"/>
          </a:xfrm>
        </p:grpSpPr>
        <p:grpSp>
          <p:nvGrpSpPr>
            <p:cNvPr id="114" name=""/>
            <p:cNvGrpSpPr/>
            <p:nvPr/>
          </p:nvGrpSpPr>
          <p:grpSpPr>
            <a:xfrm>
              <a:off x="3585600" y="3489840"/>
              <a:ext cx="3669840" cy="2355480"/>
              <a:chOff x="3585600" y="3489840"/>
              <a:chExt cx="3669840" cy="23554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585600" y="3489840"/>
                <a:ext cx="3669840" cy="505800"/>
                <a:chOff x="3585600" y="3489840"/>
                <a:chExt cx="3669840" cy="505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672720" y="3489840"/>
                  <a:ext cx="3495240" cy="50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source Pool Allocation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585600" y="3489840"/>
                  <a:ext cx="3669840" cy="50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3585600" y="3995640"/>
                <a:ext cx="1283040" cy="582480"/>
                <a:chOff x="3585600" y="3995640"/>
                <a:chExt cx="1283040" cy="5824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672720" y="3995640"/>
                  <a:ext cx="11088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Resource Clas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585600" y="3995640"/>
                  <a:ext cx="1283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4869000" y="3995640"/>
                <a:ext cx="1459440" cy="582480"/>
                <a:chOff x="4869000" y="3995640"/>
                <a:chExt cx="1459440" cy="5824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956120" y="3995640"/>
                  <a:ext cx="12852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Minimum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869000" y="3995640"/>
                  <a:ext cx="14594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328800" y="3995640"/>
                <a:ext cx="926640" cy="582480"/>
                <a:chOff x="6328800" y="3995640"/>
                <a:chExt cx="926640" cy="5824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15920" y="3995640"/>
                  <a:ext cx="752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Maximum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28800" y="3995640"/>
                  <a:ext cx="9266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585600" y="4578480"/>
                <a:ext cx="1283040" cy="684000"/>
                <a:chOff x="3585600" y="4578480"/>
                <a:chExt cx="1283040" cy="6840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672720" y="4578480"/>
                  <a:ext cx="110880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Event Triggered Request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585600" y="4578480"/>
                  <a:ext cx="128304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4869000" y="4578480"/>
                <a:ext cx="1459440" cy="684000"/>
                <a:chOff x="4869000" y="4578480"/>
                <a:chExt cx="1459440" cy="6840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956120" y="4578480"/>
                  <a:ext cx="128520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5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869000" y="4578480"/>
                  <a:ext cx="145944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328800" y="4578480"/>
                <a:ext cx="926640" cy="684000"/>
                <a:chOff x="6328800" y="4578480"/>
                <a:chExt cx="926640" cy="6840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415920" y="4578480"/>
                  <a:ext cx="752040" cy="68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0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28800" y="4578480"/>
                  <a:ext cx="926640" cy="68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585600" y="5262840"/>
                <a:ext cx="1283040" cy="582480"/>
                <a:chOff x="3585600" y="5262840"/>
                <a:chExt cx="1283040" cy="582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672720" y="5262840"/>
                  <a:ext cx="11088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all Triggered Requests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585600" y="5262840"/>
                  <a:ext cx="12830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869000" y="5262840"/>
                <a:ext cx="1459440" cy="582480"/>
                <a:chOff x="4869000" y="5262840"/>
                <a:chExt cx="1459440" cy="5824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956120" y="5262840"/>
                  <a:ext cx="128520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5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69000" y="5262840"/>
                  <a:ext cx="14594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328800" y="5262840"/>
                <a:ext cx="926640" cy="582480"/>
                <a:chOff x="6328800" y="5262840"/>
                <a:chExt cx="926640" cy="5824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415920" y="5262840"/>
                  <a:ext cx="752040" cy="58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70%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8800" y="5262840"/>
                  <a:ext cx="926640" cy="582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3579840" y="3486240"/>
              <a:ext cx="3682440" cy="2363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240" y="5659560"/>
            <a:ext cx="914400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202680"/>
            <a:ext cx="79246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Performance Scalability Study</a:t>
            </a:r>
            <a:endParaRPr b="1" lang="en-US" sz="3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168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119320" y="1496880"/>
          <a:ext cx="620064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1496880"/>
                    <a:ext cx="620064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5T18:20:27Z</dcterms:created>
  <dc:creator>Pranta Das</dc:creator>
  <dc:description/>
  <dc:language>en-US</dc:language>
  <cp:lastModifiedBy>James Hamilton</cp:lastModifiedBy>
  <cp:lastPrinted>2000-09-07T21:27:16Z</cp:lastPrinted>
  <dcterms:modified xsi:type="dcterms:W3CDTF">2001-10-31T22:56:34Z</dcterms:modified>
  <cp:revision>915</cp:revision>
  <dc:subject/>
  <dc:title>CAP Brown Bag</dc:title>
</cp:coreProperties>
</file>